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4A6-F846-402D-A86D-3F288E53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D82-5BA5-444D-88B9-9E565892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EDA-0D47-4B2C-A8E8-84B7E159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449-DE7B-4905-91D5-DF7E791B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661F-13E8-48A0-AD64-245411B5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AA03-C93C-4719-8509-EFE7F6FC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69D4-2563-4AF0-8CCF-C5D32E4C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6CF8-8EFE-41C4-A371-ADC677F5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AA9C-68D4-4AFD-B42D-2158B4FB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3965-0357-49A4-A102-FEC2D1F5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5F0A-847E-4993-AC17-F48DFBE9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0F6-AC61-40CA-BC2A-D51F04CF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3B42-27D7-41FE-8CCD-975C5F88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3D68-20CD-497D-9172-AE10752B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4224-333A-40AD-97F9-6F575413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ADCD-D76C-4D4C-921A-C7C1B903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54C4-8FD2-4742-91FA-01B18C95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A81-7211-49F5-8D6E-55129319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B4A-E7F6-44B4-A607-2ED9B526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0BB-9107-43F8-883A-FDAE7545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AAD-F332-49B5-8BB3-122DC938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B71-6C67-4163-884A-2E4A9B1D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C29-0FC9-4DB3-96A6-042128E7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8DC-39C4-47C2-BF55-D18325A0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532C-A3E4-4466-9AAF-17C78DA14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A979-8ECE-468D-81E4-6BFA1CB28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Monday, November 2nd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 the exact values of the remaining trig functions when   cos </a:t>
            </a:r>
            <a:r>
              <a:rPr b="0" lang="el-GR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Θ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= -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5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and sin </a:t>
            </a:r>
            <a:r>
              <a:rPr b="0" lang="el-GR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Θ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&gt; 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Ink 4"/>
          <p:cNvSpPr/>
          <p:nvPr/>
        </p:nvSpPr>
        <p:spPr>
          <a:xfrm>
            <a:off x="1035000" y="3759120"/>
            <a:ext cx="706320" cy="1162080"/>
          </a:xfrm>
          <a:custGeom>
            <a:avLst/>
            <a:gdLst/>
            <a:ahLst/>
            <a:rect l="l" t="t" r="r" b="b"/>
            <a:pathLst>
              <a:path w="1961" h="3225">
                <a:moveTo>
                  <a:pt x="3076" y="12129"/>
                </a:moveTo>
                <a:cubicBezTo>
                  <a:pt x="3028" y="12183"/>
                  <a:pt x="2989" y="12242"/>
                  <a:pt x="2952" y="12303"/>
                </a:cubicBezTo>
                <a:cubicBezTo>
                  <a:pt x="2925" y="12347"/>
                  <a:pt x="2907" y="12451"/>
                  <a:pt x="2927" y="12502"/>
                </a:cubicBezTo>
                <a:cubicBezTo>
                  <a:pt x="2939" y="12533"/>
                  <a:pt x="3002" y="12576"/>
                  <a:pt x="3026" y="12601"/>
                </a:cubicBezTo>
                <a:cubicBezTo>
                  <a:pt x="3080" y="12547"/>
                  <a:pt x="3098" y="12527"/>
                  <a:pt x="3125" y="12452"/>
                </a:cubicBezTo>
                <a:cubicBezTo>
                  <a:pt x="3154" y="12370"/>
                  <a:pt x="3179" y="12282"/>
                  <a:pt x="3150" y="12204"/>
                </a:cubicBezTo>
                <a:cubicBezTo>
                  <a:pt x="3132" y="12157"/>
                  <a:pt x="3101" y="12110"/>
                  <a:pt x="3051" y="12105"/>
                </a:cubicBezTo>
                <a:cubicBezTo>
                  <a:pt x="3043" y="12105"/>
                  <a:pt x="3034" y="12105"/>
                  <a:pt x="3026" y="12105"/>
                </a:cubicBezTo>
              </a:path>
              <a:path w="1961" h="3225">
                <a:moveTo>
                  <a:pt x="2877" y="12278"/>
                </a:moveTo>
                <a:cubicBezTo>
                  <a:pt x="2968" y="12295"/>
                  <a:pt x="3027" y="12278"/>
                  <a:pt x="3125" y="12278"/>
                </a:cubicBezTo>
                <a:cubicBezTo>
                  <a:pt x="3224" y="12278"/>
                  <a:pt x="3324" y="12278"/>
                  <a:pt x="3423" y="12278"/>
                </a:cubicBezTo>
              </a:path>
              <a:path w="1961" h="3225">
                <a:moveTo>
                  <a:pt x="4266" y="13022"/>
                </a:moveTo>
                <a:cubicBezTo>
                  <a:pt x="4303" y="12986"/>
                  <a:pt x="4331" y="12934"/>
                  <a:pt x="4390" y="12948"/>
                </a:cubicBezTo>
                <a:cubicBezTo>
                  <a:pt x="4431" y="12958"/>
                  <a:pt x="4491" y="13011"/>
                  <a:pt x="4514" y="13047"/>
                </a:cubicBezTo>
                <a:cubicBezTo>
                  <a:pt x="4556" y="13114"/>
                  <a:pt x="4560" y="13218"/>
                  <a:pt x="4564" y="13295"/>
                </a:cubicBezTo>
                <a:cubicBezTo>
                  <a:pt x="4567" y="13352"/>
                  <a:pt x="4537" y="13415"/>
                  <a:pt x="4514" y="13469"/>
                </a:cubicBezTo>
                <a:cubicBezTo>
                  <a:pt x="4495" y="13512"/>
                  <a:pt x="4436" y="13577"/>
                  <a:pt x="4390" y="13568"/>
                </a:cubicBezTo>
                <a:cubicBezTo>
                  <a:pt x="4311" y="13552"/>
                  <a:pt x="4316" y="13483"/>
                  <a:pt x="4316" y="13419"/>
                </a:cubicBezTo>
                <a:cubicBezTo>
                  <a:pt x="4316" y="13360"/>
                  <a:pt x="4327" y="13359"/>
                  <a:pt x="4366" y="13320"/>
                </a:cubicBezTo>
                <a:cubicBezTo>
                  <a:pt x="4411" y="13367"/>
                  <a:pt x="4443" y="13404"/>
                  <a:pt x="4490" y="13444"/>
                </a:cubicBezTo>
                <a:cubicBezTo>
                  <a:pt x="4530" y="13478"/>
                  <a:pt x="4550" y="13530"/>
                  <a:pt x="4589" y="13568"/>
                </a:cubicBezTo>
                <a:cubicBezTo>
                  <a:pt x="4622" y="13601"/>
                  <a:pt x="4691" y="13656"/>
                  <a:pt x="4738" y="13667"/>
                </a:cubicBezTo>
                <a:cubicBezTo>
                  <a:pt x="4787" y="13667"/>
                  <a:pt x="4804" y="13667"/>
                  <a:pt x="4837" y="13667"/>
                </a:cubicBezTo>
              </a:path>
              <a:path w="1961" h="3225">
                <a:moveTo>
                  <a:pt x="3299" y="10517"/>
                </a:moveTo>
                <a:cubicBezTo>
                  <a:pt x="3350" y="10486"/>
                  <a:pt x="3436" y="10471"/>
                  <a:pt x="3497" y="10468"/>
                </a:cubicBezTo>
                <a:cubicBezTo>
                  <a:pt x="3545" y="10465"/>
                  <a:pt x="3576" y="10452"/>
                  <a:pt x="3621" y="10443"/>
                </a:cubicBezTo>
              </a:path>
              <a:path w="1961" h="3225">
                <a:moveTo>
                  <a:pt x="3373" y="10468"/>
                </a:moveTo>
                <a:cubicBezTo>
                  <a:pt x="3356" y="10533"/>
                  <a:pt x="3330" y="10621"/>
                  <a:pt x="3349" y="10691"/>
                </a:cubicBezTo>
                <a:cubicBezTo>
                  <a:pt x="3357" y="10707"/>
                  <a:pt x="3365" y="10724"/>
                  <a:pt x="3373" y="10740"/>
                </a:cubicBezTo>
                <a:cubicBezTo>
                  <a:pt x="3429" y="10685"/>
                  <a:pt x="3432" y="10690"/>
                  <a:pt x="3497" y="10716"/>
                </a:cubicBezTo>
                <a:cubicBezTo>
                  <a:pt x="3603" y="10758"/>
                  <a:pt x="3616" y="10801"/>
                  <a:pt x="3621" y="10914"/>
                </a:cubicBezTo>
                <a:cubicBezTo>
                  <a:pt x="3623" y="10955"/>
                  <a:pt x="3601" y="11051"/>
                  <a:pt x="3547" y="11063"/>
                </a:cubicBezTo>
                <a:cubicBezTo>
                  <a:pt x="3443" y="11085"/>
                  <a:pt x="3433" y="11033"/>
                  <a:pt x="3349" y="11013"/>
                </a:cubicBezTo>
                <a:cubicBezTo>
                  <a:pt x="3278" y="10996"/>
                  <a:pt x="3316" y="11018"/>
                  <a:pt x="3274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Ink 5"/>
          <p:cNvSpPr/>
          <p:nvPr/>
        </p:nvSpPr>
        <p:spPr>
          <a:xfrm>
            <a:off x="2062080" y="3894120"/>
            <a:ext cx="527040" cy="633600"/>
          </a:xfrm>
          <a:custGeom>
            <a:avLst/>
            <a:gdLst/>
            <a:ahLst/>
            <a:rect l="l" t="t" r="r" b="b"/>
            <a:pathLst>
              <a:path w="1464" h="1762">
                <a:moveTo>
                  <a:pt x="6226" y="12154"/>
                </a:moveTo>
                <a:cubicBezTo>
                  <a:pt x="6130" y="12163"/>
                  <a:pt x="6074" y="12159"/>
                  <a:pt x="5978" y="12154"/>
                </a:cubicBezTo>
                <a:cubicBezTo>
                  <a:pt x="5896" y="12150"/>
                  <a:pt x="5812" y="12154"/>
                  <a:pt x="5730" y="12154"/>
                </a:cubicBezTo>
                <a:cubicBezTo>
                  <a:pt x="5739" y="12214"/>
                  <a:pt x="5758" y="12249"/>
                  <a:pt x="5779" y="12303"/>
                </a:cubicBezTo>
                <a:cubicBezTo>
                  <a:pt x="5805" y="12369"/>
                  <a:pt x="5842" y="12466"/>
                  <a:pt x="5854" y="12526"/>
                </a:cubicBezTo>
                <a:cubicBezTo>
                  <a:pt x="5854" y="12543"/>
                  <a:pt x="5854" y="12559"/>
                  <a:pt x="5854" y="12576"/>
                </a:cubicBezTo>
              </a:path>
              <a:path w="1464" h="1762">
                <a:moveTo>
                  <a:pt x="6325" y="10914"/>
                </a:moveTo>
                <a:cubicBezTo>
                  <a:pt x="6325" y="11019"/>
                  <a:pt x="6337" y="11123"/>
                  <a:pt x="6350" y="11212"/>
                </a:cubicBezTo>
                <a:cubicBezTo>
                  <a:pt x="6360" y="11284"/>
                  <a:pt x="6366" y="11366"/>
                  <a:pt x="6375" y="11435"/>
                </a:cubicBezTo>
                <a:cubicBezTo>
                  <a:pt x="6375" y="11501"/>
                  <a:pt x="6375" y="11518"/>
                  <a:pt x="6375" y="11559"/>
                </a:cubicBezTo>
                <a:cubicBezTo>
                  <a:pt x="6345" y="11478"/>
                  <a:pt x="6329" y="11399"/>
                  <a:pt x="6325" y="11311"/>
                </a:cubicBezTo>
                <a:cubicBezTo>
                  <a:pt x="6320" y="11191"/>
                  <a:pt x="6286" y="10993"/>
                  <a:pt x="6350" y="10889"/>
                </a:cubicBezTo>
                <a:cubicBezTo>
                  <a:pt x="6389" y="10826"/>
                  <a:pt x="6431" y="10818"/>
                  <a:pt x="6499" y="10815"/>
                </a:cubicBezTo>
                <a:cubicBezTo>
                  <a:pt x="6614" y="10809"/>
                  <a:pt x="6731" y="10815"/>
                  <a:pt x="6846" y="10815"/>
                </a:cubicBezTo>
              </a:path>
              <a:path w="1464" h="1762">
                <a:moveTo>
                  <a:pt x="6573" y="11063"/>
                </a:moveTo>
                <a:cubicBezTo>
                  <a:pt x="6573" y="11079"/>
                  <a:pt x="6573" y="11096"/>
                  <a:pt x="6573" y="11112"/>
                </a:cubicBezTo>
                <a:cubicBezTo>
                  <a:pt x="6609" y="11077"/>
                  <a:pt x="6646" y="11025"/>
                  <a:pt x="6697" y="11013"/>
                </a:cubicBezTo>
                <a:cubicBezTo>
                  <a:pt x="6772" y="10995"/>
                  <a:pt x="6809" y="11077"/>
                  <a:pt x="6821" y="11137"/>
                </a:cubicBezTo>
                <a:cubicBezTo>
                  <a:pt x="6828" y="11170"/>
                  <a:pt x="6806" y="11275"/>
                  <a:pt x="6796" y="11311"/>
                </a:cubicBezTo>
                <a:cubicBezTo>
                  <a:pt x="6778" y="11377"/>
                  <a:pt x="6731" y="11408"/>
                  <a:pt x="6697" y="11460"/>
                </a:cubicBezTo>
                <a:cubicBezTo>
                  <a:pt x="6653" y="11528"/>
                  <a:pt x="6676" y="11523"/>
                  <a:pt x="6598" y="11534"/>
                </a:cubicBezTo>
                <a:cubicBezTo>
                  <a:pt x="6573" y="11493"/>
                  <a:pt x="6546" y="11424"/>
                  <a:pt x="6598" y="11385"/>
                </a:cubicBezTo>
                <a:cubicBezTo>
                  <a:pt x="6660" y="11338"/>
                  <a:pt x="6680" y="11393"/>
                  <a:pt x="6722" y="11435"/>
                </a:cubicBezTo>
                <a:cubicBezTo>
                  <a:pt x="6782" y="11495"/>
                  <a:pt x="6815" y="11547"/>
                  <a:pt x="6896" y="11559"/>
                </a:cubicBezTo>
              </a:path>
              <a:path w="1464" h="1762">
                <a:moveTo>
                  <a:pt x="7069" y="11013"/>
                </a:moveTo>
                <a:cubicBezTo>
                  <a:pt x="7092" y="11098"/>
                  <a:pt x="7118" y="11177"/>
                  <a:pt x="7144" y="11261"/>
                </a:cubicBezTo>
                <a:cubicBezTo>
                  <a:pt x="7173" y="11355"/>
                  <a:pt x="7189" y="11462"/>
                  <a:pt x="7193" y="11559"/>
                </a:cubicBezTo>
                <a:cubicBezTo>
                  <a:pt x="7193" y="11576"/>
                  <a:pt x="7193" y="11592"/>
                  <a:pt x="7193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Ink 6"/>
          <p:cNvSpPr/>
          <p:nvPr/>
        </p:nvSpPr>
        <p:spPr>
          <a:xfrm>
            <a:off x="677880" y="4768920"/>
            <a:ext cx="1251000" cy="455400"/>
          </a:xfrm>
          <a:custGeom>
            <a:avLst/>
            <a:gdLst/>
            <a:ahLst/>
            <a:rect l="l" t="t" r="r" b="b"/>
            <a:pathLst>
              <a:path w="3474" h="1266">
                <a:moveTo>
                  <a:pt x="1885" y="13667"/>
                </a:moveTo>
                <a:cubicBezTo>
                  <a:pt x="1930" y="13623"/>
                  <a:pt x="2014" y="13496"/>
                  <a:pt x="2084" y="13519"/>
                </a:cubicBezTo>
                <a:cubicBezTo>
                  <a:pt x="2112" y="13528"/>
                  <a:pt x="2203" y="13650"/>
                  <a:pt x="2208" y="13667"/>
                </a:cubicBezTo>
                <a:cubicBezTo>
                  <a:pt x="2241" y="13776"/>
                  <a:pt x="2219" y="13988"/>
                  <a:pt x="2183" y="14089"/>
                </a:cubicBezTo>
                <a:cubicBezTo>
                  <a:pt x="2155" y="14169"/>
                  <a:pt x="2110" y="14244"/>
                  <a:pt x="2059" y="14312"/>
                </a:cubicBezTo>
                <a:cubicBezTo>
                  <a:pt x="2005" y="14384"/>
                  <a:pt x="1939" y="14313"/>
                  <a:pt x="1910" y="14263"/>
                </a:cubicBezTo>
                <a:cubicBezTo>
                  <a:pt x="1883" y="14218"/>
                  <a:pt x="1897" y="14112"/>
                  <a:pt x="1960" y="14089"/>
                </a:cubicBezTo>
                <a:cubicBezTo>
                  <a:pt x="2048" y="14057"/>
                  <a:pt x="2080" y="14156"/>
                  <a:pt x="2108" y="14213"/>
                </a:cubicBezTo>
                <a:cubicBezTo>
                  <a:pt x="2143" y="14284"/>
                  <a:pt x="2180" y="14335"/>
                  <a:pt x="2208" y="14412"/>
                </a:cubicBezTo>
              </a:path>
              <a:path w="3474" h="1266">
                <a:moveTo>
                  <a:pt x="2381" y="13395"/>
                </a:moveTo>
                <a:cubicBezTo>
                  <a:pt x="2390" y="13371"/>
                  <a:pt x="2411" y="13243"/>
                  <a:pt x="2456" y="13246"/>
                </a:cubicBezTo>
                <a:cubicBezTo>
                  <a:pt x="2543" y="13253"/>
                  <a:pt x="2560" y="13312"/>
                  <a:pt x="2580" y="13370"/>
                </a:cubicBezTo>
                <a:cubicBezTo>
                  <a:pt x="2605" y="13442"/>
                  <a:pt x="2625" y="13578"/>
                  <a:pt x="2580" y="13643"/>
                </a:cubicBezTo>
                <a:cubicBezTo>
                  <a:pt x="2556" y="13678"/>
                  <a:pt x="2491" y="13687"/>
                  <a:pt x="2456" y="13692"/>
                </a:cubicBezTo>
                <a:cubicBezTo>
                  <a:pt x="2467" y="13610"/>
                  <a:pt x="2499" y="13594"/>
                  <a:pt x="2580" y="13643"/>
                </a:cubicBezTo>
                <a:cubicBezTo>
                  <a:pt x="2617" y="13666"/>
                  <a:pt x="2634" y="13707"/>
                  <a:pt x="2654" y="13742"/>
                </a:cubicBezTo>
              </a:path>
              <a:path w="3474" h="1266">
                <a:moveTo>
                  <a:pt x="2877" y="13742"/>
                </a:moveTo>
                <a:cubicBezTo>
                  <a:pt x="2877" y="13864"/>
                  <a:pt x="2888" y="13972"/>
                  <a:pt x="2902" y="14089"/>
                </a:cubicBezTo>
                <a:cubicBezTo>
                  <a:pt x="2902" y="14147"/>
                  <a:pt x="2902" y="14155"/>
                  <a:pt x="2902" y="14188"/>
                </a:cubicBezTo>
              </a:path>
              <a:path w="3474" h="1266">
                <a:moveTo>
                  <a:pt x="2778" y="13915"/>
                </a:moveTo>
                <a:cubicBezTo>
                  <a:pt x="2839" y="13942"/>
                  <a:pt x="2920" y="13978"/>
                  <a:pt x="2977" y="13990"/>
                </a:cubicBezTo>
                <a:cubicBezTo>
                  <a:pt x="2993" y="13990"/>
                  <a:pt x="3010" y="13990"/>
                  <a:pt x="3026" y="13990"/>
                </a:cubicBezTo>
              </a:path>
              <a:path w="3474" h="1266">
                <a:moveTo>
                  <a:pt x="3200" y="13791"/>
                </a:moveTo>
                <a:cubicBezTo>
                  <a:pt x="3225" y="13865"/>
                  <a:pt x="3225" y="13943"/>
                  <a:pt x="3249" y="14015"/>
                </a:cubicBezTo>
                <a:cubicBezTo>
                  <a:pt x="3281" y="14111"/>
                  <a:pt x="3344" y="14232"/>
                  <a:pt x="3398" y="14312"/>
                </a:cubicBezTo>
                <a:cubicBezTo>
                  <a:pt x="3435" y="14367"/>
                  <a:pt x="3493" y="14403"/>
                  <a:pt x="3547" y="14436"/>
                </a:cubicBezTo>
              </a:path>
              <a:path w="3474" h="1266">
                <a:moveTo>
                  <a:pt x="3522" y="13767"/>
                </a:moveTo>
                <a:cubicBezTo>
                  <a:pt x="3514" y="13759"/>
                  <a:pt x="3505" y="13750"/>
                  <a:pt x="3497" y="13742"/>
                </a:cubicBezTo>
                <a:cubicBezTo>
                  <a:pt x="3451" y="13815"/>
                  <a:pt x="3411" y="13887"/>
                  <a:pt x="3373" y="13965"/>
                </a:cubicBezTo>
                <a:cubicBezTo>
                  <a:pt x="3343" y="14026"/>
                  <a:pt x="3305" y="14078"/>
                  <a:pt x="3274" y="14139"/>
                </a:cubicBezTo>
                <a:cubicBezTo>
                  <a:pt x="3256" y="14175"/>
                  <a:pt x="3156" y="14273"/>
                  <a:pt x="3225" y="14238"/>
                </a:cubicBezTo>
              </a:path>
              <a:path w="3474" h="1266">
                <a:moveTo>
                  <a:pt x="3597" y="13444"/>
                </a:moveTo>
                <a:cubicBezTo>
                  <a:pt x="3668" y="13417"/>
                  <a:pt x="3742" y="13396"/>
                  <a:pt x="3770" y="13494"/>
                </a:cubicBezTo>
                <a:cubicBezTo>
                  <a:pt x="3792" y="13568"/>
                  <a:pt x="3749" y="13667"/>
                  <a:pt x="3696" y="13717"/>
                </a:cubicBezTo>
                <a:cubicBezTo>
                  <a:pt x="3635" y="13774"/>
                  <a:pt x="3591" y="13736"/>
                  <a:pt x="3547" y="13692"/>
                </a:cubicBezTo>
                <a:cubicBezTo>
                  <a:pt x="3539" y="13684"/>
                  <a:pt x="3530" y="13675"/>
                  <a:pt x="3522" y="13667"/>
                </a:cubicBezTo>
                <a:cubicBezTo>
                  <a:pt x="3591" y="13627"/>
                  <a:pt x="3666" y="13638"/>
                  <a:pt x="3746" y="13667"/>
                </a:cubicBezTo>
                <a:cubicBezTo>
                  <a:pt x="3762" y="13675"/>
                  <a:pt x="3779" y="13684"/>
                  <a:pt x="3795" y="13692"/>
                </a:cubicBezTo>
              </a:path>
              <a:path w="3474" h="1266">
                <a:moveTo>
                  <a:pt x="3845" y="13990"/>
                </a:moveTo>
                <a:cubicBezTo>
                  <a:pt x="3918" y="13983"/>
                  <a:pt x="3914" y="13979"/>
                  <a:pt x="3969" y="13965"/>
                </a:cubicBezTo>
              </a:path>
              <a:path w="3474" h="1266">
                <a:moveTo>
                  <a:pt x="3870" y="14139"/>
                </a:moveTo>
                <a:cubicBezTo>
                  <a:pt x="3919" y="14139"/>
                  <a:pt x="3969" y="14139"/>
                  <a:pt x="4018" y="14139"/>
                </a:cubicBezTo>
              </a:path>
              <a:path w="3474" h="1266">
                <a:moveTo>
                  <a:pt x="4341" y="13891"/>
                </a:moveTo>
                <a:cubicBezTo>
                  <a:pt x="4424" y="13891"/>
                  <a:pt x="4506" y="13891"/>
                  <a:pt x="4589" y="13891"/>
                </a:cubicBezTo>
              </a:path>
              <a:path w="3474" h="1266">
                <a:moveTo>
                  <a:pt x="4366" y="13915"/>
                </a:moveTo>
                <a:cubicBezTo>
                  <a:pt x="4342" y="13956"/>
                  <a:pt x="4270" y="14045"/>
                  <a:pt x="4341" y="14089"/>
                </a:cubicBezTo>
                <a:cubicBezTo>
                  <a:pt x="4388" y="14118"/>
                  <a:pt x="4461" y="14080"/>
                  <a:pt x="4514" y="14114"/>
                </a:cubicBezTo>
                <a:cubicBezTo>
                  <a:pt x="4607" y="14174"/>
                  <a:pt x="4658" y="14203"/>
                  <a:pt x="4663" y="14312"/>
                </a:cubicBezTo>
                <a:cubicBezTo>
                  <a:pt x="4667" y="14391"/>
                  <a:pt x="4637" y="14448"/>
                  <a:pt x="4589" y="14486"/>
                </a:cubicBezTo>
                <a:cubicBezTo>
                  <a:pt x="4531" y="14531"/>
                  <a:pt x="4474" y="14502"/>
                  <a:pt x="4415" y="14461"/>
                </a:cubicBezTo>
                <a:cubicBezTo>
                  <a:pt x="4377" y="14434"/>
                  <a:pt x="4390" y="14402"/>
                  <a:pt x="4390" y="14362"/>
                </a:cubicBezTo>
              </a:path>
              <a:path w="3474" h="1266">
                <a:moveTo>
                  <a:pt x="5060" y="13692"/>
                </a:moveTo>
                <a:cubicBezTo>
                  <a:pt x="5129" y="13701"/>
                  <a:pt x="5177" y="13725"/>
                  <a:pt x="5234" y="13767"/>
                </a:cubicBezTo>
                <a:cubicBezTo>
                  <a:pt x="5300" y="13816"/>
                  <a:pt x="5292" y="13899"/>
                  <a:pt x="5259" y="13965"/>
                </a:cubicBezTo>
                <a:cubicBezTo>
                  <a:pt x="5228" y="14028"/>
                  <a:pt x="5140" y="14015"/>
                  <a:pt x="5085" y="14015"/>
                </a:cubicBezTo>
                <a:cubicBezTo>
                  <a:pt x="5054" y="14015"/>
                  <a:pt x="4921" y="13968"/>
                  <a:pt x="5011" y="13915"/>
                </a:cubicBezTo>
                <a:cubicBezTo>
                  <a:pt x="5084" y="13872"/>
                  <a:pt x="5160" y="13959"/>
                  <a:pt x="5209" y="13990"/>
                </a:cubicBezTo>
                <a:cubicBezTo>
                  <a:pt x="5258" y="14021"/>
                  <a:pt x="5302" y="14053"/>
                  <a:pt x="5358" y="140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Ink 7"/>
          <p:cNvSpPr/>
          <p:nvPr/>
        </p:nvSpPr>
        <p:spPr>
          <a:xfrm>
            <a:off x="847800" y="5249880"/>
            <a:ext cx="1081080" cy="411120"/>
          </a:xfrm>
          <a:custGeom>
            <a:avLst/>
            <a:gdLst/>
            <a:ahLst/>
            <a:rect l="l" t="t" r="r" b="b"/>
            <a:pathLst>
              <a:path w="3003" h="1142">
                <a:moveTo>
                  <a:pt x="2505" y="14585"/>
                </a:moveTo>
                <a:cubicBezTo>
                  <a:pt x="2564" y="14659"/>
                  <a:pt x="2549" y="14660"/>
                  <a:pt x="2505" y="14734"/>
                </a:cubicBezTo>
                <a:cubicBezTo>
                  <a:pt x="2474" y="14785"/>
                  <a:pt x="2437" y="14833"/>
                  <a:pt x="2406" y="14883"/>
                </a:cubicBezTo>
                <a:cubicBezTo>
                  <a:pt x="2372" y="14939"/>
                  <a:pt x="2365" y="14946"/>
                  <a:pt x="2356" y="15007"/>
                </a:cubicBezTo>
                <a:cubicBezTo>
                  <a:pt x="2411" y="15022"/>
                  <a:pt x="2452" y="15054"/>
                  <a:pt x="2505" y="15081"/>
                </a:cubicBezTo>
                <a:cubicBezTo>
                  <a:pt x="2561" y="15109"/>
                  <a:pt x="2533" y="15121"/>
                  <a:pt x="2604" y="15131"/>
                </a:cubicBezTo>
              </a:path>
              <a:path w="3003" h="1142">
                <a:moveTo>
                  <a:pt x="2729" y="14660"/>
                </a:moveTo>
                <a:cubicBezTo>
                  <a:pt x="2722" y="14734"/>
                  <a:pt x="2700" y="14810"/>
                  <a:pt x="2679" y="14883"/>
                </a:cubicBezTo>
                <a:cubicBezTo>
                  <a:pt x="2645" y="15001"/>
                  <a:pt x="2593" y="15070"/>
                  <a:pt x="2580" y="15205"/>
                </a:cubicBezTo>
                <a:cubicBezTo>
                  <a:pt x="2569" y="15315"/>
                  <a:pt x="2555" y="15416"/>
                  <a:pt x="2555" y="15528"/>
                </a:cubicBezTo>
                <a:cubicBezTo>
                  <a:pt x="2555" y="15603"/>
                  <a:pt x="2527" y="15645"/>
                  <a:pt x="2580" y="15627"/>
                </a:cubicBezTo>
              </a:path>
              <a:path w="3003" h="1142">
                <a:moveTo>
                  <a:pt x="2977" y="14883"/>
                </a:moveTo>
                <a:cubicBezTo>
                  <a:pt x="2977" y="15040"/>
                  <a:pt x="2977" y="15197"/>
                  <a:pt x="2977" y="15354"/>
                </a:cubicBezTo>
              </a:path>
              <a:path w="3003" h="1142">
                <a:moveTo>
                  <a:pt x="2927" y="15106"/>
                </a:moveTo>
                <a:cubicBezTo>
                  <a:pt x="3001" y="15106"/>
                  <a:pt x="3076" y="15106"/>
                  <a:pt x="3150" y="15106"/>
                </a:cubicBezTo>
              </a:path>
              <a:path w="3003" h="1142">
                <a:moveTo>
                  <a:pt x="3324" y="14932"/>
                </a:moveTo>
                <a:cubicBezTo>
                  <a:pt x="3336" y="15031"/>
                  <a:pt x="3364" y="15107"/>
                  <a:pt x="3398" y="15205"/>
                </a:cubicBezTo>
                <a:cubicBezTo>
                  <a:pt x="3433" y="15308"/>
                  <a:pt x="3501" y="15387"/>
                  <a:pt x="3547" y="15478"/>
                </a:cubicBezTo>
                <a:cubicBezTo>
                  <a:pt x="3567" y="15539"/>
                  <a:pt x="3565" y="15554"/>
                  <a:pt x="3597" y="15577"/>
                </a:cubicBezTo>
              </a:path>
              <a:path w="3003" h="1142">
                <a:moveTo>
                  <a:pt x="3696" y="14932"/>
                </a:moveTo>
                <a:cubicBezTo>
                  <a:pt x="3614" y="14967"/>
                  <a:pt x="3596" y="15059"/>
                  <a:pt x="3547" y="15156"/>
                </a:cubicBezTo>
                <a:cubicBezTo>
                  <a:pt x="3509" y="15231"/>
                  <a:pt x="3448" y="15310"/>
                  <a:pt x="3398" y="15379"/>
                </a:cubicBezTo>
                <a:cubicBezTo>
                  <a:pt x="3363" y="15428"/>
                  <a:pt x="3356" y="15491"/>
                  <a:pt x="3349" y="15553"/>
                </a:cubicBezTo>
              </a:path>
              <a:path w="3003" h="1142">
                <a:moveTo>
                  <a:pt x="3795" y="14784"/>
                </a:moveTo>
                <a:cubicBezTo>
                  <a:pt x="3901" y="14761"/>
                  <a:pt x="3933" y="14745"/>
                  <a:pt x="4018" y="14808"/>
                </a:cubicBezTo>
                <a:cubicBezTo>
                  <a:pt x="4071" y="14847"/>
                  <a:pt x="4098" y="14935"/>
                  <a:pt x="4043" y="14982"/>
                </a:cubicBezTo>
                <a:cubicBezTo>
                  <a:pt x="3988" y="15029"/>
                  <a:pt x="3950" y="15003"/>
                  <a:pt x="3894" y="14982"/>
                </a:cubicBezTo>
                <a:cubicBezTo>
                  <a:pt x="3901" y="14934"/>
                  <a:pt x="3918" y="14857"/>
                  <a:pt x="3994" y="14883"/>
                </a:cubicBezTo>
                <a:cubicBezTo>
                  <a:pt x="4045" y="14900"/>
                  <a:pt x="4115" y="14955"/>
                  <a:pt x="4167" y="14982"/>
                </a:cubicBezTo>
              </a:path>
              <a:path w="3003" h="1142">
                <a:moveTo>
                  <a:pt x="4142" y="15156"/>
                </a:moveTo>
                <a:cubicBezTo>
                  <a:pt x="4197" y="15174"/>
                  <a:pt x="4231" y="15180"/>
                  <a:pt x="4291" y="15180"/>
                </a:cubicBezTo>
              </a:path>
              <a:path w="3003" h="1142">
                <a:moveTo>
                  <a:pt x="4142" y="15304"/>
                </a:moveTo>
                <a:cubicBezTo>
                  <a:pt x="4225" y="15346"/>
                  <a:pt x="4239" y="15352"/>
                  <a:pt x="4316" y="15329"/>
                </a:cubicBezTo>
                <a:cubicBezTo>
                  <a:pt x="4324" y="15329"/>
                  <a:pt x="4333" y="15329"/>
                  <a:pt x="4341" y="15329"/>
                </a:cubicBezTo>
              </a:path>
              <a:path w="3003" h="1142">
                <a:moveTo>
                  <a:pt x="4589" y="15007"/>
                </a:moveTo>
                <a:cubicBezTo>
                  <a:pt x="4648" y="15001"/>
                  <a:pt x="4811" y="14968"/>
                  <a:pt x="4862" y="15056"/>
                </a:cubicBezTo>
                <a:cubicBezTo>
                  <a:pt x="4898" y="15118"/>
                  <a:pt x="4889" y="15216"/>
                  <a:pt x="4862" y="15280"/>
                </a:cubicBezTo>
                <a:cubicBezTo>
                  <a:pt x="4831" y="15353"/>
                  <a:pt x="4780" y="15390"/>
                  <a:pt x="4738" y="15453"/>
                </a:cubicBezTo>
                <a:cubicBezTo>
                  <a:pt x="4686" y="15531"/>
                  <a:pt x="4686" y="15528"/>
                  <a:pt x="4589" y="15528"/>
                </a:cubicBezTo>
                <a:cubicBezTo>
                  <a:pt x="4596" y="15469"/>
                  <a:pt x="4602" y="15384"/>
                  <a:pt x="4688" y="15404"/>
                </a:cubicBezTo>
                <a:cubicBezTo>
                  <a:pt x="4749" y="15418"/>
                  <a:pt x="4794" y="15492"/>
                  <a:pt x="4837" y="15528"/>
                </a:cubicBezTo>
                <a:cubicBezTo>
                  <a:pt x="4906" y="15585"/>
                  <a:pt x="4888" y="15592"/>
                  <a:pt x="4986" y="15602"/>
                </a:cubicBezTo>
              </a:path>
              <a:path w="3003" h="1142">
                <a:moveTo>
                  <a:pt x="5135" y="15081"/>
                </a:moveTo>
                <a:cubicBezTo>
                  <a:pt x="5218" y="15053"/>
                  <a:pt x="5263" y="15076"/>
                  <a:pt x="5333" y="15056"/>
                </a:cubicBezTo>
              </a:path>
              <a:path w="3003" h="1142">
                <a:moveTo>
                  <a:pt x="5135" y="15131"/>
                </a:moveTo>
                <a:cubicBezTo>
                  <a:pt x="5111" y="15172"/>
                  <a:pt x="5043" y="15229"/>
                  <a:pt x="5060" y="15280"/>
                </a:cubicBezTo>
                <a:cubicBezTo>
                  <a:pt x="5085" y="15354"/>
                  <a:pt x="5161" y="15311"/>
                  <a:pt x="5209" y="15329"/>
                </a:cubicBezTo>
                <a:cubicBezTo>
                  <a:pt x="5260" y="15349"/>
                  <a:pt x="5342" y="15358"/>
                  <a:pt x="5358" y="15429"/>
                </a:cubicBezTo>
                <a:cubicBezTo>
                  <a:pt x="5379" y="15521"/>
                  <a:pt x="5302" y="15577"/>
                  <a:pt x="5283" y="15652"/>
                </a:cubicBezTo>
                <a:cubicBezTo>
                  <a:pt x="5259" y="15748"/>
                  <a:pt x="5204" y="15736"/>
                  <a:pt x="5110" y="15701"/>
                </a:cubicBezTo>
                <a:cubicBezTo>
                  <a:pt x="5065" y="15684"/>
                  <a:pt x="5028" y="15651"/>
                  <a:pt x="4986" y="156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Ink 8"/>
          <p:cNvSpPr/>
          <p:nvPr/>
        </p:nvSpPr>
        <p:spPr>
          <a:xfrm>
            <a:off x="1330200" y="5688000"/>
            <a:ext cx="669960" cy="733320"/>
          </a:xfrm>
          <a:custGeom>
            <a:avLst/>
            <a:gdLst/>
            <a:ahLst/>
            <a:rect l="l" t="t" r="r" b="b"/>
            <a:pathLst>
              <a:path w="1861" h="2035">
                <a:moveTo>
                  <a:pt x="3746" y="15801"/>
                </a:moveTo>
                <a:cubicBezTo>
                  <a:pt x="3769" y="15865"/>
                  <a:pt x="3778" y="15913"/>
                  <a:pt x="3795" y="15974"/>
                </a:cubicBezTo>
                <a:cubicBezTo>
                  <a:pt x="3826" y="16087"/>
                  <a:pt x="3871" y="16183"/>
                  <a:pt x="3894" y="16297"/>
                </a:cubicBezTo>
                <a:cubicBezTo>
                  <a:pt x="3924" y="16449"/>
                  <a:pt x="3896" y="16499"/>
                  <a:pt x="4018" y="16570"/>
                </a:cubicBezTo>
              </a:path>
              <a:path w="1861" h="2035">
                <a:moveTo>
                  <a:pt x="4018" y="15925"/>
                </a:moveTo>
                <a:cubicBezTo>
                  <a:pt x="3963" y="15988"/>
                  <a:pt x="3922" y="16060"/>
                  <a:pt x="3870" y="16123"/>
                </a:cubicBezTo>
                <a:cubicBezTo>
                  <a:pt x="3804" y="16203"/>
                  <a:pt x="3748" y="16318"/>
                  <a:pt x="3721" y="16421"/>
                </a:cubicBezTo>
                <a:cubicBezTo>
                  <a:pt x="3711" y="16461"/>
                  <a:pt x="3705" y="16483"/>
                  <a:pt x="3696" y="16520"/>
                </a:cubicBezTo>
              </a:path>
              <a:path w="1861" h="2035">
                <a:moveTo>
                  <a:pt x="4093" y="15875"/>
                </a:moveTo>
                <a:cubicBezTo>
                  <a:pt x="4171" y="15842"/>
                  <a:pt x="4262" y="15800"/>
                  <a:pt x="4291" y="15925"/>
                </a:cubicBezTo>
                <a:cubicBezTo>
                  <a:pt x="4308" y="15997"/>
                  <a:pt x="4235" y="16037"/>
                  <a:pt x="4192" y="16073"/>
                </a:cubicBezTo>
                <a:cubicBezTo>
                  <a:pt x="4164" y="16101"/>
                  <a:pt x="4151" y="16110"/>
                  <a:pt x="4118" y="16098"/>
                </a:cubicBezTo>
                <a:cubicBezTo>
                  <a:pt x="4198" y="16057"/>
                  <a:pt x="4256" y="16086"/>
                  <a:pt x="4341" y="16123"/>
                </a:cubicBezTo>
                <a:cubicBezTo>
                  <a:pt x="4381" y="16143"/>
                  <a:pt x="4387" y="16152"/>
                  <a:pt x="4415" y="16148"/>
                </a:cubicBezTo>
              </a:path>
              <a:path w="1861" h="2035">
                <a:moveTo>
                  <a:pt x="4316" y="16297"/>
                </a:moveTo>
                <a:cubicBezTo>
                  <a:pt x="4378" y="16345"/>
                  <a:pt x="4413" y="16346"/>
                  <a:pt x="4490" y="16346"/>
                </a:cubicBezTo>
              </a:path>
              <a:path w="1861" h="2035">
                <a:moveTo>
                  <a:pt x="4316" y="16421"/>
                </a:moveTo>
                <a:cubicBezTo>
                  <a:pt x="4424" y="16439"/>
                  <a:pt x="4431" y="16447"/>
                  <a:pt x="4490" y="16446"/>
                </a:cubicBezTo>
              </a:path>
              <a:path w="1861" h="2035">
                <a:moveTo>
                  <a:pt x="4862" y="16173"/>
                </a:moveTo>
                <a:cubicBezTo>
                  <a:pt x="4934" y="16205"/>
                  <a:pt x="5034" y="16242"/>
                  <a:pt x="5011" y="16346"/>
                </a:cubicBezTo>
                <a:cubicBezTo>
                  <a:pt x="4996" y="16414"/>
                  <a:pt x="4910" y="16527"/>
                  <a:pt x="4862" y="16570"/>
                </a:cubicBezTo>
                <a:cubicBezTo>
                  <a:pt x="4822" y="16606"/>
                  <a:pt x="4786" y="16612"/>
                  <a:pt x="4738" y="16619"/>
                </a:cubicBezTo>
                <a:cubicBezTo>
                  <a:pt x="4748" y="16538"/>
                  <a:pt x="4766" y="16468"/>
                  <a:pt x="4862" y="16520"/>
                </a:cubicBezTo>
                <a:cubicBezTo>
                  <a:pt x="4886" y="16533"/>
                  <a:pt x="4935" y="16620"/>
                  <a:pt x="4961" y="16619"/>
                </a:cubicBezTo>
                <a:cubicBezTo>
                  <a:pt x="4994" y="16611"/>
                  <a:pt x="5027" y="16602"/>
                  <a:pt x="5060" y="16594"/>
                </a:cubicBezTo>
              </a:path>
              <a:path w="1861" h="2035">
                <a:moveTo>
                  <a:pt x="5283" y="16123"/>
                </a:moveTo>
                <a:cubicBezTo>
                  <a:pt x="5283" y="16328"/>
                  <a:pt x="5321" y="16576"/>
                  <a:pt x="5259" y="16768"/>
                </a:cubicBezTo>
              </a:path>
              <a:path w="1861" h="2035">
                <a:moveTo>
                  <a:pt x="4068" y="16917"/>
                </a:moveTo>
                <a:cubicBezTo>
                  <a:pt x="4077" y="17014"/>
                  <a:pt x="4110" y="17095"/>
                  <a:pt x="4142" y="17190"/>
                </a:cubicBezTo>
                <a:cubicBezTo>
                  <a:pt x="4176" y="17292"/>
                  <a:pt x="4228" y="17386"/>
                  <a:pt x="4266" y="17487"/>
                </a:cubicBezTo>
              </a:path>
              <a:path w="1861" h="2035">
                <a:moveTo>
                  <a:pt x="4341" y="16867"/>
                </a:moveTo>
                <a:cubicBezTo>
                  <a:pt x="4230" y="16963"/>
                  <a:pt x="4153" y="17049"/>
                  <a:pt x="4093" y="17190"/>
                </a:cubicBezTo>
                <a:cubicBezTo>
                  <a:pt x="4061" y="17266"/>
                  <a:pt x="4017" y="17343"/>
                  <a:pt x="3969" y="17413"/>
                </a:cubicBezTo>
                <a:cubicBezTo>
                  <a:pt x="3961" y="17421"/>
                  <a:pt x="3952" y="17430"/>
                  <a:pt x="3944" y="17438"/>
                </a:cubicBezTo>
              </a:path>
              <a:path w="1861" h="2035">
                <a:moveTo>
                  <a:pt x="4366" y="17165"/>
                </a:moveTo>
                <a:cubicBezTo>
                  <a:pt x="4424" y="17165"/>
                  <a:pt x="4481" y="17165"/>
                  <a:pt x="4539" y="17165"/>
                </a:cubicBezTo>
              </a:path>
              <a:path w="1861" h="2035">
                <a:moveTo>
                  <a:pt x="4415" y="17289"/>
                </a:moveTo>
                <a:cubicBezTo>
                  <a:pt x="4493" y="17340"/>
                  <a:pt x="4521" y="17356"/>
                  <a:pt x="4589" y="17338"/>
                </a:cubicBezTo>
              </a:path>
              <a:path w="1861" h="2035">
                <a:moveTo>
                  <a:pt x="4812" y="17115"/>
                </a:moveTo>
                <a:cubicBezTo>
                  <a:pt x="4845" y="17170"/>
                  <a:pt x="4837" y="17221"/>
                  <a:pt x="4837" y="17289"/>
                </a:cubicBezTo>
                <a:cubicBezTo>
                  <a:pt x="4837" y="17385"/>
                  <a:pt x="4816" y="17468"/>
                  <a:pt x="4812" y="17562"/>
                </a:cubicBezTo>
                <a:cubicBezTo>
                  <a:pt x="4812" y="17578"/>
                  <a:pt x="4812" y="17595"/>
                  <a:pt x="4812" y="17611"/>
                </a:cubicBezTo>
              </a:path>
              <a:path w="1861" h="2035">
                <a:moveTo>
                  <a:pt x="4837" y="17537"/>
                </a:moveTo>
                <a:cubicBezTo>
                  <a:pt x="4859" y="17428"/>
                  <a:pt x="4896" y="17322"/>
                  <a:pt x="4911" y="17214"/>
                </a:cubicBezTo>
                <a:cubicBezTo>
                  <a:pt x="4924" y="17123"/>
                  <a:pt x="4928" y="17072"/>
                  <a:pt x="4986" y="16991"/>
                </a:cubicBezTo>
                <a:cubicBezTo>
                  <a:pt x="5026" y="16935"/>
                  <a:pt x="5081" y="16947"/>
                  <a:pt x="5135" y="16966"/>
                </a:cubicBezTo>
                <a:cubicBezTo>
                  <a:pt x="5215" y="16994"/>
                  <a:pt x="5300" y="17072"/>
                  <a:pt x="5383" y="17090"/>
                </a:cubicBezTo>
                <a:cubicBezTo>
                  <a:pt x="5453" y="17105"/>
                  <a:pt x="5497" y="17105"/>
                  <a:pt x="5556" y="17090"/>
                </a:cubicBezTo>
              </a:path>
              <a:path w="1861" h="2035">
                <a:moveTo>
                  <a:pt x="5110" y="17214"/>
                </a:moveTo>
                <a:cubicBezTo>
                  <a:pt x="5197" y="17214"/>
                  <a:pt x="5238" y="17211"/>
                  <a:pt x="5308" y="17264"/>
                </a:cubicBezTo>
                <a:cubicBezTo>
                  <a:pt x="5333" y="17289"/>
                  <a:pt x="5341" y="17297"/>
                  <a:pt x="5358" y="17314"/>
                </a:cubicBezTo>
                <a:cubicBezTo>
                  <a:pt x="5310" y="17360"/>
                  <a:pt x="5287" y="17421"/>
                  <a:pt x="5234" y="17462"/>
                </a:cubicBezTo>
                <a:cubicBezTo>
                  <a:pt x="5206" y="17483"/>
                  <a:pt x="5093" y="17523"/>
                  <a:pt x="5060" y="17512"/>
                </a:cubicBezTo>
                <a:cubicBezTo>
                  <a:pt x="5052" y="17504"/>
                  <a:pt x="5043" y="17495"/>
                  <a:pt x="5035" y="17487"/>
                </a:cubicBezTo>
                <a:cubicBezTo>
                  <a:pt x="5046" y="17413"/>
                  <a:pt x="5081" y="17359"/>
                  <a:pt x="5159" y="17388"/>
                </a:cubicBezTo>
                <a:cubicBezTo>
                  <a:pt x="5259" y="17426"/>
                  <a:pt x="5226" y="17510"/>
                  <a:pt x="5259" y="17587"/>
                </a:cubicBezTo>
                <a:cubicBezTo>
                  <a:pt x="5281" y="17609"/>
                  <a:pt x="5289" y="17614"/>
                  <a:pt x="5283" y="17636"/>
                </a:cubicBezTo>
              </a:path>
              <a:path w="1861" h="2035">
                <a:moveTo>
                  <a:pt x="5556" y="17338"/>
                </a:moveTo>
                <a:cubicBezTo>
                  <a:pt x="5547" y="17459"/>
                  <a:pt x="5520" y="17570"/>
                  <a:pt x="5482" y="17686"/>
                </a:cubicBezTo>
                <a:cubicBezTo>
                  <a:pt x="5457" y="17760"/>
                  <a:pt x="5448" y="17785"/>
                  <a:pt x="5432" y="178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Ink 9"/>
          <p:cNvSpPr/>
          <p:nvPr/>
        </p:nvSpPr>
        <p:spPr>
          <a:xfrm>
            <a:off x="5796000" y="3483000"/>
            <a:ext cx="892080" cy="1544760"/>
          </a:xfrm>
          <a:custGeom>
            <a:avLst/>
            <a:gdLst/>
            <a:ahLst/>
            <a:rect l="l" t="t" r="r" b="b"/>
            <a:pathLst>
              <a:path w="2482" h="4292">
                <a:moveTo>
                  <a:pt x="16098" y="13246"/>
                </a:moveTo>
                <a:cubicBezTo>
                  <a:pt x="16128" y="13216"/>
                  <a:pt x="16142" y="13205"/>
                  <a:pt x="16173" y="13196"/>
                </a:cubicBezTo>
              </a:path>
              <a:path w="2482" h="4292">
                <a:moveTo>
                  <a:pt x="16148" y="13543"/>
                </a:moveTo>
                <a:cubicBezTo>
                  <a:pt x="16189" y="13502"/>
                  <a:pt x="16197" y="13494"/>
                  <a:pt x="16222" y="13469"/>
                </a:cubicBezTo>
              </a:path>
              <a:path w="2482" h="4292">
                <a:moveTo>
                  <a:pt x="16718" y="10691"/>
                </a:moveTo>
                <a:cubicBezTo>
                  <a:pt x="16771" y="10649"/>
                  <a:pt x="16803" y="10625"/>
                  <a:pt x="16867" y="10616"/>
                </a:cubicBezTo>
              </a:path>
              <a:path w="2482" h="4292">
                <a:moveTo>
                  <a:pt x="16644" y="11038"/>
                </a:moveTo>
                <a:cubicBezTo>
                  <a:pt x="16716" y="11029"/>
                  <a:pt x="16770" y="10997"/>
                  <a:pt x="16842" y="10988"/>
                </a:cubicBezTo>
              </a:path>
              <a:path w="2482" h="4292">
                <a:moveTo>
                  <a:pt x="17587" y="10046"/>
                </a:moveTo>
                <a:cubicBezTo>
                  <a:pt x="17587" y="10128"/>
                  <a:pt x="17565" y="10188"/>
                  <a:pt x="17562" y="10269"/>
                </a:cubicBezTo>
                <a:cubicBezTo>
                  <a:pt x="17558" y="10363"/>
                  <a:pt x="17537" y="10446"/>
                  <a:pt x="17537" y="10542"/>
                </a:cubicBezTo>
                <a:cubicBezTo>
                  <a:pt x="17537" y="10627"/>
                  <a:pt x="17558" y="10713"/>
                  <a:pt x="17587" y="10790"/>
                </a:cubicBezTo>
                <a:cubicBezTo>
                  <a:pt x="17587" y="10497"/>
                  <a:pt x="17528" y="10129"/>
                  <a:pt x="17611" y="9847"/>
                </a:cubicBezTo>
                <a:cubicBezTo>
                  <a:pt x="17634" y="9770"/>
                  <a:pt x="17674" y="9765"/>
                  <a:pt x="17735" y="9748"/>
                </a:cubicBezTo>
                <a:cubicBezTo>
                  <a:pt x="17824" y="9724"/>
                  <a:pt x="17918" y="9704"/>
                  <a:pt x="18008" y="9699"/>
                </a:cubicBezTo>
                <a:cubicBezTo>
                  <a:pt x="18133" y="9692"/>
                  <a:pt x="18262" y="9685"/>
                  <a:pt x="18380" y="9674"/>
                </a:cubicBezTo>
                <a:cubicBezTo>
                  <a:pt x="18465" y="9666"/>
                  <a:pt x="18517" y="9662"/>
                  <a:pt x="18579" y="9699"/>
                </a:cubicBezTo>
              </a:path>
              <a:path w="2482" h="4292">
                <a:moveTo>
                  <a:pt x="17959" y="10071"/>
                </a:moveTo>
                <a:cubicBezTo>
                  <a:pt x="17946" y="10045"/>
                  <a:pt x="17961" y="9949"/>
                  <a:pt x="18008" y="9922"/>
                </a:cubicBezTo>
                <a:cubicBezTo>
                  <a:pt x="18109" y="9865"/>
                  <a:pt x="18166" y="9974"/>
                  <a:pt x="18182" y="10046"/>
                </a:cubicBezTo>
                <a:cubicBezTo>
                  <a:pt x="18199" y="10124"/>
                  <a:pt x="18168" y="10196"/>
                  <a:pt x="18157" y="10269"/>
                </a:cubicBezTo>
                <a:cubicBezTo>
                  <a:pt x="18146" y="10343"/>
                  <a:pt x="18125" y="10426"/>
                  <a:pt x="18083" y="10492"/>
                </a:cubicBezTo>
                <a:cubicBezTo>
                  <a:pt x="18048" y="10547"/>
                  <a:pt x="17979" y="10614"/>
                  <a:pt x="17934" y="10592"/>
                </a:cubicBezTo>
                <a:cubicBezTo>
                  <a:pt x="17859" y="10555"/>
                  <a:pt x="17884" y="10496"/>
                  <a:pt x="17884" y="10418"/>
                </a:cubicBezTo>
                <a:cubicBezTo>
                  <a:pt x="17884" y="10367"/>
                  <a:pt x="17903" y="10308"/>
                  <a:pt x="17934" y="10269"/>
                </a:cubicBezTo>
                <a:cubicBezTo>
                  <a:pt x="17987" y="10203"/>
                  <a:pt x="18040" y="10202"/>
                  <a:pt x="18107" y="10269"/>
                </a:cubicBezTo>
                <a:cubicBezTo>
                  <a:pt x="18145" y="10307"/>
                  <a:pt x="18173" y="10393"/>
                  <a:pt x="18182" y="10443"/>
                </a:cubicBezTo>
                <a:cubicBezTo>
                  <a:pt x="18194" y="10513"/>
                  <a:pt x="18182" y="10594"/>
                  <a:pt x="18182" y="10666"/>
                </a:cubicBezTo>
              </a:path>
              <a:path w="2482" h="4292">
                <a:moveTo>
                  <a:pt x="18430" y="9847"/>
                </a:moveTo>
                <a:cubicBezTo>
                  <a:pt x="18430" y="9946"/>
                  <a:pt x="18450" y="10025"/>
                  <a:pt x="18455" y="10120"/>
                </a:cubicBezTo>
                <a:cubicBezTo>
                  <a:pt x="18464" y="10284"/>
                  <a:pt x="18455" y="10451"/>
                  <a:pt x="18455" y="10616"/>
                </a:cubicBezTo>
              </a:path>
              <a:path w="2482" h="4292">
                <a:moveTo>
                  <a:pt x="17512" y="10790"/>
                </a:moveTo>
                <a:cubicBezTo>
                  <a:pt x="17609" y="10774"/>
                  <a:pt x="17745" y="10729"/>
                  <a:pt x="17835" y="10716"/>
                </a:cubicBezTo>
                <a:cubicBezTo>
                  <a:pt x="17931" y="10702"/>
                  <a:pt x="18039" y="10689"/>
                  <a:pt x="18132" y="10666"/>
                </a:cubicBezTo>
                <a:cubicBezTo>
                  <a:pt x="18215" y="10645"/>
                  <a:pt x="18303" y="10602"/>
                  <a:pt x="18380" y="10592"/>
                </a:cubicBezTo>
                <a:cubicBezTo>
                  <a:pt x="18441" y="10592"/>
                  <a:pt x="18457" y="10582"/>
                  <a:pt x="18479" y="10616"/>
                </a:cubicBezTo>
              </a:path>
              <a:path w="2482" h="4292">
                <a:moveTo>
                  <a:pt x="17909" y="10889"/>
                </a:moveTo>
                <a:cubicBezTo>
                  <a:pt x="17966" y="10896"/>
                  <a:pt x="18048" y="10937"/>
                  <a:pt x="18107" y="10914"/>
                </a:cubicBezTo>
                <a:cubicBezTo>
                  <a:pt x="18167" y="10891"/>
                  <a:pt x="18224" y="10885"/>
                  <a:pt x="18281" y="10840"/>
                </a:cubicBezTo>
              </a:path>
              <a:path w="2482" h="4292">
                <a:moveTo>
                  <a:pt x="17983" y="10864"/>
                </a:moveTo>
                <a:cubicBezTo>
                  <a:pt x="17965" y="10933"/>
                  <a:pt x="17925" y="11002"/>
                  <a:pt x="17909" y="11063"/>
                </a:cubicBezTo>
                <a:cubicBezTo>
                  <a:pt x="17893" y="11122"/>
                  <a:pt x="17826" y="11253"/>
                  <a:pt x="17835" y="11311"/>
                </a:cubicBezTo>
                <a:cubicBezTo>
                  <a:pt x="17843" y="11319"/>
                  <a:pt x="17851" y="11328"/>
                  <a:pt x="17859" y="11336"/>
                </a:cubicBezTo>
                <a:cubicBezTo>
                  <a:pt x="17901" y="11315"/>
                  <a:pt x="17969" y="11248"/>
                  <a:pt x="18008" y="11237"/>
                </a:cubicBezTo>
                <a:cubicBezTo>
                  <a:pt x="18069" y="11220"/>
                  <a:pt x="18136" y="11248"/>
                  <a:pt x="18182" y="11286"/>
                </a:cubicBezTo>
                <a:cubicBezTo>
                  <a:pt x="18231" y="11327"/>
                  <a:pt x="18297" y="11389"/>
                  <a:pt x="18281" y="11460"/>
                </a:cubicBezTo>
                <a:cubicBezTo>
                  <a:pt x="18266" y="11526"/>
                  <a:pt x="18201" y="11573"/>
                  <a:pt x="18157" y="11609"/>
                </a:cubicBezTo>
                <a:cubicBezTo>
                  <a:pt x="18102" y="11654"/>
                  <a:pt x="18005" y="11673"/>
                  <a:pt x="17934" y="11683"/>
                </a:cubicBezTo>
                <a:cubicBezTo>
                  <a:pt x="17857" y="11694"/>
                  <a:pt x="17791" y="11729"/>
                  <a:pt x="17711" y="11733"/>
                </a:cubicBezTo>
                <a:cubicBezTo>
                  <a:pt x="17659" y="11733"/>
                  <a:pt x="17641" y="11732"/>
                  <a:pt x="17611" y="11708"/>
                </a:cubicBezTo>
              </a:path>
              <a:path w="2482" h="4292">
                <a:moveTo>
                  <a:pt x="16669" y="12799"/>
                </a:moveTo>
                <a:cubicBezTo>
                  <a:pt x="16757" y="12772"/>
                  <a:pt x="16848" y="12754"/>
                  <a:pt x="16942" y="12750"/>
                </a:cubicBezTo>
                <a:cubicBezTo>
                  <a:pt x="17011" y="12747"/>
                  <a:pt x="17052" y="12729"/>
                  <a:pt x="17115" y="12725"/>
                </a:cubicBezTo>
                <a:cubicBezTo>
                  <a:pt x="17191" y="12721"/>
                  <a:pt x="17159" y="12753"/>
                  <a:pt x="17214" y="12725"/>
                </a:cubicBezTo>
              </a:path>
              <a:path w="2482" h="4292">
                <a:moveTo>
                  <a:pt x="17487" y="12254"/>
                </a:moveTo>
                <a:cubicBezTo>
                  <a:pt x="17550" y="12232"/>
                  <a:pt x="17507" y="12274"/>
                  <a:pt x="17487" y="12328"/>
                </a:cubicBezTo>
                <a:cubicBezTo>
                  <a:pt x="17496" y="12268"/>
                  <a:pt x="17523" y="12231"/>
                  <a:pt x="17562" y="12179"/>
                </a:cubicBezTo>
                <a:cubicBezTo>
                  <a:pt x="17607" y="12118"/>
                  <a:pt x="17642" y="12102"/>
                  <a:pt x="17711" y="12129"/>
                </a:cubicBezTo>
                <a:cubicBezTo>
                  <a:pt x="17777" y="12155"/>
                  <a:pt x="17806" y="12214"/>
                  <a:pt x="17810" y="12278"/>
                </a:cubicBezTo>
                <a:cubicBezTo>
                  <a:pt x="17816" y="12385"/>
                  <a:pt x="17832" y="12513"/>
                  <a:pt x="17785" y="12601"/>
                </a:cubicBezTo>
                <a:cubicBezTo>
                  <a:pt x="17754" y="12658"/>
                  <a:pt x="17733" y="12704"/>
                  <a:pt x="17686" y="12750"/>
                </a:cubicBezTo>
                <a:cubicBezTo>
                  <a:pt x="17634" y="12802"/>
                  <a:pt x="17627" y="12800"/>
                  <a:pt x="17587" y="12774"/>
                </a:cubicBezTo>
                <a:cubicBezTo>
                  <a:pt x="17520" y="12730"/>
                  <a:pt x="17522" y="12729"/>
                  <a:pt x="17512" y="12650"/>
                </a:cubicBezTo>
                <a:cubicBezTo>
                  <a:pt x="17576" y="12613"/>
                  <a:pt x="17624" y="12624"/>
                  <a:pt x="17686" y="12675"/>
                </a:cubicBezTo>
                <a:cubicBezTo>
                  <a:pt x="17722" y="12705"/>
                  <a:pt x="17765" y="12762"/>
                  <a:pt x="17810" y="12774"/>
                </a:cubicBezTo>
                <a:cubicBezTo>
                  <a:pt x="17851" y="12774"/>
                  <a:pt x="17859" y="12774"/>
                  <a:pt x="17884" y="12774"/>
                </a:cubicBezTo>
              </a:path>
              <a:path w="2482" h="4292">
                <a:moveTo>
                  <a:pt x="17438" y="12849"/>
                </a:moveTo>
                <a:cubicBezTo>
                  <a:pt x="17504" y="12890"/>
                  <a:pt x="17519" y="12880"/>
                  <a:pt x="17587" y="12874"/>
                </a:cubicBezTo>
                <a:cubicBezTo>
                  <a:pt x="17674" y="12866"/>
                  <a:pt x="17761" y="12839"/>
                  <a:pt x="17835" y="12824"/>
                </a:cubicBezTo>
                <a:cubicBezTo>
                  <a:pt x="17886" y="12814"/>
                  <a:pt x="17931" y="12806"/>
                  <a:pt x="17983" y="12799"/>
                </a:cubicBezTo>
              </a:path>
              <a:path w="2482" h="4292">
                <a:moveTo>
                  <a:pt x="17537" y="12973"/>
                </a:moveTo>
                <a:cubicBezTo>
                  <a:pt x="17610" y="13010"/>
                  <a:pt x="17697" y="12998"/>
                  <a:pt x="17785" y="12998"/>
                </a:cubicBezTo>
                <a:cubicBezTo>
                  <a:pt x="17841" y="12998"/>
                  <a:pt x="17854" y="12981"/>
                  <a:pt x="17909" y="12973"/>
                </a:cubicBezTo>
              </a:path>
              <a:path w="2482" h="4292">
                <a:moveTo>
                  <a:pt x="17587" y="13097"/>
                </a:moveTo>
                <a:cubicBezTo>
                  <a:pt x="17549" y="13162"/>
                  <a:pt x="17520" y="13217"/>
                  <a:pt x="17512" y="13295"/>
                </a:cubicBezTo>
                <a:cubicBezTo>
                  <a:pt x="17506" y="13356"/>
                  <a:pt x="17494" y="13459"/>
                  <a:pt x="17512" y="13494"/>
                </a:cubicBezTo>
                <a:cubicBezTo>
                  <a:pt x="17518" y="13449"/>
                  <a:pt x="17524" y="13375"/>
                  <a:pt x="17562" y="13345"/>
                </a:cubicBezTo>
                <a:cubicBezTo>
                  <a:pt x="17634" y="13289"/>
                  <a:pt x="17672" y="13286"/>
                  <a:pt x="17760" y="13320"/>
                </a:cubicBezTo>
                <a:cubicBezTo>
                  <a:pt x="17833" y="13348"/>
                  <a:pt x="17856" y="13449"/>
                  <a:pt x="17859" y="13519"/>
                </a:cubicBezTo>
                <a:cubicBezTo>
                  <a:pt x="17863" y="13615"/>
                  <a:pt x="17851" y="13680"/>
                  <a:pt x="17810" y="13767"/>
                </a:cubicBezTo>
                <a:cubicBezTo>
                  <a:pt x="17767" y="13856"/>
                  <a:pt x="17712" y="13854"/>
                  <a:pt x="17636" y="13891"/>
                </a:cubicBezTo>
                <a:cubicBezTo>
                  <a:pt x="17581" y="13918"/>
                  <a:pt x="17521" y="13920"/>
                  <a:pt x="17462" y="13940"/>
                </a:cubicBezTo>
                <a:cubicBezTo>
                  <a:pt x="17435" y="13949"/>
                  <a:pt x="17289" y="13998"/>
                  <a:pt x="17289" y="13915"/>
                </a:cubicBezTo>
                <a:cubicBezTo>
                  <a:pt x="17297" y="13907"/>
                  <a:pt x="17306" y="13899"/>
                  <a:pt x="17314" y="138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Ink 10"/>
          <p:cNvSpPr/>
          <p:nvPr/>
        </p:nvSpPr>
        <p:spPr>
          <a:xfrm>
            <a:off x="6027840" y="5348160"/>
            <a:ext cx="563400" cy="768600"/>
          </a:xfrm>
          <a:custGeom>
            <a:avLst/>
            <a:gdLst/>
            <a:ahLst/>
            <a:rect l="l" t="t" r="r" b="b"/>
            <a:pathLst>
              <a:path w="1564" h="2134">
                <a:moveTo>
                  <a:pt x="16743" y="15701"/>
                </a:moveTo>
                <a:cubicBezTo>
                  <a:pt x="16849" y="15701"/>
                  <a:pt x="16942" y="15709"/>
                  <a:pt x="17041" y="15726"/>
                </a:cubicBezTo>
                <a:cubicBezTo>
                  <a:pt x="17057" y="15726"/>
                  <a:pt x="17074" y="15726"/>
                  <a:pt x="17090" y="15726"/>
                </a:cubicBezTo>
              </a:path>
              <a:path w="1564" h="2134">
                <a:moveTo>
                  <a:pt x="17363" y="15255"/>
                </a:moveTo>
                <a:cubicBezTo>
                  <a:pt x="17400" y="15355"/>
                  <a:pt x="17426" y="15471"/>
                  <a:pt x="17438" y="15577"/>
                </a:cubicBezTo>
                <a:cubicBezTo>
                  <a:pt x="17447" y="15658"/>
                  <a:pt x="17474" y="15724"/>
                  <a:pt x="17487" y="15801"/>
                </a:cubicBezTo>
                <a:cubicBezTo>
                  <a:pt x="17487" y="15845"/>
                  <a:pt x="17484" y="15859"/>
                  <a:pt x="17512" y="15875"/>
                </a:cubicBezTo>
                <a:cubicBezTo>
                  <a:pt x="17555" y="15804"/>
                  <a:pt x="17525" y="15777"/>
                  <a:pt x="17512" y="15701"/>
                </a:cubicBezTo>
                <a:cubicBezTo>
                  <a:pt x="17487" y="15550"/>
                  <a:pt x="17516" y="15376"/>
                  <a:pt x="17537" y="15230"/>
                </a:cubicBezTo>
                <a:cubicBezTo>
                  <a:pt x="17546" y="15169"/>
                  <a:pt x="17567" y="15131"/>
                  <a:pt x="17611" y="15081"/>
                </a:cubicBezTo>
                <a:cubicBezTo>
                  <a:pt x="17663" y="15022"/>
                  <a:pt x="17695" y="15005"/>
                  <a:pt x="17760" y="14982"/>
                </a:cubicBezTo>
                <a:cubicBezTo>
                  <a:pt x="17840" y="14953"/>
                  <a:pt x="17899" y="14897"/>
                  <a:pt x="17983" y="14883"/>
                </a:cubicBezTo>
                <a:cubicBezTo>
                  <a:pt x="18055" y="14871"/>
                  <a:pt x="18136" y="14862"/>
                  <a:pt x="18207" y="14858"/>
                </a:cubicBezTo>
                <a:cubicBezTo>
                  <a:pt x="18256" y="14858"/>
                  <a:pt x="18273" y="14858"/>
                  <a:pt x="18306" y="14858"/>
                </a:cubicBezTo>
              </a:path>
              <a:path w="1564" h="2134">
                <a:moveTo>
                  <a:pt x="17785" y="15230"/>
                </a:moveTo>
                <a:cubicBezTo>
                  <a:pt x="17790" y="15192"/>
                  <a:pt x="17808" y="15121"/>
                  <a:pt x="17859" y="15106"/>
                </a:cubicBezTo>
                <a:cubicBezTo>
                  <a:pt x="17916" y="15089"/>
                  <a:pt x="17971" y="15154"/>
                  <a:pt x="17983" y="15205"/>
                </a:cubicBezTo>
                <a:cubicBezTo>
                  <a:pt x="18002" y="15286"/>
                  <a:pt x="17985" y="15401"/>
                  <a:pt x="17959" y="15478"/>
                </a:cubicBezTo>
                <a:cubicBezTo>
                  <a:pt x="17937" y="15543"/>
                  <a:pt x="17890" y="15593"/>
                  <a:pt x="17859" y="15652"/>
                </a:cubicBezTo>
                <a:cubicBezTo>
                  <a:pt x="17836" y="15697"/>
                  <a:pt x="17820" y="15716"/>
                  <a:pt x="17785" y="15751"/>
                </a:cubicBezTo>
                <a:cubicBezTo>
                  <a:pt x="17738" y="15704"/>
                  <a:pt x="17691" y="15681"/>
                  <a:pt x="17711" y="15602"/>
                </a:cubicBezTo>
                <a:cubicBezTo>
                  <a:pt x="17718" y="15574"/>
                  <a:pt x="17744" y="15490"/>
                  <a:pt x="17785" y="15478"/>
                </a:cubicBezTo>
                <a:cubicBezTo>
                  <a:pt x="17872" y="15453"/>
                  <a:pt x="17899" y="15567"/>
                  <a:pt x="17909" y="15627"/>
                </a:cubicBezTo>
                <a:cubicBezTo>
                  <a:pt x="17917" y="15675"/>
                  <a:pt x="17924" y="15685"/>
                  <a:pt x="17934" y="15726"/>
                </a:cubicBezTo>
              </a:path>
              <a:path w="1564" h="2134">
                <a:moveTo>
                  <a:pt x="18182" y="15106"/>
                </a:moveTo>
                <a:cubicBezTo>
                  <a:pt x="18173" y="15184"/>
                  <a:pt x="18137" y="15273"/>
                  <a:pt x="18157" y="15354"/>
                </a:cubicBezTo>
                <a:cubicBezTo>
                  <a:pt x="18174" y="15426"/>
                  <a:pt x="18165" y="15505"/>
                  <a:pt x="18182" y="15577"/>
                </a:cubicBezTo>
                <a:cubicBezTo>
                  <a:pt x="18197" y="15640"/>
                  <a:pt x="18190" y="15714"/>
                  <a:pt x="18207" y="15776"/>
                </a:cubicBezTo>
                <a:cubicBezTo>
                  <a:pt x="18219" y="15821"/>
                  <a:pt x="18247" y="15855"/>
                  <a:pt x="18256" y="15900"/>
                </a:cubicBezTo>
              </a:path>
              <a:path w="1564" h="2134">
                <a:moveTo>
                  <a:pt x="17388" y="16098"/>
                </a:moveTo>
                <a:cubicBezTo>
                  <a:pt x="17438" y="16048"/>
                  <a:pt x="17488" y="16010"/>
                  <a:pt x="17562" y="15999"/>
                </a:cubicBezTo>
                <a:cubicBezTo>
                  <a:pt x="17636" y="15988"/>
                  <a:pt x="17687" y="15961"/>
                  <a:pt x="17760" y="15949"/>
                </a:cubicBezTo>
                <a:cubicBezTo>
                  <a:pt x="17836" y="15936"/>
                  <a:pt x="17908" y="15904"/>
                  <a:pt x="17983" y="15900"/>
                </a:cubicBezTo>
                <a:cubicBezTo>
                  <a:pt x="18066" y="15895"/>
                  <a:pt x="18138" y="15904"/>
                  <a:pt x="18207" y="15925"/>
                </a:cubicBezTo>
                <a:cubicBezTo>
                  <a:pt x="18215" y="15925"/>
                  <a:pt x="18223" y="15925"/>
                  <a:pt x="18231" y="15925"/>
                </a:cubicBezTo>
              </a:path>
              <a:path w="1564" h="2134">
                <a:moveTo>
                  <a:pt x="17711" y="16247"/>
                </a:moveTo>
                <a:cubicBezTo>
                  <a:pt x="17664" y="16200"/>
                  <a:pt x="17656" y="16163"/>
                  <a:pt x="17686" y="16098"/>
                </a:cubicBezTo>
                <a:cubicBezTo>
                  <a:pt x="17723" y="16018"/>
                  <a:pt x="17751" y="16003"/>
                  <a:pt x="17835" y="15999"/>
                </a:cubicBezTo>
                <a:cubicBezTo>
                  <a:pt x="17923" y="15995"/>
                  <a:pt x="17913" y="16064"/>
                  <a:pt x="17934" y="16123"/>
                </a:cubicBezTo>
                <a:cubicBezTo>
                  <a:pt x="17963" y="16206"/>
                  <a:pt x="17959" y="16281"/>
                  <a:pt x="17959" y="16371"/>
                </a:cubicBezTo>
                <a:cubicBezTo>
                  <a:pt x="17959" y="16475"/>
                  <a:pt x="17923" y="16569"/>
                  <a:pt x="17909" y="16669"/>
                </a:cubicBezTo>
                <a:cubicBezTo>
                  <a:pt x="17900" y="16734"/>
                  <a:pt x="17867" y="16779"/>
                  <a:pt x="17835" y="16842"/>
                </a:cubicBezTo>
                <a:cubicBezTo>
                  <a:pt x="17813" y="16886"/>
                  <a:pt x="17760" y="16949"/>
                  <a:pt x="17711" y="16942"/>
                </a:cubicBezTo>
                <a:cubicBezTo>
                  <a:pt x="17654" y="16934"/>
                  <a:pt x="17537" y="16896"/>
                  <a:pt x="17537" y="16818"/>
                </a:cubicBezTo>
                <a:cubicBezTo>
                  <a:pt x="17537" y="16770"/>
                  <a:pt x="17620" y="16703"/>
                  <a:pt x="17661" y="16694"/>
                </a:cubicBezTo>
                <a:cubicBezTo>
                  <a:pt x="17748" y="16674"/>
                  <a:pt x="17822" y="16730"/>
                  <a:pt x="17884" y="16768"/>
                </a:cubicBezTo>
                <a:cubicBezTo>
                  <a:pt x="17965" y="16818"/>
                  <a:pt x="17949" y="16848"/>
                  <a:pt x="17983" y="16917"/>
                </a:cubicBezTo>
                <a:cubicBezTo>
                  <a:pt x="18006" y="16963"/>
                  <a:pt x="18049" y="16995"/>
                  <a:pt x="18083" y="16966"/>
                </a:cubicBezTo>
                <a:cubicBezTo>
                  <a:pt x="18099" y="16950"/>
                  <a:pt x="18116" y="16933"/>
                  <a:pt x="18132" y="169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Ink 11"/>
          <p:cNvSpPr/>
          <p:nvPr/>
        </p:nvSpPr>
        <p:spPr>
          <a:xfrm>
            <a:off x="5153040" y="3670200"/>
            <a:ext cx="714240" cy="1339920"/>
          </a:xfrm>
          <a:custGeom>
            <a:avLst/>
            <a:gdLst/>
            <a:ahLst/>
            <a:rect l="l" t="t" r="r" b="b"/>
            <a:pathLst>
              <a:path w="1986" h="3721">
                <a:moveTo>
                  <a:pt x="15131" y="10269"/>
                </a:moveTo>
                <a:cubicBezTo>
                  <a:pt x="15131" y="10299"/>
                  <a:pt x="15125" y="10343"/>
                  <a:pt x="15131" y="10393"/>
                </a:cubicBezTo>
                <a:cubicBezTo>
                  <a:pt x="15101" y="10352"/>
                  <a:pt x="15074" y="10301"/>
                  <a:pt x="15032" y="10269"/>
                </a:cubicBezTo>
                <a:cubicBezTo>
                  <a:pt x="14979" y="10228"/>
                  <a:pt x="14924" y="10199"/>
                  <a:pt x="14858" y="10195"/>
                </a:cubicBezTo>
                <a:cubicBezTo>
                  <a:pt x="14776" y="10190"/>
                  <a:pt x="14638" y="10270"/>
                  <a:pt x="14585" y="10319"/>
                </a:cubicBezTo>
                <a:cubicBezTo>
                  <a:pt x="14538" y="10362"/>
                  <a:pt x="14486" y="10457"/>
                  <a:pt x="14461" y="10517"/>
                </a:cubicBezTo>
                <a:cubicBezTo>
                  <a:pt x="14433" y="10583"/>
                  <a:pt x="14436" y="10600"/>
                  <a:pt x="14461" y="10666"/>
                </a:cubicBezTo>
                <a:cubicBezTo>
                  <a:pt x="14479" y="10713"/>
                  <a:pt x="14520" y="10759"/>
                  <a:pt x="14560" y="10790"/>
                </a:cubicBezTo>
                <a:cubicBezTo>
                  <a:pt x="14637" y="10850"/>
                  <a:pt x="14752" y="10844"/>
                  <a:pt x="14833" y="10889"/>
                </a:cubicBezTo>
                <a:cubicBezTo>
                  <a:pt x="14906" y="10930"/>
                  <a:pt x="15052" y="11001"/>
                  <a:pt x="15106" y="11063"/>
                </a:cubicBezTo>
                <a:cubicBezTo>
                  <a:pt x="15149" y="11112"/>
                  <a:pt x="15181" y="11176"/>
                  <a:pt x="15205" y="11237"/>
                </a:cubicBezTo>
                <a:cubicBezTo>
                  <a:pt x="15228" y="11296"/>
                  <a:pt x="15228" y="11342"/>
                  <a:pt x="15205" y="11410"/>
                </a:cubicBezTo>
                <a:cubicBezTo>
                  <a:pt x="15184" y="11473"/>
                  <a:pt x="15114" y="11557"/>
                  <a:pt x="15056" y="11584"/>
                </a:cubicBezTo>
                <a:cubicBezTo>
                  <a:pt x="14962" y="11627"/>
                  <a:pt x="14862" y="11668"/>
                  <a:pt x="14759" y="11683"/>
                </a:cubicBezTo>
                <a:cubicBezTo>
                  <a:pt x="14668" y="11697"/>
                  <a:pt x="14593" y="11672"/>
                  <a:pt x="14511" y="11658"/>
                </a:cubicBezTo>
                <a:cubicBezTo>
                  <a:pt x="14453" y="11648"/>
                  <a:pt x="14397" y="11643"/>
                  <a:pt x="14362" y="11584"/>
                </a:cubicBezTo>
                <a:cubicBezTo>
                  <a:pt x="14329" y="11529"/>
                  <a:pt x="14337" y="11478"/>
                  <a:pt x="14337" y="11410"/>
                </a:cubicBezTo>
              </a:path>
              <a:path w="1986" h="3721">
                <a:moveTo>
                  <a:pt x="15478" y="11162"/>
                </a:moveTo>
                <a:cubicBezTo>
                  <a:pt x="15493" y="11261"/>
                  <a:pt x="15464" y="11552"/>
                  <a:pt x="15503" y="11460"/>
                </a:cubicBezTo>
                <a:cubicBezTo>
                  <a:pt x="15511" y="11427"/>
                  <a:pt x="15520" y="11394"/>
                  <a:pt x="15528" y="11361"/>
                </a:cubicBezTo>
              </a:path>
              <a:path w="1986" h="3721">
                <a:moveTo>
                  <a:pt x="15627" y="10666"/>
                </a:moveTo>
                <a:cubicBezTo>
                  <a:pt x="15619" y="10649"/>
                  <a:pt x="15610" y="10633"/>
                  <a:pt x="15602" y="10616"/>
                </a:cubicBezTo>
              </a:path>
              <a:path w="1986" h="3721">
                <a:moveTo>
                  <a:pt x="15825" y="11137"/>
                </a:moveTo>
                <a:cubicBezTo>
                  <a:pt x="15806" y="11309"/>
                  <a:pt x="15785" y="11334"/>
                  <a:pt x="15751" y="11460"/>
                </a:cubicBezTo>
                <a:cubicBezTo>
                  <a:pt x="15751" y="11476"/>
                  <a:pt x="15751" y="11493"/>
                  <a:pt x="15751" y="11509"/>
                </a:cubicBezTo>
                <a:cubicBezTo>
                  <a:pt x="15718" y="11455"/>
                  <a:pt x="15726" y="11404"/>
                  <a:pt x="15726" y="11336"/>
                </a:cubicBezTo>
                <a:cubicBezTo>
                  <a:pt x="15726" y="11246"/>
                  <a:pt x="15740" y="11177"/>
                  <a:pt x="15751" y="11088"/>
                </a:cubicBezTo>
                <a:cubicBezTo>
                  <a:pt x="15759" y="11024"/>
                  <a:pt x="15767" y="10946"/>
                  <a:pt x="15801" y="10889"/>
                </a:cubicBezTo>
                <a:cubicBezTo>
                  <a:pt x="15828" y="10845"/>
                  <a:pt x="15896" y="10777"/>
                  <a:pt x="15949" y="10790"/>
                </a:cubicBezTo>
                <a:cubicBezTo>
                  <a:pt x="15997" y="10801"/>
                  <a:pt x="16077" y="10873"/>
                  <a:pt x="16098" y="10914"/>
                </a:cubicBezTo>
                <a:cubicBezTo>
                  <a:pt x="16149" y="11015"/>
                  <a:pt x="16165" y="11087"/>
                  <a:pt x="16197" y="11187"/>
                </a:cubicBezTo>
                <a:cubicBezTo>
                  <a:pt x="16219" y="11258"/>
                  <a:pt x="16222" y="11308"/>
                  <a:pt x="16222" y="11385"/>
                </a:cubicBezTo>
                <a:cubicBezTo>
                  <a:pt x="16222" y="11436"/>
                  <a:pt x="16241" y="11495"/>
                  <a:pt x="16272" y="11534"/>
                </a:cubicBezTo>
                <a:cubicBezTo>
                  <a:pt x="16280" y="11542"/>
                  <a:pt x="16289" y="11551"/>
                  <a:pt x="16297" y="11559"/>
                </a:cubicBezTo>
              </a:path>
              <a:path w="1986" h="3721">
                <a:moveTo>
                  <a:pt x="15056" y="12254"/>
                </a:moveTo>
                <a:cubicBezTo>
                  <a:pt x="15088" y="12337"/>
                  <a:pt x="15086" y="12338"/>
                  <a:pt x="15032" y="12402"/>
                </a:cubicBezTo>
                <a:cubicBezTo>
                  <a:pt x="15024" y="12410"/>
                  <a:pt x="15015" y="12419"/>
                  <a:pt x="15007" y="12427"/>
                </a:cubicBezTo>
                <a:cubicBezTo>
                  <a:pt x="14930" y="12376"/>
                  <a:pt x="14844" y="12319"/>
                  <a:pt x="14759" y="12303"/>
                </a:cubicBezTo>
                <a:cubicBezTo>
                  <a:pt x="14651" y="12283"/>
                  <a:pt x="14576" y="12315"/>
                  <a:pt x="14486" y="12378"/>
                </a:cubicBezTo>
                <a:cubicBezTo>
                  <a:pt x="14425" y="12421"/>
                  <a:pt x="14373" y="12529"/>
                  <a:pt x="14362" y="12601"/>
                </a:cubicBezTo>
                <a:cubicBezTo>
                  <a:pt x="14335" y="12772"/>
                  <a:pt x="14312" y="12917"/>
                  <a:pt x="14312" y="13097"/>
                </a:cubicBezTo>
                <a:cubicBezTo>
                  <a:pt x="14312" y="13227"/>
                  <a:pt x="14322" y="13342"/>
                  <a:pt x="14337" y="13469"/>
                </a:cubicBezTo>
                <a:cubicBezTo>
                  <a:pt x="14348" y="13560"/>
                  <a:pt x="14376" y="13655"/>
                  <a:pt x="14387" y="13742"/>
                </a:cubicBezTo>
                <a:cubicBezTo>
                  <a:pt x="14395" y="13803"/>
                  <a:pt x="14390" y="13882"/>
                  <a:pt x="14461" y="13915"/>
                </a:cubicBezTo>
                <a:cubicBezTo>
                  <a:pt x="14521" y="13943"/>
                  <a:pt x="14575" y="13872"/>
                  <a:pt x="14610" y="13841"/>
                </a:cubicBezTo>
              </a:path>
              <a:path w="1986" h="3721">
                <a:moveTo>
                  <a:pt x="15032" y="13146"/>
                </a:moveTo>
                <a:cubicBezTo>
                  <a:pt x="15008" y="13222"/>
                  <a:pt x="14986" y="13297"/>
                  <a:pt x="14957" y="13370"/>
                </a:cubicBezTo>
              </a:path>
              <a:path w="1986" h="3721">
                <a:moveTo>
                  <a:pt x="15007" y="13742"/>
                </a:moveTo>
                <a:cubicBezTo>
                  <a:pt x="15090" y="13755"/>
                  <a:pt x="15146" y="13774"/>
                  <a:pt x="15205" y="13692"/>
                </a:cubicBezTo>
                <a:cubicBezTo>
                  <a:pt x="15253" y="13625"/>
                  <a:pt x="15301" y="13524"/>
                  <a:pt x="15304" y="13444"/>
                </a:cubicBezTo>
                <a:cubicBezTo>
                  <a:pt x="15308" y="13350"/>
                  <a:pt x="15300" y="13321"/>
                  <a:pt x="15255" y="13246"/>
                </a:cubicBezTo>
                <a:cubicBezTo>
                  <a:pt x="15204" y="13160"/>
                  <a:pt x="15179" y="13154"/>
                  <a:pt x="15081" y="13196"/>
                </a:cubicBezTo>
                <a:cubicBezTo>
                  <a:pt x="15028" y="13218"/>
                  <a:pt x="14983" y="13254"/>
                  <a:pt x="14932" y="13271"/>
                </a:cubicBezTo>
              </a:path>
              <a:path w="1986" h="3721">
                <a:moveTo>
                  <a:pt x="15701" y="13072"/>
                </a:moveTo>
                <a:cubicBezTo>
                  <a:pt x="15722" y="13113"/>
                  <a:pt x="15709" y="13147"/>
                  <a:pt x="15677" y="13196"/>
                </a:cubicBezTo>
                <a:cubicBezTo>
                  <a:pt x="15627" y="13273"/>
                  <a:pt x="15559" y="13322"/>
                  <a:pt x="15503" y="13395"/>
                </a:cubicBezTo>
                <a:cubicBezTo>
                  <a:pt x="15454" y="13458"/>
                  <a:pt x="15440" y="13435"/>
                  <a:pt x="15503" y="13395"/>
                </a:cubicBezTo>
                <a:cubicBezTo>
                  <a:pt x="15554" y="13363"/>
                  <a:pt x="15638" y="13321"/>
                  <a:pt x="15701" y="13345"/>
                </a:cubicBezTo>
                <a:cubicBezTo>
                  <a:pt x="15736" y="13358"/>
                  <a:pt x="15828" y="13420"/>
                  <a:pt x="15825" y="13469"/>
                </a:cubicBezTo>
                <a:cubicBezTo>
                  <a:pt x="15819" y="13581"/>
                  <a:pt x="15715" y="13699"/>
                  <a:pt x="15652" y="13791"/>
                </a:cubicBezTo>
                <a:cubicBezTo>
                  <a:pt x="15606" y="13858"/>
                  <a:pt x="15586" y="13870"/>
                  <a:pt x="15528" y="139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Ink 12"/>
          <p:cNvSpPr/>
          <p:nvPr/>
        </p:nvSpPr>
        <p:spPr>
          <a:xfrm>
            <a:off x="5000760" y="5429160"/>
            <a:ext cx="830160" cy="608040"/>
          </a:xfrm>
          <a:custGeom>
            <a:avLst/>
            <a:gdLst/>
            <a:ahLst/>
            <a:rect l="l" t="t" r="r" b="b"/>
            <a:pathLst>
              <a:path w="2307" h="1688">
                <a:moveTo>
                  <a:pt x="14387" y="15180"/>
                </a:moveTo>
                <a:cubicBezTo>
                  <a:pt x="14359" y="15235"/>
                  <a:pt x="14344" y="15338"/>
                  <a:pt x="14337" y="15404"/>
                </a:cubicBezTo>
                <a:cubicBezTo>
                  <a:pt x="14324" y="15533"/>
                  <a:pt x="14352" y="15650"/>
                  <a:pt x="14362" y="15776"/>
                </a:cubicBezTo>
                <a:cubicBezTo>
                  <a:pt x="14374" y="15929"/>
                  <a:pt x="14442" y="16698"/>
                  <a:pt x="14337" y="16768"/>
                </a:cubicBezTo>
              </a:path>
              <a:path w="2307" h="1688">
                <a:moveTo>
                  <a:pt x="13891" y="15429"/>
                </a:moveTo>
                <a:cubicBezTo>
                  <a:pt x="13936" y="15382"/>
                  <a:pt x="13978" y="15329"/>
                  <a:pt x="14039" y="15304"/>
                </a:cubicBezTo>
                <a:cubicBezTo>
                  <a:pt x="14149" y="15260"/>
                  <a:pt x="14246" y="15223"/>
                  <a:pt x="14362" y="15180"/>
                </a:cubicBezTo>
                <a:cubicBezTo>
                  <a:pt x="14436" y="15153"/>
                  <a:pt x="14510" y="15151"/>
                  <a:pt x="14585" y="15131"/>
                </a:cubicBezTo>
                <a:cubicBezTo>
                  <a:pt x="14669" y="15109"/>
                  <a:pt x="14749" y="15092"/>
                  <a:pt x="14833" y="15081"/>
                </a:cubicBezTo>
              </a:path>
              <a:path w="2307" h="1688">
                <a:moveTo>
                  <a:pt x="15180" y="15850"/>
                </a:moveTo>
                <a:cubicBezTo>
                  <a:pt x="15168" y="15951"/>
                  <a:pt x="15161" y="15970"/>
                  <a:pt x="15056" y="15974"/>
                </a:cubicBezTo>
                <a:cubicBezTo>
                  <a:pt x="14949" y="15978"/>
                  <a:pt x="14892" y="15956"/>
                  <a:pt x="14808" y="16024"/>
                </a:cubicBezTo>
                <a:cubicBezTo>
                  <a:pt x="14765" y="16058"/>
                  <a:pt x="14741" y="16147"/>
                  <a:pt x="14734" y="16197"/>
                </a:cubicBezTo>
                <a:cubicBezTo>
                  <a:pt x="14723" y="16281"/>
                  <a:pt x="14692" y="16383"/>
                  <a:pt x="14709" y="16470"/>
                </a:cubicBezTo>
                <a:cubicBezTo>
                  <a:pt x="14718" y="16517"/>
                  <a:pt x="14744" y="16686"/>
                  <a:pt x="14784" y="16718"/>
                </a:cubicBezTo>
                <a:cubicBezTo>
                  <a:pt x="14800" y="16718"/>
                  <a:pt x="14817" y="16718"/>
                  <a:pt x="14833" y="16718"/>
                </a:cubicBezTo>
                <a:cubicBezTo>
                  <a:pt x="14889" y="16679"/>
                  <a:pt x="14940" y="16620"/>
                  <a:pt x="14957" y="16545"/>
                </a:cubicBezTo>
                <a:cubicBezTo>
                  <a:pt x="14977" y="16454"/>
                  <a:pt x="14968" y="16350"/>
                  <a:pt x="15007" y="16272"/>
                </a:cubicBezTo>
                <a:cubicBezTo>
                  <a:pt x="15042" y="16364"/>
                  <a:pt x="15015" y="16448"/>
                  <a:pt x="15032" y="16545"/>
                </a:cubicBezTo>
                <a:cubicBezTo>
                  <a:pt x="15052" y="16662"/>
                  <a:pt x="15114" y="16612"/>
                  <a:pt x="15131" y="16545"/>
                </a:cubicBezTo>
              </a:path>
              <a:path w="2307" h="1688">
                <a:moveTo>
                  <a:pt x="15329" y="16321"/>
                </a:moveTo>
                <a:cubicBezTo>
                  <a:pt x="15333" y="16421"/>
                  <a:pt x="15326" y="16568"/>
                  <a:pt x="15354" y="16669"/>
                </a:cubicBezTo>
                <a:cubicBezTo>
                  <a:pt x="15394" y="16812"/>
                  <a:pt x="15379" y="16740"/>
                  <a:pt x="15379" y="16619"/>
                </a:cubicBezTo>
                <a:cubicBezTo>
                  <a:pt x="15379" y="16458"/>
                  <a:pt x="15387" y="16304"/>
                  <a:pt x="15404" y="16148"/>
                </a:cubicBezTo>
                <a:cubicBezTo>
                  <a:pt x="15415" y="16045"/>
                  <a:pt x="15441" y="15949"/>
                  <a:pt x="15478" y="15850"/>
                </a:cubicBezTo>
                <a:cubicBezTo>
                  <a:pt x="15497" y="15801"/>
                  <a:pt x="15569" y="15701"/>
                  <a:pt x="15627" y="15701"/>
                </a:cubicBezTo>
                <a:cubicBezTo>
                  <a:pt x="15700" y="15701"/>
                  <a:pt x="15813" y="15799"/>
                  <a:pt x="15850" y="15850"/>
                </a:cubicBezTo>
                <a:cubicBezTo>
                  <a:pt x="15936" y="15970"/>
                  <a:pt x="15924" y="16115"/>
                  <a:pt x="15974" y="16247"/>
                </a:cubicBezTo>
                <a:cubicBezTo>
                  <a:pt x="15991" y="16280"/>
                  <a:pt x="16007" y="16313"/>
                  <a:pt x="16024" y="16346"/>
                </a:cubicBezTo>
              </a:path>
              <a:path w="2307" h="1688">
                <a:moveTo>
                  <a:pt x="16098" y="15652"/>
                </a:moveTo>
                <a:cubicBezTo>
                  <a:pt x="16106" y="15652"/>
                  <a:pt x="16115" y="15652"/>
                  <a:pt x="16123" y="15652"/>
                </a:cubicBezTo>
              </a:path>
              <a:path w="2307" h="1688">
                <a:moveTo>
                  <a:pt x="16049" y="16049"/>
                </a:moveTo>
                <a:cubicBezTo>
                  <a:pt x="16086" y="16086"/>
                  <a:pt x="16149" y="16024"/>
                  <a:pt x="16197" y="159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Ink 13"/>
          <p:cNvSpPr/>
          <p:nvPr/>
        </p:nvSpPr>
        <p:spPr>
          <a:xfrm>
            <a:off x="7947000" y="3276720"/>
            <a:ext cx="1036800" cy="1608120"/>
          </a:xfrm>
          <a:custGeom>
            <a:avLst/>
            <a:gdLst/>
            <a:ahLst/>
            <a:rect l="l" t="t" r="r" b="b"/>
            <a:pathLst>
              <a:path w="2879" h="4466">
                <a:moveTo>
                  <a:pt x="23292" y="9327"/>
                </a:moveTo>
                <a:lnTo>
                  <a:pt x="23292" y="9327"/>
                </a:lnTo>
              </a:path>
              <a:path w="2879" h="4466">
                <a:moveTo>
                  <a:pt x="23292" y="9327"/>
                </a:moveTo>
                <a:lnTo>
                  <a:pt x="23292" y="9327"/>
                </a:lnTo>
              </a:path>
              <a:path w="2879" h="4466">
                <a:moveTo>
                  <a:pt x="23242" y="9302"/>
                </a:moveTo>
                <a:cubicBezTo>
                  <a:pt x="23424" y="9302"/>
                  <a:pt x="23606" y="9302"/>
                  <a:pt x="23788" y="9302"/>
                </a:cubicBezTo>
              </a:path>
              <a:path w="2879" h="4466">
                <a:moveTo>
                  <a:pt x="23292" y="9327"/>
                </a:moveTo>
                <a:cubicBezTo>
                  <a:pt x="23252" y="9405"/>
                  <a:pt x="23258" y="9501"/>
                  <a:pt x="23267" y="9575"/>
                </a:cubicBezTo>
                <a:cubicBezTo>
                  <a:pt x="23275" y="9643"/>
                  <a:pt x="23264" y="9715"/>
                  <a:pt x="23292" y="9773"/>
                </a:cubicBezTo>
                <a:cubicBezTo>
                  <a:pt x="23300" y="9781"/>
                  <a:pt x="23308" y="9790"/>
                  <a:pt x="23316" y="9798"/>
                </a:cubicBezTo>
                <a:cubicBezTo>
                  <a:pt x="23382" y="9732"/>
                  <a:pt x="23426" y="9723"/>
                  <a:pt x="23515" y="9748"/>
                </a:cubicBezTo>
                <a:cubicBezTo>
                  <a:pt x="23597" y="9771"/>
                  <a:pt x="23641" y="9795"/>
                  <a:pt x="23688" y="9847"/>
                </a:cubicBezTo>
                <a:cubicBezTo>
                  <a:pt x="23735" y="9899"/>
                  <a:pt x="23759" y="9952"/>
                  <a:pt x="23763" y="10021"/>
                </a:cubicBezTo>
                <a:cubicBezTo>
                  <a:pt x="23769" y="10122"/>
                  <a:pt x="23719" y="10215"/>
                  <a:pt x="23639" y="10269"/>
                </a:cubicBezTo>
                <a:cubicBezTo>
                  <a:pt x="23580" y="10309"/>
                  <a:pt x="23524" y="10324"/>
                  <a:pt x="23465" y="10344"/>
                </a:cubicBezTo>
                <a:cubicBezTo>
                  <a:pt x="23412" y="10362"/>
                  <a:pt x="23326" y="10390"/>
                  <a:pt x="23267" y="10368"/>
                </a:cubicBezTo>
                <a:cubicBezTo>
                  <a:pt x="23259" y="10360"/>
                  <a:pt x="23250" y="10352"/>
                  <a:pt x="23242" y="10344"/>
                </a:cubicBezTo>
              </a:path>
              <a:path w="2879" h="4466">
                <a:moveTo>
                  <a:pt x="22994" y="10393"/>
                </a:moveTo>
                <a:cubicBezTo>
                  <a:pt x="23075" y="10393"/>
                  <a:pt x="23143" y="10406"/>
                  <a:pt x="23217" y="10418"/>
                </a:cubicBezTo>
                <a:cubicBezTo>
                  <a:pt x="23305" y="10432"/>
                  <a:pt x="23380" y="10400"/>
                  <a:pt x="23465" y="10393"/>
                </a:cubicBezTo>
                <a:cubicBezTo>
                  <a:pt x="23592" y="10383"/>
                  <a:pt x="23713" y="10372"/>
                  <a:pt x="23837" y="10368"/>
                </a:cubicBezTo>
                <a:cubicBezTo>
                  <a:pt x="23964" y="10364"/>
                  <a:pt x="24140" y="10334"/>
                  <a:pt x="24259" y="10344"/>
                </a:cubicBezTo>
                <a:cubicBezTo>
                  <a:pt x="24308" y="10348"/>
                  <a:pt x="24436" y="10353"/>
                  <a:pt x="24482" y="10368"/>
                </a:cubicBezTo>
                <a:cubicBezTo>
                  <a:pt x="24510" y="10396"/>
                  <a:pt x="24524" y="10405"/>
                  <a:pt x="24557" y="10393"/>
                </a:cubicBezTo>
              </a:path>
              <a:path w="2879" h="4466">
                <a:moveTo>
                  <a:pt x="24085" y="9599"/>
                </a:moveTo>
                <a:cubicBezTo>
                  <a:pt x="24085" y="9677"/>
                  <a:pt x="24106" y="9729"/>
                  <a:pt x="24110" y="9798"/>
                </a:cubicBezTo>
                <a:cubicBezTo>
                  <a:pt x="24116" y="9897"/>
                  <a:pt x="24110" y="9997"/>
                  <a:pt x="24110" y="10096"/>
                </a:cubicBezTo>
                <a:cubicBezTo>
                  <a:pt x="24110" y="10001"/>
                  <a:pt x="24090" y="9916"/>
                  <a:pt x="24085" y="9823"/>
                </a:cubicBezTo>
                <a:cubicBezTo>
                  <a:pt x="24077" y="9660"/>
                  <a:pt x="24056" y="9456"/>
                  <a:pt x="24110" y="9302"/>
                </a:cubicBezTo>
                <a:cubicBezTo>
                  <a:pt x="24135" y="9229"/>
                  <a:pt x="24202" y="9226"/>
                  <a:pt x="24259" y="9203"/>
                </a:cubicBezTo>
                <a:cubicBezTo>
                  <a:pt x="24316" y="9180"/>
                  <a:pt x="24406" y="9163"/>
                  <a:pt x="24457" y="9153"/>
                </a:cubicBezTo>
                <a:cubicBezTo>
                  <a:pt x="24513" y="9142"/>
                  <a:pt x="24584" y="9138"/>
                  <a:pt x="24631" y="9128"/>
                </a:cubicBezTo>
                <a:cubicBezTo>
                  <a:pt x="24711" y="9112"/>
                  <a:pt x="24776" y="9133"/>
                  <a:pt x="24854" y="9103"/>
                </a:cubicBezTo>
              </a:path>
              <a:path w="2879" h="4466">
                <a:moveTo>
                  <a:pt x="24507" y="9500"/>
                </a:moveTo>
                <a:cubicBezTo>
                  <a:pt x="24426" y="9541"/>
                  <a:pt x="24536" y="9447"/>
                  <a:pt x="24557" y="9426"/>
                </a:cubicBezTo>
                <a:cubicBezTo>
                  <a:pt x="24565" y="9418"/>
                  <a:pt x="24573" y="9409"/>
                  <a:pt x="24581" y="9401"/>
                </a:cubicBezTo>
                <a:cubicBezTo>
                  <a:pt x="24627" y="9447"/>
                  <a:pt x="24653" y="9459"/>
                  <a:pt x="24656" y="9525"/>
                </a:cubicBezTo>
                <a:cubicBezTo>
                  <a:pt x="24660" y="9616"/>
                  <a:pt x="24668" y="9715"/>
                  <a:pt x="24631" y="9798"/>
                </a:cubicBezTo>
                <a:cubicBezTo>
                  <a:pt x="24597" y="9874"/>
                  <a:pt x="24593" y="9929"/>
                  <a:pt x="24532" y="9996"/>
                </a:cubicBezTo>
                <a:cubicBezTo>
                  <a:pt x="24524" y="10004"/>
                  <a:pt x="24515" y="10013"/>
                  <a:pt x="24507" y="10021"/>
                </a:cubicBezTo>
                <a:cubicBezTo>
                  <a:pt x="24459" y="9973"/>
                  <a:pt x="24433" y="9922"/>
                  <a:pt x="24457" y="9847"/>
                </a:cubicBezTo>
                <a:cubicBezTo>
                  <a:pt x="24482" y="9823"/>
                  <a:pt x="24491" y="9815"/>
                  <a:pt x="24507" y="9798"/>
                </a:cubicBezTo>
                <a:cubicBezTo>
                  <a:pt x="24538" y="9828"/>
                  <a:pt x="24583" y="9861"/>
                  <a:pt x="24606" y="9897"/>
                </a:cubicBezTo>
                <a:cubicBezTo>
                  <a:pt x="24633" y="9940"/>
                  <a:pt x="24661" y="10019"/>
                  <a:pt x="24730" y="9996"/>
                </a:cubicBezTo>
                <a:cubicBezTo>
                  <a:pt x="24760" y="9966"/>
                  <a:pt x="24774" y="9955"/>
                  <a:pt x="24805" y="9947"/>
                </a:cubicBezTo>
              </a:path>
              <a:path w="2879" h="4466">
                <a:moveTo>
                  <a:pt x="24954" y="9376"/>
                </a:moveTo>
                <a:cubicBezTo>
                  <a:pt x="24946" y="9360"/>
                  <a:pt x="24937" y="9343"/>
                  <a:pt x="24929" y="9327"/>
                </a:cubicBezTo>
                <a:cubicBezTo>
                  <a:pt x="24899" y="9376"/>
                  <a:pt x="24883" y="9437"/>
                  <a:pt x="24879" y="9500"/>
                </a:cubicBezTo>
                <a:cubicBezTo>
                  <a:pt x="24869" y="9678"/>
                  <a:pt x="24843" y="9930"/>
                  <a:pt x="24904" y="10096"/>
                </a:cubicBezTo>
                <a:cubicBezTo>
                  <a:pt x="24912" y="10112"/>
                  <a:pt x="24921" y="10129"/>
                  <a:pt x="24929" y="10145"/>
                </a:cubicBezTo>
              </a:path>
              <a:path w="2879" h="4466">
                <a:moveTo>
                  <a:pt x="23713" y="10815"/>
                </a:moveTo>
                <a:cubicBezTo>
                  <a:pt x="23713" y="10859"/>
                  <a:pt x="23716" y="10873"/>
                  <a:pt x="23688" y="10889"/>
                </a:cubicBezTo>
                <a:cubicBezTo>
                  <a:pt x="23696" y="10824"/>
                  <a:pt x="23709" y="10769"/>
                  <a:pt x="23738" y="10716"/>
                </a:cubicBezTo>
                <a:cubicBezTo>
                  <a:pt x="23762" y="10672"/>
                  <a:pt x="23778" y="10651"/>
                  <a:pt x="23812" y="10616"/>
                </a:cubicBezTo>
                <a:cubicBezTo>
                  <a:pt x="23846" y="10635"/>
                  <a:pt x="23921" y="10674"/>
                  <a:pt x="23937" y="10716"/>
                </a:cubicBezTo>
                <a:cubicBezTo>
                  <a:pt x="23970" y="10806"/>
                  <a:pt x="23982" y="10919"/>
                  <a:pt x="23986" y="11013"/>
                </a:cubicBezTo>
                <a:cubicBezTo>
                  <a:pt x="23989" y="11092"/>
                  <a:pt x="23948" y="11215"/>
                  <a:pt x="23912" y="11286"/>
                </a:cubicBezTo>
                <a:cubicBezTo>
                  <a:pt x="23881" y="11348"/>
                  <a:pt x="23840" y="11371"/>
                  <a:pt x="23788" y="11410"/>
                </a:cubicBezTo>
                <a:cubicBezTo>
                  <a:pt x="23740" y="11446"/>
                  <a:pt x="23712" y="11501"/>
                  <a:pt x="23639" y="11485"/>
                </a:cubicBezTo>
                <a:cubicBezTo>
                  <a:pt x="23577" y="11471"/>
                  <a:pt x="23549" y="11409"/>
                  <a:pt x="23540" y="11361"/>
                </a:cubicBezTo>
                <a:cubicBezTo>
                  <a:pt x="23532" y="11318"/>
                  <a:pt x="23567" y="11204"/>
                  <a:pt x="23614" y="11187"/>
                </a:cubicBezTo>
                <a:cubicBezTo>
                  <a:pt x="23694" y="11159"/>
                  <a:pt x="23739" y="11263"/>
                  <a:pt x="23763" y="11311"/>
                </a:cubicBezTo>
                <a:cubicBezTo>
                  <a:pt x="23792" y="11368"/>
                  <a:pt x="23802" y="11456"/>
                  <a:pt x="23812" y="11509"/>
                </a:cubicBezTo>
                <a:cubicBezTo>
                  <a:pt x="23825" y="11579"/>
                  <a:pt x="23816" y="11559"/>
                  <a:pt x="23887" y="11559"/>
                </a:cubicBezTo>
              </a:path>
              <a:path w="2879" h="4466">
                <a:moveTo>
                  <a:pt x="24259" y="10616"/>
                </a:moveTo>
                <a:cubicBezTo>
                  <a:pt x="24269" y="10716"/>
                  <a:pt x="24284" y="10805"/>
                  <a:pt x="24284" y="10914"/>
                </a:cubicBezTo>
                <a:cubicBezTo>
                  <a:pt x="24284" y="10984"/>
                  <a:pt x="24309" y="11039"/>
                  <a:pt x="24309" y="11112"/>
                </a:cubicBezTo>
                <a:cubicBezTo>
                  <a:pt x="24309" y="11211"/>
                  <a:pt x="24316" y="11290"/>
                  <a:pt x="24333" y="11385"/>
                </a:cubicBezTo>
                <a:cubicBezTo>
                  <a:pt x="24333" y="11393"/>
                  <a:pt x="24333" y="11402"/>
                  <a:pt x="24333" y="11410"/>
                </a:cubicBezTo>
              </a:path>
              <a:path w="2879" h="4466">
                <a:moveTo>
                  <a:pt x="22076" y="12675"/>
                </a:moveTo>
                <a:cubicBezTo>
                  <a:pt x="22126" y="12705"/>
                  <a:pt x="22214" y="12717"/>
                  <a:pt x="22275" y="12725"/>
                </a:cubicBezTo>
                <a:cubicBezTo>
                  <a:pt x="22356" y="12735"/>
                  <a:pt x="22443" y="12746"/>
                  <a:pt x="22523" y="12750"/>
                </a:cubicBezTo>
                <a:cubicBezTo>
                  <a:pt x="22581" y="12750"/>
                  <a:pt x="22606" y="12750"/>
                  <a:pt x="22647" y="12750"/>
                </a:cubicBezTo>
              </a:path>
              <a:path w="2879" h="4466">
                <a:moveTo>
                  <a:pt x="23192" y="11981"/>
                </a:moveTo>
                <a:cubicBezTo>
                  <a:pt x="23277" y="11964"/>
                  <a:pt x="23384" y="11979"/>
                  <a:pt x="23465" y="11956"/>
                </a:cubicBezTo>
                <a:cubicBezTo>
                  <a:pt x="23517" y="11941"/>
                  <a:pt x="23563" y="11925"/>
                  <a:pt x="23614" y="11906"/>
                </a:cubicBezTo>
              </a:path>
              <a:path w="2879" h="4466">
                <a:moveTo>
                  <a:pt x="23217" y="11981"/>
                </a:moveTo>
                <a:cubicBezTo>
                  <a:pt x="23188" y="12082"/>
                  <a:pt x="23168" y="12150"/>
                  <a:pt x="23168" y="12254"/>
                </a:cubicBezTo>
                <a:cubicBezTo>
                  <a:pt x="23168" y="12298"/>
                  <a:pt x="23165" y="12311"/>
                  <a:pt x="23192" y="12328"/>
                </a:cubicBezTo>
                <a:cubicBezTo>
                  <a:pt x="23229" y="12283"/>
                  <a:pt x="23272" y="12221"/>
                  <a:pt x="23341" y="12229"/>
                </a:cubicBezTo>
                <a:cubicBezTo>
                  <a:pt x="23380" y="12233"/>
                  <a:pt x="23524" y="12284"/>
                  <a:pt x="23540" y="12328"/>
                </a:cubicBezTo>
                <a:cubicBezTo>
                  <a:pt x="23568" y="12407"/>
                  <a:pt x="23513" y="12473"/>
                  <a:pt x="23465" y="12526"/>
                </a:cubicBezTo>
                <a:cubicBezTo>
                  <a:pt x="23417" y="12578"/>
                  <a:pt x="23372" y="12581"/>
                  <a:pt x="23316" y="12601"/>
                </a:cubicBezTo>
                <a:cubicBezTo>
                  <a:pt x="23265" y="12619"/>
                  <a:pt x="23223" y="12641"/>
                  <a:pt x="23168" y="12650"/>
                </a:cubicBezTo>
              </a:path>
              <a:path w="2879" h="4466">
                <a:moveTo>
                  <a:pt x="23044" y="12675"/>
                </a:moveTo>
                <a:cubicBezTo>
                  <a:pt x="23143" y="12668"/>
                  <a:pt x="23270" y="12673"/>
                  <a:pt x="23366" y="12650"/>
                </a:cubicBezTo>
                <a:cubicBezTo>
                  <a:pt x="23437" y="12633"/>
                  <a:pt x="23488" y="12626"/>
                  <a:pt x="23564" y="12626"/>
                </a:cubicBezTo>
                <a:cubicBezTo>
                  <a:pt x="23638" y="12626"/>
                  <a:pt x="23754" y="12604"/>
                  <a:pt x="23812" y="12650"/>
                </a:cubicBezTo>
                <a:cubicBezTo>
                  <a:pt x="23835" y="12673"/>
                  <a:pt x="23839" y="12681"/>
                  <a:pt x="23862" y="12675"/>
                </a:cubicBezTo>
              </a:path>
              <a:path w="2879" h="4466">
                <a:moveTo>
                  <a:pt x="23341" y="12948"/>
                </a:moveTo>
                <a:cubicBezTo>
                  <a:pt x="23348" y="12900"/>
                  <a:pt x="23363" y="12849"/>
                  <a:pt x="23416" y="12824"/>
                </a:cubicBezTo>
                <a:cubicBezTo>
                  <a:pt x="23471" y="12798"/>
                  <a:pt x="23575" y="12749"/>
                  <a:pt x="23639" y="12774"/>
                </a:cubicBezTo>
                <a:cubicBezTo>
                  <a:pt x="23706" y="12800"/>
                  <a:pt x="23728" y="12852"/>
                  <a:pt x="23713" y="12923"/>
                </a:cubicBezTo>
                <a:cubicBezTo>
                  <a:pt x="23697" y="12995"/>
                  <a:pt x="23647" y="13056"/>
                  <a:pt x="23614" y="13122"/>
                </a:cubicBezTo>
                <a:cubicBezTo>
                  <a:pt x="23562" y="13225"/>
                  <a:pt x="23546" y="13283"/>
                  <a:pt x="23465" y="13370"/>
                </a:cubicBezTo>
                <a:cubicBezTo>
                  <a:pt x="23410" y="13429"/>
                  <a:pt x="23369" y="13483"/>
                  <a:pt x="23292" y="13494"/>
                </a:cubicBezTo>
                <a:cubicBezTo>
                  <a:pt x="23366" y="13466"/>
                  <a:pt x="23434" y="13433"/>
                  <a:pt x="23515" y="13419"/>
                </a:cubicBezTo>
                <a:cubicBezTo>
                  <a:pt x="23604" y="13403"/>
                  <a:pt x="23707" y="13415"/>
                  <a:pt x="23788" y="13444"/>
                </a:cubicBezTo>
                <a:cubicBezTo>
                  <a:pt x="23861" y="13470"/>
                  <a:pt x="23885" y="13490"/>
                  <a:pt x="23937" y="13543"/>
                </a:cubicBezTo>
                <a:cubicBezTo>
                  <a:pt x="23959" y="13566"/>
                  <a:pt x="23967" y="13577"/>
                  <a:pt x="23961" y="135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Ink 14"/>
          <p:cNvSpPr/>
          <p:nvPr/>
        </p:nvSpPr>
        <p:spPr>
          <a:xfrm>
            <a:off x="8028000" y="5214960"/>
            <a:ext cx="704880" cy="830160"/>
          </a:xfrm>
          <a:custGeom>
            <a:avLst/>
            <a:gdLst/>
            <a:ahLst/>
            <a:rect l="l" t="t" r="r" b="b"/>
            <a:pathLst>
              <a:path w="1961" h="2308">
                <a:moveTo>
                  <a:pt x="22299" y="15577"/>
                </a:moveTo>
                <a:cubicBezTo>
                  <a:pt x="22390" y="15577"/>
                  <a:pt x="22459" y="15557"/>
                  <a:pt x="22547" y="15553"/>
                </a:cubicBezTo>
                <a:cubicBezTo>
                  <a:pt x="22602" y="15550"/>
                  <a:pt x="22676" y="15554"/>
                  <a:pt x="22721" y="15577"/>
                </a:cubicBezTo>
                <a:cubicBezTo>
                  <a:pt x="22746" y="15602"/>
                  <a:pt x="22754" y="15610"/>
                  <a:pt x="22771" y="15577"/>
                </a:cubicBezTo>
              </a:path>
              <a:path w="1961" h="2308">
                <a:moveTo>
                  <a:pt x="23044" y="14734"/>
                </a:moveTo>
                <a:cubicBezTo>
                  <a:pt x="23013" y="14785"/>
                  <a:pt x="23025" y="14832"/>
                  <a:pt x="22994" y="14883"/>
                </a:cubicBezTo>
                <a:cubicBezTo>
                  <a:pt x="23026" y="14830"/>
                  <a:pt x="23019" y="14764"/>
                  <a:pt x="23044" y="14709"/>
                </a:cubicBezTo>
                <a:cubicBezTo>
                  <a:pt x="23064" y="14664"/>
                  <a:pt x="23107" y="14621"/>
                  <a:pt x="23143" y="14585"/>
                </a:cubicBezTo>
                <a:cubicBezTo>
                  <a:pt x="23211" y="14517"/>
                  <a:pt x="23230" y="14585"/>
                  <a:pt x="23267" y="14635"/>
                </a:cubicBezTo>
                <a:cubicBezTo>
                  <a:pt x="23305" y="14686"/>
                  <a:pt x="23313" y="14742"/>
                  <a:pt x="23316" y="14808"/>
                </a:cubicBezTo>
                <a:cubicBezTo>
                  <a:pt x="23321" y="14905"/>
                  <a:pt x="23306" y="14991"/>
                  <a:pt x="23292" y="15081"/>
                </a:cubicBezTo>
                <a:cubicBezTo>
                  <a:pt x="23281" y="15156"/>
                  <a:pt x="23273" y="15261"/>
                  <a:pt x="23242" y="15329"/>
                </a:cubicBezTo>
                <a:cubicBezTo>
                  <a:pt x="23234" y="15346"/>
                  <a:pt x="23205" y="15457"/>
                  <a:pt x="23168" y="15453"/>
                </a:cubicBezTo>
                <a:cubicBezTo>
                  <a:pt x="23114" y="15447"/>
                  <a:pt x="23045" y="15402"/>
                  <a:pt x="23068" y="15329"/>
                </a:cubicBezTo>
                <a:cubicBezTo>
                  <a:pt x="23076" y="15321"/>
                  <a:pt x="23085" y="15312"/>
                  <a:pt x="23093" y="15304"/>
                </a:cubicBezTo>
                <a:cubicBezTo>
                  <a:pt x="23165" y="15313"/>
                  <a:pt x="23191" y="15328"/>
                  <a:pt x="23242" y="15379"/>
                </a:cubicBezTo>
                <a:cubicBezTo>
                  <a:pt x="23280" y="15417"/>
                  <a:pt x="23327" y="15439"/>
                  <a:pt x="23366" y="15478"/>
                </a:cubicBezTo>
              </a:path>
              <a:path w="1961" h="2308">
                <a:moveTo>
                  <a:pt x="22895" y="15652"/>
                </a:moveTo>
                <a:cubicBezTo>
                  <a:pt x="22964" y="15721"/>
                  <a:pt x="22972" y="15726"/>
                  <a:pt x="23068" y="15726"/>
                </a:cubicBezTo>
                <a:cubicBezTo>
                  <a:pt x="23186" y="15726"/>
                  <a:pt x="23280" y="15693"/>
                  <a:pt x="23391" y="15677"/>
                </a:cubicBezTo>
                <a:cubicBezTo>
                  <a:pt x="23462" y="15667"/>
                  <a:pt x="23544" y="15667"/>
                  <a:pt x="23614" y="15652"/>
                </a:cubicBezTo>
                <a:cubicBezTo>
                  <a:pt x="23704" y="15632"/>
                  <a:pt x="23795" y="15614"/>
                  <a:pt x="23887" y="15602"/>
                </a:cubicBezTo>
                <a:cubicBezTo>
                  <a:pt x="23951" y="15594"/>
                  <a:pt x="24011" y="15597"/>
                  <a:pt x="24061" y="15627"/>
                </a:cubicBezTo>
              </a:path>
              <a:path w="1961" h="2308">
                <a:moveTo>
                  <a:pt x="23242" y="16049"/>
                </a:moveTo>
                <a:cubicBezTo>
                  <a:pt x="23273" y="15987"/>
                  <a:pt x="23334" y="15973"/>
                  <a:pt x="23416" y="16024"/>
                </a:cubicBezTo>
                <a:cubicBezTo>
                  <a:pt x="23473" y="16060"/>
                  <a:pt x="23445" y="16153"/>
                  <a:pt x="23440" y="16197"/>
                </a:cubicBezTo>
                <a:cubicBezTo>
                  <a:pt x="23432" y="16265"/>
                  <a:pt x="23437" y="16332"/>
                  <a:pt x="23416" y="16396"/>
                </a:cubicBezTo>
                <a:cubicBezTo>
                  <a:pt x="23391" y="16471"/>
                  <a:pt x="23344" y="16538"/>
                  <a:pt x="23292" y="16594"/>
                </a:cubicBezTo>
                <a:cubicBezTo>
                  <a:pt x="23248" y="16642"/>
                  <a:pt x="23224" y="16664"/>
                  <a:pt x="23168" y="16619"/>
                </a:cubicBezTo>
                <a:cubicBezTo>
                  <a:pt x="23131" y="16589"/>
                  <a:pt x="23129" y="16464"/>
                  <a:pt x="23143" y="16421"/>
                </a:cubicBezTo>
                <a:cubicBezTo>
                  <a:pt x="23165" y="16351"/>
                  <a:pt x="23228" y="16375"/>
                  <a:pt x="23267" y="16396"/>
                </a:cubicBezTo>
                <a:cubicBezTo>
                  <a:pt x="23350" y="16441"/>
                  <a:pt x="23331" y="16492"/>
                  <a:pt x="23366" y="16570"/>
                </a:cubicBezTo>
                <a:cubicBezTo>
                  <a:pt x="23390" y="16622"/>
                  <a:pt x="23396" y="16664"/>
                  <a:pt x="23416" y="16718"/>
                </a:cubicBezTo>
              </a:path>
              <a:path w="1961" h="2308">
                <a:moveTo>
                  <a:pt x="23688" y="16049"/>
                </a:moveTo>
                <a:cubicBezTo>
                  <a:pt x="23666" y="16109"/>
                  <a:pt x="23650" y="16180"/>
                  <a:pt x="23664" y="16247"/>
                </a:cubicBezTo>
                <a:cubicBezTo>
                  <a:pt x="23687" y="16358"/>
                  <a:pt x="23688" y="16455"/>
                  <a:pt x="23688" y="16570"/>
                </a:cubicBezTo>
                <a:cubicBezTo>
                  <a:pt x="23688" y="16648"/>
                  <a:pt x="23707" y="16715"/>
                  <a:pt x="23713" y="16793"/>
                </a:cubicBezTo>
              </a:path>
              <a:path w="1961" h="2308">
                <a:moveTo>
                  <a:pt x="23540" y="15056"/>
                </a:moveTo>
                <a:cubicBezTo>
                  <a:pt x="23521" y="15146"/>
                  <a:pt x="23515" y="15213"/>
                  <a:pt x="23515" y="15304"/>
                </a:cubicBezTo>
                <a:cubicBezTo>
                  <a:pt x="23515" y="15381"/>
                  <a:pt x="23527" y="15440"/>
                  <a:pt x="23540" y="15503"/>
                </a:cubicBezTo>
                <a:cubicBezTo>
                  <a:pt x="23540" y="15520"/>
                  <a:pt x="23540" y="15536"/>
                  <a:pt x="23540" y="15553"/>
                </a:cubicBezTo>
                <a:cubicBezTo>
                  <a:pt x="23534" y="15485"/>
                  <a:pt x="23534" y="15395"/>
                  <a:pt x="23515" y="15329"/>
                </a:cubicBezTo>
                <a:cubicBezTo>
                  <a:pt x="23490" y="15240"/>
                  <a:pt x="23469" y="15153"/>
                  <a:pt x="23465" y="15056"/>
                </a:cubicBezTo>
                <a:cubicBezTo>
                  <a:pt x="23461" y="14964"/>
                  <a:pt x="23476" y="14892"/>
                  <a:pt x="23490" y="14808"/>
                </a:cubicBezTo>
                <a:cubicBezTo>
                  <a:pt x="23502" y="14736"/>
                  <a:pt x="23522" y="14696"/>
                  <a:pt x="23564" y="14635"/>
                </a:cubicBezTo>
                <a:cubicBezTo>
                  <a:pt x="23631" y="14538"/>
                  <a:pt x="23634" y="14538"/>
                  <a:pt x="23738" y="14511"/>
                </a:cubicBezTo>
                <a:cubicBezTo>
                  <a:pt x="23820" y="14489"/>
                  <a:pt x="23904" y="14480"/>
                  <a:pt x="23986" y="14511"/>
                </a:cubicBezTo>
                <a:cubicBezTo>
                  <a:pt x="24021" y="14546"/>
                  <a:pt x="24043" y="14559"/>
                  <a:pt x="24085" y="14560"/>
                </a:cubicBezTo>
              </a:path>
              <a:path w="1961" h="2308">
                <a:moveTo>
                  <a:pt x="23812" y="14982"/>
                </a:moveTo>
                <a:cubicBezTo>
                  <a:pt x="23760" y="15000"/>
                  <a:pt x="23788" y="14925"/>
                  <a:pt x="23788" y="14858"/>
                </a:cubicBezTo>
                <a:cubicBezTo>
                  <a:pt x="23788" y="14803"/>
                  <a:pt x="23806" y="14707"/>
                  <a:pt x="23887" y="14734"/>
                </a:cubicBezTo>
                <a:cubicBezTo>
                  <a:pt x="23940" y="14752"/>
                  <a:pt x="23971" y="14843"/>
                  <a:pt x="23986" y="14883"/>
                </a:cubicBezTo>
                <a:cubicBezTo>
                  <a:pt x="24031" y="15006"/>
                  <a:pt x="24000" y="15105"/>
                  <a:pt x="23986" y="15230"/>
                </a:cubicBezTo>
                <a:cubicBezTo>
                  <a:pt x="23978" y="15299"/>
                  <a:pt x="23960" y="15350"/>
                  <a:pt x="23912" y="15404"/>
                </a:cubicBezTo>
                <a:cubicBezTo>
                  <a:pt x="23887" y="15429"/>
                  <a:pt x="23879" y="15437"/>
                  <a:pt x="23862" y="15453"/>
                </a:cubicBezTo>
                <a:cubicBezTo>
                  <a:pt x="23854" y="15384"/>
                  <a:pt x="23817" y="15301"/>
                  <a:pt x="23837" y="15230"/>
                </a:cubicBezTo>
                <a:cubicBezTo>
                  <a:pt x="23848" y="15191"/>
                  <a:pt x="23862" y="15096"/>
                  <a:pt x="23912" y="15081"/>
                </a:cubicBezTo>
                <a:cubicBezTo>
                  <a:pt x="23928" y="15081"/>
                  <a:pt x="23945" y="15081"/>
                  <a:pt x="23961" y="15081"/>
                </a:cubicBezTo>
                <a:cubicBezTo>
                  <a:pt x="23989" y="15128"/>
                  <a:pt x="24008" y="15173"/>
                  <a:pt x="24011" y="15230"/>
                </a:cubicBezTo>
                <a:cubicBezTo>
                  <a:pt x="24014" y="15282"/>
                  <a:pt x="24025" y="15286"/>
                  <a:pt x="24036" y="15329"/>
                </a:cubicBezTo>
              </a:path>
              <a:path w="1961" h="2308">
                <a:moveTo>
                  <a:pt x="24234" y="14684"/>
                </a:moveTo>
                <a:cubicBezTo>
                  <a:pt x="24234" y="14893"/>
                  <a:pt x="24234" y="15103"/>
                  <a:pt x="24259" y="15304"/>
                </a:cubicBezTo>
                <a:cubicBezTo>
                  <a:pt x="24259" y="15329"/>
                  <a:pt x="24259" y="15354"/>
                  <a:pt x="24259" y="153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Ink 15"/>
          <p:cNvSpPr/>
          <p:nvPr/>
        </p:nvSpPr>
        <p:spPr>
          <a:xfrm>
            <a:off x="8035920" y="395604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22324" y="11013"/>
                </a:moveTo>
                <a:cubicBezTo>
                  <a:pt x="22341" y="11005"/>
                  <a:pt x="22357" y="10996"/>
                  <a:pt x="22374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Ink 16"/>
          <p:cNvSpPr/>
          <p:nvPr/>
        </p:nvSpPr>
        <p:spPr>
          <a:xfrm>
            <a:off x="8055000" y="3857760"/>
            <a:ext cx="44280" cy="9360"/>
          </a:xfrm>
          <a:custGeom>
            <a:avLst/>
            <a:gdLst/>
            <a:ahLst/>
            <a:rect l="l" t="t" r="r" b="b"/>
            <a:pathLst>
              <a:path w="125" h="25">
                <a:moveTo>
                  <a:pt x="22374" y="10716"/>
                </a:moveTo>
                <a:cubicBezTo>
                  <a:pt x="22403" y="10744"/>
                  <a:pt x="22445" y="10721"/>
                  <a:pt x="22498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Ink 17"/>
          <p:cNvSpPr/>
          <p:nvPr/>
        </p:nvSpPr>
        <p:spPr>
          <a:xfrm>
            <a:off x="7358040" y="3510000"/>
            <a:ext cx="635040" cy="544320"/>
          </a:xfrm>
          <a:custGeom>
            <a:avLst/>
            <a:gdLst/>
            <a:ahLst/>
            <a:rect l="l" t="t" r="r" b="b"/>
            <a:pathLst>
              <a:path w="1762" h="1514">
                <a:moveTo>
                  <a:pt x="20861" y="9947"/>
                </a:moveTo>
                <a:cubicBezTo>
                  <a:pt x="20895" y="9989"/>
                  <a:pt x="20920" y="10031"/>
                  <a:pt x="20960" y="10071"/>
                </a:cubicBezTo>
                <a:cubicBezTo>
                  <a:pt x="20954" y="10008"/>
                  <a:pt x="20936" y="9930"/>
                  <a:pt x="20910" y="9872"/>
                </a:cubicBezTo>
                <a:cubicBezTo>
                  <a:pt x="20899" y="9847"/>
                  <a:pt x="20844" y="9755"/>
                  <a:pt x="20811" y="9748"/>
                </a:cubicBezTo>
                <a:cubicBezTo>
                  <a:pt x="20673" y="9719"/>
                  <a:pt x="20670" y="9791"/>
                  <a:pt x="20613" y="9872"/>
                </a:cubicBezTo>
                <a:cubicBezTo>
                  <a:pt x="20549" y="9964"/>
                  <a:pt x="20486" y="9998"/>
                  <a:pt x="20464" y="10120"/>
                </a:cubicBezTo>
                <a:cubicBezTo>
                  <a:pt x="20443" y="10237"/>
                  <a:pt x="20439" y="10348"/>
                  <a:pt x="20439" y="10468"/>
                </a:cubicBezTo>
                <a:cubicBezTo>
                  <a:pt x="20439" y="10569"/>
                  <a:pt x="20446" y="10668"/>
                  <a:pt x="20464" y="10765"/>
                </a:cubicBezTo>
                <a:cubicBezTo>
                  <a:pt x="20489" y="10900"/>
                  <a:pt x="20539" y="10957"/>
                  <a:pt x="20613" y="11063"/>
                </a:cubicBezTo>
                <a:cubicBezTo>
                  <a:pt x="20664" y="11136"/>
                  <a:pt x="20691" y="11197"/>
                  <a:pt x="20786" y="11212"/>
                </a:cubicBezTo>
                <a:cubicBezTo>
                  <a:pt x="20855" y="11223"/>
                  <a:pt x="20856" y="11189"/>
                  <a:pt x="20886" y="11137"/>
                </a:cubicBezTo>
              </a:path>
              <a:path w="1762" h="1514">
                <a:moveTo>
                  <a:pt x="21431" y="10368"/>
                </a:moveTo>
                <a:cubicBezTo>
                  <a:pt x="21387" y="10325"/>
                  <a:pt x="21349" y="10300"/>
                  <a:pt x="21282" y="10319"/>
                </a:cubicBezTo>
                <a:cubicBezTo>
                  <a:pt x="21217" y="10337"/>
                  <a:pt x="21173" y="10421"/>
                  <a:pt x="21134" y="10468"/>
                </a:cubicBezTo>
                <a:cubicBezTo>
                  <a:pt x="21093" y="10517"/>
                  <a:pt x="21063" y="10553"/>
                  <a:pt x="21059" y="10616"/>
                </a:cubicBezTo>
                <a:cubicBezTo>
                  <a:pt x="21054" y="10699"/>
                  <a:pt x="21149" y="10705"/>
                  <a:pt x="21208" y="10716"/>
                </a:cubicBezTo>
                <a:cubicBezTo>
                  <a:pt x="21286" y="10731"/>
                  <a:pt x="21354" y="10719"/>
                  <a:pt x="21406" y="10790"/>
                </a:cubicBezTo>
                <a:cubicBezTo>
                  <a:pt x="21472" y="10879"/>
                  <a:pt x="21501" y="10906"/>
                  <a:pt x="21456" y="11013"/>
                </a:cubicBezTo>
                <a:cubicBezTo>
                  <a:pt x="21416" y="11108"/>
                  <a:pt x="21381" y="11164"/>
                  <a:pt x="21307" y="11237"/>
                </a:cubicBezTo>
                <a:cubicBezTo>
                  <a:pt x="21279" y="11264"/>
                  <a:pt x="21265" y="11272"/>
                  <a:pt x="21233" y="11261"/>
                </a:cubicBezTo>
              </a:path>
              <a:path w="1762" h="1514">
                <a:moveTo>
                  <a:pt x="22027" y="10418"/>
                </a:moveTo>
                <a:cubicBezTo>
                  <a:pt x="22052" y="10435"/>
                  <a:pt x="22076" y="10451"/>
                  <a:pt x="22101" y="10468"/>
                </a:cubicBezTo>
                <a:cubicBezTo>
                  <a:pt x="22036" y="10415"/>
                  <a:pt x="22017" y="10411"/>
                  <a:pt x="21952" y="10468"/>
                </a:cubicBezTo>
                <a:cubicBezTo>
                  <a:pt x="21880" y="10531"/>
                  <a:pt x="21862" y="10543"/>
                  <a:pt x="21828" y="10641"/>
                </a:cubicBezTo>
                <a:cubicBezTo>
                  <a:pt x="21792" y="10745"/>
                  <a:pt x="21745" y="10858"/>
                  <a:pt x="21729" y="10964"/>
                </a:cubicBezTo>
                <a:cubicBezTo>
                  <a:pt x="21717" y="11047"/>
                  <a:pt x="21750" y="11084"/>
                  <a:pt x="21803" y="11137"/>
                </a:cubicBezTo>
                <a:cubicBezTo>
                  <a:pt x="21857" y="11192"/>
                  <a:pt x="21904" y="11187"/>
                  <a:pt x="21977" y="11187"/>
                </a:cubicBezTo>
                <a:cubicBezTo>
                  <a:pt x="22062" y="11187"/>
                  <a:pt x="22118" y="11162"/>
                  <a:pt x="22200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Ink 18"/>
          <p:cNvSpPr/>
          <p:nvPr/>
        </p:nvSpPr>
        <p:spPr>
          <a:xfrm>
            <a:off x="7286760" y="4321080"/>
            <a:ext cx="517320" cy="608040"/>
          </a:xfrm>
          <a:custGeom>
            <a:avLst/>
            <a:gdLst/>
            <a:ahLst/>
            <a:rect l="l" t="t" r="r" b="b"/>
            <a:pathLst>
              <a:path w="1439" h="1688">
                <a:moveTo>
                  <a:pt x="20786" y="12005"/>
                </a:moveTo>
                <a:cubicBezTo>
                  <a:pt x="20716" y="12032"/>
                  <a:pt x="20664" y="12030"/>
                  <a:pt x="20588" y="12030"/>
                </a:cubicBezTo>
                <a:cubicBezTo>
                  <a:pt x="20529" y="12030"/>
                  <a:pt x="20462" y="12090"/>
                  <a:pt x="20414" y="12129"/>
                </a:cubicBezTo>
                <a:cubicBezTo>
                  <a:pt x="20363" y="12171"/>
                  <a:pt x="20320" y="12221"/>
                  <a:pt x="20290" y="12278"/>
                </a:cubicBezTo>
                <a:cubicBezTo>
                  <a:pt x="20259" y="12337"/>
                  <a:pt x="20222" y="12379"/>
                  <a:pt x="20241" y="12452"/>
                </a:cubicBezTo>
                <a:cubicBezTo>
                  <a:pt x="20257" y="12513"/>
                  <a:pt x="20265" y="12560"/>
                  <a:pt x="20315" y="12601"/>
                </a:cubicBezTo>
                <a:cubicBezTo>
                  <a:pt x="20384" y="12658"/>
                  <a:pt x="20588" y="12754"/>
                  <a:pt x="20638" y="12824"/>
                </a:cubicBezTo>
                <a:cubicBezTo>
                  <a:pt x="20682" y="12886"/>
                  <a:pt x="20709" y="12999"/>
                  <a:pt x="20712" y="13072"/>
                </a:cubicBezTo>
                <a:cubicBezTo>
                  <a:pt x="20715" y="13158"/>
                  <a:pt x="20681" y="13295"/>
                  <a:pt x="20638" y="13370"/>
                </a:cubicBezTo>
                <a:cubicBezTo>
                  <a:pt x="20590" y="13452"/>
                  <a:pt x="20522" y="13543"/>
                  <a:pt x="20464" y="13618"/>
                </a:cubicBezTo>
                <a:cubicBezTo>
                  <a:pt x="20392" y="13711"/>
                  <a:pt x="20407" y="13637"/>
                  <a:pt x="20414" y="13568"/>
                </a:cubicBezTo>
                <a:cubicBezTo>
                  <a:pt x="20414" y="13552"/>
                  <a:pt x="20414" y="13535"/>
                  <a:pt x="20414" y="13519"/>
                </a:cubicBezTo>
              </a:path>
              <a:path w="1439" h="1688">
                <a:moveTo>
                  <a:pt x="20687" y="12948"/>
                </a:moveTo>
                <a:cubicBezTo>
                  <a:pt x="20736" y="12928"/>
                  <a:pt x="20858" y="12839"/>
                  <a:pt x="20910" y="12824"/>
                </a:cubicBezTo>
                <a:cubicBezTo>
                  <a:pt x="20949" y="12813"/>
                  <a:pt x="21040" y="12803"/>
                  <a:pt x="21059" y="12750"/>
                </a:cubicBezTo>
                <a:cubicBezTo>
                  <a:pt x="21059" y="12698"/>
                  <a:pt x="21058" y="12680"/>
                  <a:pt x="21034" y="12650"/>
                </a:cubicBezTo>
                <a:cubicBezTo>
                  <a:pt x="20959" y="12660"/>
                  <a:pt x="20907" y="12681"/>
                  <a:pt x="20861" y="12750"/>
                </a:cubicBezTo>
                <a:cubicBezTo>
                  <a:pt x="20813" y="12822"/>
                  <a:pt x="20802" y="12919"/>
                  <a:pt x="20762" y="12998"/>
                </a:cubicBezTo>
                <a:cubicBezTo>
                  <a:pt x="20723" y="13075"/>
                  <a:pt x="20737" y="13161"/>
                  <a:pt x="20737" y="13246"/>
                </a:cubicBezTo>
                <a:cubicBezTo>
                  <a:pt x="20737" y="13333"/>
                  <a:pt x="20756" y="13436"/>
                  <a:pt x="20786" y="13519"/>
                </a:cubicBezTo>
                <a:cubicBezTo>
                  <a:pt x="20803" y="13565"/>
                  <a:pt x="20835" y="13699"/>
                  <a:pt x="20910" y="13692"/>
                </a:cubicBezTo>
                <a:cubicBezTo>
                  <a:pt x="20940" y="13662"/>
                  <a:pt x="20951" y="13648"/>
                  <a:pt x="20960" y="13618"/>
                </a:cubicBezTo>
              </a:path>
              <a:path w="1439" h="1688">
                <a:moveTo>
                  <a:pt x="21307" y="12799"/>
                </a:moveTo>
                <a:cubicBezTo>
                  <a:pt x="21315" y="12791"/>
                  <a:pt x="21324" y="12782"/>
                  <a:pt x="21332" y="12774"/>
                </a:cubicBezTo>
                <a:cubicBezTo>
                  <a:pt x="21285" y="12747"/>
                  <a:pt x="21218" y="12737"/>
                  <a:pt x="21158" y="12750"/>
                </a:cubicBezTo>
                <a:cubicBezTo>
                  <a:pt x="21046" y="12774"/>
                  <a:pt x="21070" y="12824"/>
                  <a:pt x="21034" y="12898"/>
                </a:cubicBezTo>
                <a:cubicBezTo>
                  <a:pt x="21002" y="12964"/>
                  <a:pt x="20972" y="13022"/>
                  <a:pt x="20960" y="13097"/>
                </a:cubicBezTo>
                <a:cubicBezTo>
                  <a:pt x="20951" y="13156"/>
                  <a:pt x="20987" y="13242"/>
                  <a:pt x="21010" y="13295"/>
                </a:cubicBezTo>
                <a:cubicBezTo>
                  <a:pt x="21050" y="13386"/>
                  <a:pt x="21086" y="13459"/>
                  <a:pt x="21158" y="13519"/>
                </a:cubicBezTo>
                <a:cubicBezTo>
                  <a:pt x="21224" y="13573"/>
                  <a:pt x="21272" y="13590"/>
                  <a:pt x="21357" y="13593"/>
                </a:cubicBezTo>
                <a:cubicBezTo>
                  <a:pt x="21382" y="13593"/>
                  <a:pt x="21406" y="13593"/>
                  <a:pt x="21431" y="13593"/>
                </a:cubicBezTo>
              </a:path>
              <a:path w="1439" h="1688">
                <a:moveTo>
                  <a:pt x="21605" y="12973"/>
                </a:moveTo>
                <a:cubicBezTo>
                  <a:pt x="21635" y="12943"/>
                  <a:pt x="21649" y="12932"/>
                  <a:pt x="21679" y="12923"/>
                </a:cubicBezTo>
              </a:path>
              <a:path w="1439" h="1688">
                <a:moveTo>
                  <a:pt x="21630" y="13146"/>
                </a:moveTo>
                <a:cubicBezTo>
                  <a:pt x="21646" y="13138"/>
                  <a:pt x="21663" y="13130"/>
                  <a:pt x="21679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Ink 19"/>
          <p:cNvSpPr/>
          <p:nvPr/>
        </p:nvSpPr>
        <p:spPr>
          <a:xfrm>
            <a:off x="7232760" y="5276880"/>
            <a:ext cx="644400" cy="590400"/>
          </a:xfrm>
          <a:custGeom>
            <a:avLst/>
            <a:gdLst/>
            <a:ahLst/>
            <a:rect l="l" t="t" r="r" b="b"/>
            <a:pathLst>
              <a:path w="1787" h="1638">
                <a:moveTo>
                  <a:pt x="20489" y="14734"/>
                </a:moveTo>
                <a:cubicBezTo>
                  <a:pt x="20516" y="14780"/>
                  <a:pt x="20513" y="14801"/>
                  <a:pt x="20513" y="14858"/>
                </a:cubicBezTo>
                <a:cubicBezTo>
                  <a:pt x="20476" y="14792"/>
                  <a:pt x="20443" y="14784"/>
                  <a:pt x="20389" y="14734"/>
                </a:cubicBezTo>
                <a:cubicBezTo>
                  <a:pt x="20340" y="14689"/>
                  <a:pt x="20335" y="14664"/>
                  <a:pt x="20265" y="14660"/>
                </a:cubicBezTo>
                <a:cubicBezTo>
                  <a:pt x="20176" y="14655"/>
                  <a:pt x="20188" y="14698"/>
                  <a:pt x="20166" y="14759"/>
                </a:cubicBezTo>
                <a:cubicBezTo>
                  <a:pt x="20139" y="14835"/>
                  <a:pt x="20121" y="14899"/>
                  <a:pt x="20117" y="14982"/>
                </a:cubicBezTo>
                <a:cubicBezTo>
                  <a:pt x="20113" y="15075"/>
                  <a:pt x="20092" y="15159"/>
                  <a:pt x="20092" y="15255"/>
                </a:cubicBezTo>
                <a:cubicBezTo>
                  <a:pt x="20092" y="15399"/>
                  <a:pt x="20113" y="15536"/>
                  <a:pt x="20117" y="15677"/>
                </a:cubicBezTo>
                <a:cubicBezTo>
                  <a:pt x="20120" y="15775"/>
                  <a:pt x="20120" y="15903"/>
                  <a:pt x="20141" y="15999"/>
                </a:cubicBezTo>
                <a:cubicBezTo>
                  <a:pt x="20157" y="16073"/>
                  <a:pt x="20170" y="16156"/>
                  <a:pt x="20216" y="16222"/>
                </a:cubicBezTo>
                <a:cubicBezTo>
                  <a:pt x="20244" y="16262"/>
                  <a:pt x="20281" y="16277"/>
                  <a:pt x="20315" y="16297"/>
                </a:cubicBezTo>
              </a:path>
              <a:path w="1787" h="1638">
                <a:moveTo>
                  <a:pt x="20712" y="15825"/>
                </a:moveTo>
                <a:cubicBezTo>
                  <a:pt x="20712" y="15893"/>
                  <a:pt x="20709" y="15988"/>
                  <a:pt x="20737" y="16049"/>
                </a:cubicBezTo>
                <a:cubicBezTo>
                  <a:pt x="20762" y="16073"/>
                  <a:pt x="20770" y="16081"/>
                  <a:pt x="20786" y="16098"/>
                </a:cubicBezTo>
                <a:cubicBezTo>
                  <a:pt x="20854" y="16088"/>
                  <a:pt x="20896" y="16054"/>
                  <a:pt x="20910" y="15974"/>
                </a:cubicBezTo>
                <a:cubicBezTo>
                  <a:pt x="20921" y="15909"/>
                  <a:pt x="20926" y="15776"/>
                  <a:pt x="20886" y="15726"/>
                </a:cubicBezTo>
                <a:cubicBezTo>
                  <a:pt x="20861" y="15701"/>
                  <a:pt x="20853" y="15693"/>
                  <a:pt x="20836" y="15677"/>
                </a:cubicBezTo>
                <a:cubicBezTo>
                  <a:pt x="20765" y="15716"/>
                  <a:pt x="20759" y="15739"/>
                  <a:pt x="20712" y="15801"/>
                </a:cubicBezTo>
                <a:cubicBezTo>
                  <a:pt x="20671" y="15854"/>
                  <a:pt x="20624" y="15931"/>
                  <a:pt x="20613" y="15999"/>
                </a:cubicBezTo>
                <a:cubicBezTo>
                  <a:pt x="20603" y="16061"/>
                  <a:pt x="20584" y="16197"/>
                  <a:pt x="20687" y="16173"/>
                </a:cubicBezTo>
                <a:cubicBezTo>
                  <a:pt x="20704" y="16165"/>
                  <a:pt x="20720" y="16156"/>
                  <a:pt x="20737" y="16148"/>
                </a:cubicBezTo>
              </a:path>
              <a:path w="1787" h="1638">
                <a:moveTo>
                  <a:pt x="21282" y="15156"/>
                </a:moveTo>
                <a:cubicBezTo>
                  <a:pt x="21299" y="15311"/>
                  <a:pt x="21307" y="15448"/>
                  <a:pt x="21307" y="15602"/>
                </a:cubicBezTo>
                <a:cubicBezTo>
                  <a:pt x="21307" y="15804"/>
                  <a:pt x="21227" y="16369"/>
                  <a:pt x="21332" y="16197"/>
                </a:cubicBezTo>
                <a:cubicBezTo>
                  <a:pt x="21332" y="16181"/>
                  <a:pt x="21332" y="16164"/>
                  <a:pt x="21332" y="16148"/>
                </a:cubicBezTo>
              </a:path>
              <a:path w="1787" h="1638">
                <a:moveTo>
                  <a:pt x="21084" y="15627"/>
                </a:moveTo>
                <a:cubicBezTo>
                  <a:pt x="21158" y="15627"/>
                  <a:pt x="21215" y="15611"/>
                  <a:pt x="21282" y="15602"/>
                </a:cubicBezTo>
                <a:cubicBezTo>
                  <a:pt x="21366" y="15591"/>
                  <a:pt x="21420" y="15577"/>
                  <a:pt x="21506" y="15553"/>
                </a:cubicBezTo>
              </a:path>
              <a:path w="1787" h="1638">
                <a:moveTo>
                  <a:pt x="21704" y="15627"/>
                </a:moveTo>
                <a:cubicBezTo>
                  <a:pt x="21780" y="15616"/>
                  <a:pt x="21805" y="15610"/>
                  <a:pt x="21853" y="15553"/>
                </a:cubicBezTo>
              </a:path>
              <a:path w="1787" h="1638">
                <a:moveTo>
                  <a:pt x="21779" y="15850"/>
                </a:moveTo>
                <a:cubicBezTo>
                  <a:pt x="21858" y="15791"/>
                  <a:pt x="21891" y="15791"/>
                  <a:pt x="21878" y="157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Ink 20"/>
          <p:cNvSpPr/>
          <p:nvPr/>
        </p:nvSpPr>
        <p:spPr>
          <a:xfrm>
            <a:off x="795240" y="3490920"/>
            <a:ext cx="1455840" cy="1081080"/>
          </a:xfrm>
          <a:custGeom>
            <a:avLst/>
            <a:gdLst/>
            <a:ahLst/>
            <a:rect l="l" t="t" r="r" b="b"/>
            <a:pathLst>
              <a:path w="4044" h="3002">
                <a:moveTo>
                  <a:pt x="2282" y="12650"/>
                </a:moveTo>
                <a:cubicBezTo>
                  <a:pt x="2447" y="12485"/>
                  <a:pt x="2612" y="12332"/>
                  <a:pt x="2778" y="12179"/>
                </a:cubicBezTo>
                <a:cubicBezTo>
                  <a:pt x="2925" y="12044"/>
                  <a:pt x="3058" y="11893"/>
                  <a:pt x="3200" y="11757"/>
                </a:cubicBezTo>
                <a:cubicBezTo>
                  <a:pt x="3353" y="11611"/>
                  <a:pt x="3513" y="11458"/>
                  <a:pt x="3671" y="11311"/>
                </a:cubicBezTo>
                <a:cubicBezTo>
                  <a:pt x="3819" y="11173"/>
                  <a:pt x="3999" y="11081"/>
                  <a:pt x="4142" y="10939"/>
                </a:cubicBezTo>
                <a:cubicBezTo>
                  <a:pt x="4265" y="10816"/>
                  <a:pt x="4378" y="10741"/>
                  <a:pt x="4514" y="10641"/>
                </a:cubicBezTo>
                <a:cubicBezTo>
                  <a:pt x="4713" y="10494"/>
                  <a:pt x="4903" y="10328"/>
                  <a:pt x="5110" y="10195"/>
                </a:cubicBezTo>
                <a:cubicBezTo>
                  <a:pt x="5197" y="10139"/>
                  <a:pt x="5287" y="10061"/>
                  <a:pt x="5383" y="9996"/>
                </a:cubicBezTo>
                <a:cubicBezTo>
                  <a:pt x="5451" y="9950"/>
                  <a:pt x="5532" y="9914"/>
                  <a:pt x="5606" y="9872"/>
                </a:cubicBezTo>
                <a:cubicBezTo>
                  <a:pt x="5676" y="9832"/>
                  <a:pt x="5720" y="9759"/>
                  <a:pt x="5779" y="9723"/>
                </a:cubicBezTo>
                <a:cubicBezTo>
                  <a:pt x="5824" y="9723"/>
                  <a:pt x="5837" y="9727"/>
                  <a:pt x="5854" y="9699"/>
                </a:cubicBezTo>
                <a:cubicBezTo>
                  <a:pt x="5862" y="9756"/>
                  <a:pt x="5877" y="9825"/>
                  <a:pt x="5879" y="9897"/>
                </a:cubicBezTo>
                <a:cubicBezTo>
                  <a:pt x="5882" y="10040"/>
                  <a:pt x="5896" y="10181"/>
                  <a:pt x="5904" y="10319"/>
                </a:cubicBezTo>
                <a:cubicBezTo>
                  <a:pt x="5910" y="10426"/>
                  <a:pt x="5906" y="10537"/>
                  <a:pt x="5928" y="10641"/>
                </a:cubicBezTo>
                <a:cubicBezTo>
                  <a:pt x="5960" y="10792"/>
                  <a:pt x="6000" y="10935"/>
                  <a:pt x="6028" y="11088"/>
                </a:cubicBezTo>
                <a:cubicBezTo>
                  <a:pt x="6055" y="11237"/>
                  <a:pt x="6058" y="11385"/>
                  <a:pt x="6077" y="11534"/>
                </a:cubicBezTo>
                <a:cubicBezTo>
                  <a:pt x="6095" y="11676"/>
                  <a:pt x="6125" y="11814"/>
                  <a:pt x="6152" y="11956"/>
                </a:cubicBezTo>
                <a:cubicBezTo>
                  <a:pt x="6173" y="12070"/>
                  <a:pt x="6203" y="12187"/>
                  <a:pt x="6226" y="12303"/>
                </a:cubicBezTo>
                <a:cubicBezTo>
                  <a:pt x="6241" y="12379"/>
                  <a:pt x="6256" y="12445"/>
                  <a:pt x="6251" y="12526"/>
                </a:cubicBezTo>
                <a:cubicBezTo>
                  <a:pt x="6248" y="12573"/>
                  <a:pt x="6231" y="12616"/>
                  <a:pt x="6226" y="12650"/>
                </a:cubicBezTo>
                <a:cubicBezTo>
                  <a:pt x="6131" y="12638"/>
                  <a:pt x="6053" y="12618"/>
                  <a:pt x="5953" y="12626"/>
                </a:cubicBezTo>
                <a:cubicBezTo>
                  <a:pt x="5879" y="12632"/>
                  <a:pt x="5804" y="12640"/>
                  <a:pt x="5730" y="12650"/>
                </a:cubicBezTo>
                <a:cubicBezTo>
                  <a:pt x="5655" y="12661"/>
                  <a:pt x="5590" y="12666"/>
                  <a:pt x="5507" y="12675"/>
                </a:cubicBezTo>
                <a:cubicBezTo>
                  <a:pt x="5397" y="12686"/>
                  <a:pt x="5296" y="12698"/>
                  <a:pt x="5184" y="12700"/>
                </a:cubicBezTo>
                <a:cubicBezTo>
                  <a:pt x="4287" y="12716"/>
                  <a:pt x="3370" y="12726"/>
                  <a:pt x="2480" y="12675"/>
                </a:cubicBezTo>
                <a:cubicBezTo>
                  <a:pt x="2397" y="12670"/>
                  <a:pt x="2328" y="12670"/>
                  <a:pt x="2257" y="12650"/>
                </a:cubicBezTo>
                <a:cubicBezTo>
                  <a:pt x="2216" y="12650"/>
                  <a:pt x="2200" y="12658"/>
                  <a:pt x="2208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olve a right triangle:                   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(C is the right angle): 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 = 25 and c = 35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eec94"/>
                </a:solidFill>
                <a:latin typeface="Times New Roman"/>
              </a:rPr>
              <a:t>Homework:</a:t>
            </a:r>
            <a:br>
              <a:rPr sz="8500"/>
            </a:br>
            <a:r>
              <a:rPr b="1" lang="en-US" sz="8500" spc="-1" strike="noStrike">
                <a:solidFill>
                  <a:srgbClr val="feec94"/>
                </a:solidFill>
                <a:latin typeface="Times New Roman"/>
              </a:rPr>
              <a:t>Page 361</a:t>
            </a:r>
            <a:br>
              <a:rPr sz="8500"/>
            </a:br>
            <a:r>
              <a:rPr b="1" lang="en-US" sz="8500" spc="-1" strike="noStrike">
                <a:solidFill>
                  <a:srgbClr val="feec94"/>
                </a:solidFill>
                <a:latin typeface="Times New Roman"/>
              </a:rPr>
              <a:t>#1-7</a:t>
            </a:r>
            <a:endParaRPr b="1" lang="en-US" sz="85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Questions from homework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Ink 3"/>
          <p:cNvSpPr/>
          <p:nvPr/>
        </p:nvSpPr>
        <p:spPr>
          <a:xfrm>
            <a:off x="1125360" y="1704960"/>
            <a:ext cx="687600" cy="546120"/>
          </a:xfrm>
          <a:custGeom>
            <a:avLst/>
            <a:gdLst/>
            <a:ahLst/>
            <a:rect l="l" t="t" r="r" b="b"/>
            <a:pathLst>
              <a:path w="1911" h="1514">
                <a:moveTo>
                  <a:pt x="3820" y="5159"/>
                </a:moveTo>
                <a:cubicBezTo>
                  <a:pt x="3879" y="5219"/>
                  <a:pt x="3845" y="5175"/>
                  <a:pt x="3845" y="5085"/>
                </a:cubicBezTo>
                <a:cubicBezTo>
                  <a:pt x="3845" y="5019"/>
                  <a:pt x="3835" y="4936"/>
                  <a:pt x="3795" y="4887"/>
                </a:cubicBezTo>
                <a:cubicBezTo>
                  <a:pt x="3760" y="4844"/>
                  <a:pt x="3736" y="4801"/>
                  <a:pt x="3696" y="4762"/>
                </a:cubicBezTo>
                <a:cubicBezTo>
                  <a:pt x="3644" y="4711"/>
                  <a:pt x="3524" y="4739"/>
                  <a:pt x="3473" y="4787"/>
                </a:cubicBezTo>
                <a:cubicBezTo>
                  <a:pt x="3415" y="4841"/>
                  <a:pt x="3346" y="4921"/>
                  <a:pt x="3299" y="4986"/>
                </a:cubicBezTo>
                <a:cubicBezTo>
                  <a:pt x="3221" y="5093"/>
                  <a:pt x="3150" y="5229"/>
                  <a:pt x="3125" y="5358"/>
                </a:cubicBezTo>
                <a:cubicBezTo>
                  <a:pt x="3112" y="5427"/>
                  <a:pt x="3123" y="5554"/>
                  <a:pt x="3175" y="5606"/>
                </a:cubicBezTo>
                <a:cubicBezTo>
                  <a:pt x="3217" y="5648"/>
                  <a:pt x="3290" y="5692"/>
                  <a:pt x="3349" y="5680"/>
                </a:cubicBezTo>
                <a:cubicBezTo>
                  <a:pt x="3408" y="5668"/>
                  <a:pt x="3457" y="5621"/>
                  <a:pt x="3497" y="5581"/>
                </a:cubicBezTo>
                <a:cubicBezTo>
                  <a:pt x="3558" y="5520"/>
                  <a:pt x="3618" y="5468"/>
                  <a:pt x="3646" y="5383"/>
                </a:cubicBezTo>
                <a:cubicBezTo>
                  <a:pt x="3676" y="5292"/>
                  <a:pt x="3698" y="5164"/>
                  <a:pt x="3746" y="5085"/>
                </a:cubicBezTo>
                <a:cubicBezTo>
                  <a:pt x="3746" y="5167"/>
                  <a:pt x="3730" y="5230"/>
                  <a:pt x="3721" y="5308"/>
                </a:cubicBezTo>
                <a:cubicBezTo>
                  <a:pt x="3701" y="5481"/>
                  <a:pt x="3731" y="5661"/>
                  <a:pt x="3746" y="5829"/>
                </a:cubicBezTo>
                <a:cubicBezTo>
                  <a:pt x="3755" y="5931"/>
                  <a:pt x="3745" y="6028"/>
                  <a:pt x="3770" y="6127"/>
                </a:cubicBezTo>
                <a:cubicBezTo>
                  <a:pt x="3782" y="6177"/>
                  <a:pt x="3787" y="6176"/>
                  <a:pt x="3795" y="6226"/>
                </a:cubicBezTo>
              </a:path>
              <a:path w="1911" h="1514">
                <a:moveTo>
                  <a:pt x="4539" y="5879"/>
                </a:moveTo>
                <a:cubicBezTo>
                  <a:pt x="4539" y="5895"/>
                  <a:pt x="4539" y="5912"/>
                  <a:pt x="4539" y="5928"/>
                </a:cubicBezTo>
                <a:cubicBezTo>
                  <a:pt x="4502" y="5883"/>
                  <a:pt x="4470" y="5828"/>
                  <a:pt x="4440" y="5779"/>
                </a:cubicBezTo>
                <a:cubicBezTo>
                  <a:pt x="4418" y="5736"/>
                  <a:pt x="4414" y="5724"/>
                  <a:pt x="4390" y="5705"/>
                </a:cubicBezTo>
                <a:cubicBezTo>
                  <a:pt x="4356" y="5740"/>
                  <a:pt x="4293" y="5772"/>
                  <a:pt x="4266" y="5804"/>
                </a:cubicBezTo>
                <a:cubicBezTo>
                  <a:pt x="4228" y="5849"/>
                  <a:pt x="4201" y="5948"/>
                  <a:pt x="4192" y="6003"/>
                </a:cubicBezTo>
                <a:cubicBezTo>
                  <a:pt x="4182" y="6060"/>
                  <a:pt x="4183" y="6134"/>
                  <a:pt x="4217" y="6176"/>
                </a:cubicBezTo>
                <a:cubicBezTo>
                  <a:pt x="4263" y="6233"/>
                  <a:pt x="4304" y="6254"/>
                  <a:pt x="4366" y="6226"/>
                </a:cubicBezTo>
                <a:cubicBezTo>
                  <a:pt x="4417" y="6203"/>
                  <a:pt x="4482" y="6177"/>
                  <a:pt x="4514" y="6127"/>
                </a:cubicBezTo>
                <a:cubicBezTo>
                  <a:pt x="4543" y="6082"/>
                  <a:pt x="4564" y="5920"/>
                  <a:pt x="4564" y="6028"/>
                </a:cubicBezTo>
                <a:cubicBezTo>
                  <a:pt x="4564" y="6115"/>
                  <a:pt x="4580" y="6142"/>
                  <a:pt x="4638" y="6201"/>
                </a:cubicBezTo>
              </a:path>
              <a:path w="1911" h="1514">
                <a:moveTo>
                  <a:pt x="5035" y="6201"/>
                </a:moveTo>
                <a:cubicBezTo>
                  <a:pt x="5027" y="6201"/>
                  <a:pt x="5019" y="6201"/>
                  <a:pt x="5011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Ink 4"/>
          <p:cNvSpPr/>
          <p:nvPr/>
        </p:nvSpPr>
        <p:spPr>
          <a:xfrm>
            <a:off x="2446200" y="1608120"/>
            <a:ext cx="1911600" cy="623880"/>
          </a:xfrm>
          <a:custGeom>
            <a:avLst/>
            <a:gdLst/>
            <a:ahLst/>
            <a:rect l="l" t="t" r="r" b="b"/>
            <a:pathLst>
              <a:path w="5310" h="1737">
                <a:moveTo>
                  <a:pt x="7218" y="5680"/>
                </a:moveTo>
                <a:cubicBezTo>
                  <a:pt x="7142" y="5699"/>
                  <a:pt x="7174" y="5621"/>
                  <a:pt x="7144" y="5556"/>
                </a:cubicBezTo>
                <a:cubicBezTo>
                  <a:pt x="7132" y="5530"/>
                  <a:pt x="7049" y="5455"/>
                  <a:pt x="7020" y="5457"/>
                </a:cubicBezTo>
                <a:cubicBezTo>
                  <a:pt x="6936" y="5464"/>
                  <a:pt x="6912" y="5547"/>
                  <a:pt x="6871" y="5606"/>
                </a:cubicBezTo>
                <a:cubicBezTo>
                  <a:pt x="6813" y="5689"/>
                  <a:pt x="6805" y="5802"/>
                  <a:pt x="6796" y="5904"/>
                </a:cubicBezTo>
                <a:cubicBezTo>
                  <a:pt x="6790" y="5976"/>
                  <a:pt x="6799" y="6061"/>
                  <a:pt x="6821" y="6127"/>
                </a:cubicBezTo>
                <a:cubicBezTo>
                  <a:pt x="6847" y="6203"/>
                  <a:pt x="6919" y="6228"/>
                  <a:pt x="6995" y="6201"/>
                </a:cubicBezTo>
                <a:cubicBezTo>
                  <a:pt x="7039" y="6185"/>
                  <a:pt x="7085" y="6091"/>
                  <a:pt x="7094" y="6052"/>
                </a:cubicBezTo>
                <a:cubicBezTo>
                  <a:pt x="7108" y="5988"/>
                  <a:pt x="7133" y="5918"/>
                  <a:pt x="7144" y="5854"/>
                </a:cubicBezTo>
                <a:cubicBezTo>
                  <a:pt x="7144" y="5795"/>
                  <a:pt x="7141" y="5769"/>
                  <a:pt x="7119" y="5730"/>
                </a:cubicBezTo>
                <a:cubicBezTo>
                  <a:pt x="7126" y="5824"/>
                  <a:pt x="7131" y="5918"/>
                  <a:pt x="7169" y="6003"/>
                </a:cubicBezTo>
                <a:cubicBezTo>
                  <a:pt x="7192" y="6054"/>
                  <a:pt x="7227" y="6118"/>
                  <a:pt x="7293" y="6102"/>
                </a:cubicBezTo>
                <a:cubicBezTo>
                  <a:pt x="7309" y="6094"/>
                  <a:pt x="7326" y="6085"/>
                  <a:pt x="7342" y="6077"/>
                </a:cubicBezTo>
              </a:path>
              <a:path w="5310" h="1737">
                <a:moveTo>
                  <a:pt x="7441" y="5755"/>
                </a:moveTo>
                <a:cubicBezTo>
                  <a:pt x="7441" y="5871"/>
                  <a:pt x="7406" y="6078"/>
                  <a:pt x="7466" y="6176"/>
                </a:cubicBezTo>
                <a:cubicBezTo>
                  <a:pt x="7459" y="6097"/>
                  <a:pt x="7441" y="6034"/>
                  <a:pt x="7441" y="5953"/>
                </a:cubicBezTo>
                <a:cubicBezTo>
                  <a:pt x="7441" y="5864"/>
                  <a:pt x="7480" y="5789"/>
                  <a:pt x="7491" y="5705"/>
                </a:cubicBezTo>
                <a:cubicBezTo>
                  <a:pt x="7501" y="5626"/>
                  <a:pt x="7544" y="5533"/>
                  <a:pt x="7615" y="5482"/>
                </a:cubicBezTo>
                <a:cubicBezTo>
                  <a:pt x="7665" y="5457"/>
                  <a:pt x="7681" y="5449"/>
                  <a:pt x="7714" y="5432"/>
                </a:cubicBezTo>
              </a:path>
              <a:path w="5310" h="1737">
                <a:moveTo>
                  <a:pt x="8136" y="5680"/>
                </a:moveTo>
                <a:cubicBezTo>
                  <a:pt x="8178" y="5653"/>
                  <a:pt x="8144" y="5586"/>
                  <a:pt x="8111" y="5531"/>
                </a:cubicBezTo>
                <a:cubicBezTo>
                  <a:pt x="8064" y="5454"/>
                  <a:pt x="7988" y="5486"/>
                  <a:pt x="7938" y="5531"/>
                </a:cubicBezTo>
                <a:cubicBezTo>
                  <a:pt x="7887" y="5577"/>
                  <a:pt x="7844" y="5620"/>
                  <a:pt x="7813" y="5680"/>
                </a:cubicBezTo>
                <a:cubicBezTo>
                  <a:pt x="7773" y="5757"/>
                  <a:pt x="7764" y="5819"/>
                  <a:pt x="7764" y="5904"/>
                </a:cubicBezTo>
                <a:cubicBezTo>
                  <a:pt x="7764" y="5954"/>
                  <a:pt x="7793" y="6020"/>
                  <a:pt x="7838" y="6052"/>
                </a:cubicBezTo>
                <a:cubicBezTo>
                  <a:pt x="7909" y="6103"/>
                  <a:pt x="8031" y="6097"/>
                  <a:pt x="8111" y="6102"/>
                </a:cubicBezTo>
              </a:path>
              <a:path w="5310" h="1737">
                <a:moveTo>
                  <a:pt x="8731" y="5606"/>
                </a:moveTo>
                <a:cubicBezTo>
                  <a:pt x="8722" y="5569"/>
                  <a:pt x="8703" y="5544"/>
                  <a:pt x="8682" y="5507"/>
                </a:cubicBezTo>
                <a:cubicBezTo>
                  <a:pt x="8582" y="5546"/>
                  <a:pt x="8593" y="5552"/>
                  <a:pt x="8533" y="5631"/>
                </a:cubicBezTo>
                <a:cubicBezTo>
                  <a:pt x="8475" y="5707"/>
                  <a:pt x="8441" y="5795"/>
                  <a:pt x="8409" y="5879"/>
                </a:cubicBezTo>
                <a:cubicBezTo>
                  <a:pt x="8384" y="5944"/>
                  <a:pt x="8372" y="5999"/>
                  <a:pt x="8434" y="6052"/>
                </a:cubicBezTo>
                <a:cubicBezTo>
                  <a:pt x="8515" y="6122"/>
                  <a:pt x="8561" y="6090"/>
                  <a:pt x="8657" y="6077"/>
                </a:cubicBezTo>
                <a:cubicBezTo>
                  <a:pt x="8722" y="6068"/>
                  <a:pt x="8781" y="6015"/>
                  <a:pt x="8855" y="5978"/>
                </a:cubicBezTo>
              </a:path>
              <a:path w="5310" h="1737">
                <a:moveTo>
                  <a:pt x="9029" y="5680"/>
                </a:moveTo>
                <a:cubicBezTo>
                  <a:pt x="8989" y="5795"/>
                  <a:pt x="8954" y="5863"/>
                  <a:pt x="8954" y="5978"/>
                </a:cubicBezTo>
                <a:cubicBezTo>
                  <a:pt x="8954" y="6054"/>
                  <a:pt x="9022" y="6100"/>
                  <a:pt x="9103" y="6077"/>
                </a:cubicBezTo>
                <a:cubicBezTo>
                  <a:pt x="9170" y="6058"/>
                  <a:pt x="9270" y="5988"/>
                  <a:pt x="9302" y="5928"/>
                </a:cubicBezTo>
                <a:cubicBezTo>
                  <a:pt x="9356" y="5824"/>
                  <a:pt x="9342" y="5786"/>
                  <a:pt x="9327" y="5680"/>
                </a:cubicBezTo>
                <a:cubicBezTo>
                  <a:pt x="9317" y="5605"/>
                  <a:pt x="9296" y="5593"/>
                  <a:pt x="9227" y="5556"/>
                </a:cubicBezTo>
                <a:cubicBezTo>
                  <a:pt x="9167" y="5524"/>
                  <a:pt x="9089" y="5528"/>
                  <a:pt x="9029" y="5556"/>
                </a:cubicBezTo>
                <a:cubicBezTo>
                  <a:pt x="8968" y="5584"/>
                  <a:pt x="8991" y="5609"/>
                  <a:pt x="9004" y="5655"/>
                </a:cubicBezTo>
              </a:path>
              <a:path w="5310" h="1737">
                <a:moveTo>
                  <a:pt x="9723" y="5531"/>
                </a:moveTo>
                <a:cubicBezTo>
                  <a:pt x="9679" y="5548"/>
                  <a:pt x="9552" y="5560"/>
                  <a:pt x="9525" y="5606"/>
                </a:cubicBezTo>
                <a:cubicBezTo>
                  <a:pt x="9485" y="5676"/>
                  <a:pt x="9612" y="5767"/>
                  <a:pt x="9649" y="5804"/>
                </a:cubicBezTo>
                <a:cubicBezTo>
                  <a:pt x="9718" y="5872"/>
                  <a:pt x="9777" y="5943"/>
                  <a:pt x="9798" y="6028"/>
                </a:cubicBezTo>
                <a:cubicBezTo>
                  <a:pt x="9730" y="6081"/>
                  <a:pt x="9684" y="6077"/>
                  <a:pt x="9599" y="6077"/>
                </a:cubicBezTo>
                <a:cubicBezTo>
                  <a:pt x="9521" y="6077"/>
                  <a:pt x="9503" y="6092"/>
                  <a:pt x="9475" y="6052"/>
                </a:cubicBezTo>
              </a:path>
              <a:path w="5310" h="1737">
                <a:moveTo>
                  <a:pt x="10542" y="4663"/>
                </a:moveTo>
                <a:cubicBezTo>
                  <a:pt x="10488" y="4770"/>
                  <a:pt x="10445" y="4878"/>
                  <a:pt x="10393" y="4986"/>
                </a:cubicBezTo>
                <a:cubicBezTo>
                  <a:pt x="10310" y="5157"/>
                  <a:pt x="10216" y="5315"/>
                  <a:pt x="10195" y="5507"/>
                </a:cubicBezTo>
                <a:cubicBezTo>
                  <a:pt x="10181" y="5633"/>
                  <a:pt x="10168" y="5755"/>
                  <a:pt x="10195" y="5879"/>
                </a:cubicBezTo>
                <a:cubicBezTo>
                  <a:pt x="10215" y="5972"/>
                  <a:pt x="10211" y="6009"/>
                  <a:pt x="10294" y="6052"/>
                </a:cubicBezTo>
                <a:cubicBezTo>
                  <a:pt x="10374" y="6094"/>
                  <a:pt x="10488" y="6010"/>
                  <a:pt x="10567" y="5978"/>
                </a:cubicBezTo>
              </a:path>
              <a:path w="5310" h="1737">
                <a:moveTo>
                  <a:pt x="11162" y="4465"/>
                </a:moveTo>
                <a:cubicBezTo>
                  <a:pt x="11122" y="4565"/>
                  <a:pt x="11118" y="4661"/>
                  <a:pt x="11088" y="4762"/>
                </a:cubicBezTo>
                <a:cubicBezTo>
                  <a:pt x="11058" y="4863"/>
                  <a:pt x="11063" y="4954"/>
                  <a:pt x="11063" y="5060"/>
                </a:cubicBezTo>
                <a:cubicBezTo>
                  <a:pt x="11063" y="5118"/>
                  <a:pt x="11063" y="5176"/>
                  <a:pt x="11063" y="5234"/>
                </a:cubicBezTo>
              </a:path>
              <a:path w="5310" h="1737">
                <a:moveTo>
                  <a:pt x="10592" y="5283"/>
                </a:moveTo>
                <a:cubicBezTo>
                  <a:pt x="10673" y="5273"/>
                  <a:pt x="10758" y="5272"/>
                  <a:pt x="10840" y="5259"/>
                </a:cubicBezTo>
                <a:cubicBezTo>
                  <a:pt x="10952" y="5241"/>
                  <a:pt x="11048" y="5234"/>
                  <a:pt x="11162" y="5234"/>
                </a:cubicBezTo>
                <a:cubicBezTo>
                  <a:pt x="11228" y="5234"/>
                  <a:pt x="11295" y="5234"/>
                  <a:pt x="11361" y="5234"/>
                </a:cubicBezTo>
              </a:path>
              <a:path w="5310" h="1737">
                <a:moveTo>
                  <a:pt x="10840" y="5556"/>
                </a:moveTo>
                <a:cubicBezTo>
                  <a:pt x="10928" y="5616"/>
                  <a:pt x="10962" y="5586"/>
                  <a:pt x="11063" y="5581"/>
                </a:cubicBezTo>
                <a:cubicBezTo>
                  <a:pt x="11122" y="5578"/>
                  <a:pt x="11144" y="5596"/>
                  <a:pt x="11187" y="5631"/>
                </a:cubicBezTo>
                <a:cubicBezTo>
                  <a:pt x="11137" y="5709"/>
                  <a:pt x="11080" y="5743"/>
                  <a:pt x="11013" y="5804"/>
                </a:cubicBezTo>
                <a:cubicBezTo>
                  <a:pt x="10975" y="5839"/>
                  <a:pt x="10860" y="5916"/>
                  <a:pt x="10840" y="5953"/>
                </a:cubicBezTo>
                <a:cubicBezTo>
                  <a:pt x="10815" y="6000"/>
                  <a:pt x="10827" y="6033"/>
                  <a:pt x="10840" y="6077"/>
                </a:cubicBezTo>
                <a:cubicBezTo>
                  <a:pt x="10946" y="6077"/>
                  <a:pt x="11033" y="6065"/>
                  <a:pt x="11137" y="6052"/>
                </a:cubicBezTo>
                <a:cubicBezTo>
                  <a:pt x="11234" y="6040"/>
                  <a:pt x="11288" y="5988"/>
                  <a:pt x="11361" y="5928"/>
                </a:cubicBezTo>
              </a:path>
              <a:path w="5310" h="1737">
                <a:moveTo>
                  <a:pt x="11931" y="4713"/>
                </a:moveTo>
                <a:cubicBezTo>
                  <a:pt x="11994" y="4931"/>
                  <a:pt x="12083" y="5155"/>
                  <a:pt x="12105" y="5383"/>
                </a:cubicBezTo>
                <a:cubicBezTo>
                  <a:pt x="12119" y="5526"/>
                  <a:pt x="12055" y="5629"/>
                  <a:pt x="12005" y="5755"/>
                </a:cubicBezTo>
                <a:cubicBezTo>
                  <a:pt x="11945" y="5905"/>
                  <a:pt x="11935" y="5929"/>
                  <a:pt x="11807" y="6028"/>
                </a:cubicBezTo>
                <a:cubicBezTo>
                  <a:pt x="11757" y="6069"/>
                  <a:pt x="11708" y="6111"/>
                  <a:pt x="11658" y="61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Ink 5"/>
          <p:cNvSpPr/>
          <p:nvPr/>
        </p:nvSpPr>
        <p:spPr>
          <a:xfrm>
            <a:off x="2509920" y="2428920"/>
            <a:ext cx="758880" cy="473040"/>
          </a:xfrm>
          <a:custGeom>
            <a:avLst/>
            <a:gdLst/>
            <a:ahLst/>
            <a:rect l="l" t="t" r="r" b="b"/>
            <a:pathLst>
              <a:path w="2110" h="1316">
                <a:moveTo>
                  <a:pt x="7193" y="7268"/>
                </a:moveTo>
                <a:cubicBezTo>
                  <a:pt x="7216" y="7335"/>
                  <a:pt x="7221" y="7353"/>
                  <a:pt x="7243" y="7392"/>
                </a:cubicBezTo>
                <a:cubicBezTo>
                  <a:pt x="7219" y="7362"/>
                  <a:pt x="7185" y="7280"/>
                  <a:pt x="7144" y="7268"/>
                </a:cubicBezTo>
                <a:cubicBezTo>
                  <a:pt x="7108" y="7258"/>
                  <a:pt x="7029" y="7301"/>
                  <a:pt x="7020" y="7342"/>
                </a:cubicBezTo>
                <a:cubicBezTo>
                  <a:pt x="7002" y="7429"/>
                  <a:pt x="6954" y="7576"/>
                  <a:pt x="6970" y="7665"/>
                </a:cubicBezTo>
                <a:cubicBezTo>
                  <a:pt x="6984" y="7741"/>
                  <a:pt x="6998" y="7839"/>
                  <a:pt x="7020" y="7913"/>
                </a:cubicBezTo>
                <a:cubicBezTo>
                  <a:pt x="7050" y="8017"/>
                  <a:pt x="7121" y="8004"/>
                  <a:pt x="7193" y="8037"/>
                </a:cubicBezTo>
                <a:cubicBezTo>
                  <a:pt x="7222" y="8051"/>
                  <a:pt x="7332" y="8056"/>
                  <a:pt x="7367" y="8012"/>
                </a:cubicBezTo>
                <a:cubicBezTo>
                  <a:pt x="7384" y="7979"/>
                  <a:pt x="7400" y="7946"/>
                  <a:pt x="7417" y="7913"/>
                </a:cubicBezTo>
              </a:path>
              <a:path w="2110" h="1316">
                <a:moveTo>
                  <a:pt x="7466" y="7466"/>
                </a:moveTo>
                <a:cubicBezTo>
                  <a:pt x="7453" y="7598"/>
                  <a:pt x="7445" y="7687"/>
                  <a:pt x="7491" y="7813"/>
                </a:cubicBezTo>
                <a:cubicBezTo>
                  <a:pt x="7513" y="7873"/>
                  <a:pt x="7548" y="7940"/>
                  <a:pt x="7590" y="7987"/>
                </a:cubicBezTo>
                <a:cubicBezTo>
                  <a:pt x="7690" y="8098"/>
                  <a:pt x="7759" y="7953"/>
                  <a:pt x="7789" y="7888"/>
                </a:cubicBezTo>
                <a:cubicBezTo>
                  <a:pt x="7828" y="7805"/>
                  <a:pt x="7838" y="7758"/>
                  <a:pt x="7838" y="7665"/>
                </a:cubicBezTo>
                <a:cubicBezTo>
                  <a:pt x="7838" y="7601"/>
                  <a:pt x="7815" y="7498"/>
                  <a:pt x="7789" y="7441"/>
                </a:cubicBezTo>
                <a:cubicBezTo>
                  <a:pt x="7769" y="7399"/>
                  <a:pt x="7706" y="7370"/>
                  <a:pt x="7665" y="7367"/>
                </a:cubicBezTo>
                <a:cubicBezTo>
                  <a:pt x="7585" y="7362"/>
                  <a:pt x="7553" y="7403"/>
                  <a:pt x="7516" y="7466"/>
                </a:cubicBezTo>
                <a:cubicBezTo>
                  <a:pt x="7492" y="7514"/>
                  <a:pt x="7484" y="7528"/>
                  <a:pt x="7491" y="7565"/>
                </a:cubicBezTo>
              </a:path>
              <a:path w="2110" h="1316">
                <a:moveTo>
                  <a:pt x="8310" y="7293"/>
                </a:moveTo>
                <a:cubicBezTo>
                  <a:pt x="8244" y="7317"/>
                  <a:pt x="8211" y="7317"/>
                  <a:pt x="8161" y="7367"/>
                </a:cubicBezTo>
                <a:cubicBezTo>
                  <a:pt x="8101" y="7427"/>
                  <a:pt x="8103" y="7468"/>
                  <a:pt x="8136" y="7541"/>
                </a:cubicBezTo>
                <a:cubicBezTo>
                  <a:pt x="8175" y="7628"/>
                  <a:pt x="8218" y="7650"/>
                  <a:pt x="8285" y="7714"/>
                </a:cubicBezTo>
                <a:cubicBezTo>
                  <a:pt x="8366" y="7791"/>
                  <a:pt x="8411" y="7835"/>
                  <a:pt x="8260" y="7863"/>
                </a:cubicBezTo>
                <a:cubicBezTo>
                  <a:pt x="8179" y="7878"/>
                  <a:pt x="8122" y="7862"/>
                  <a:pt x="8062" y="7813"/>
                </a:cubicBezTo>
              </a:path>
              <a:path w="2110" h="1316">
                <a:moveTo>
                  <a:pt x="8483" y="7119"/>
                </a:moveTo>
                <a:cubicBezTo>
                  <a:pt x="8557" y="7119"/>
                  <a:pt x="8632" y="7119"/>
                  <a:pt x="8706" y="7119"/>
                </a:cubicBezTo>
              </a:path>
              <a:path w="2110" h="1316">
                <a:moveTo>
                  <a:pt x="9054" y="6747"/>
                </a:moveTo>
                <a:cubicBezTo>
                  <a:pt x="9054" y="6847"/>
                  <a:pt x="9028" y="7010"/>
                  <a:pt x="9079" y="70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Ink 6"/>
          <p:cNvSpPr/>
          <p:nvPr/>
        </p:nvSpPr>
        <p:spPr>
          <a:xfrm>
            <a:off x="3438360" y="2394000"/>
            <a:ext cx="125640" cy="527040"/>
          </a:xfrm>
          <a:custGeom>
            <a:avLst/>
            <a:gdLst/>
            <a:ahLst/>
            <a:rect l="l" t="t" r="r" b="b"/>
            <a:pathLst>
              <a:path w="348" h="1464">
                <a:moveTo>
                  <a:pt x="9897" y="6648"/>
                </a:moveTo>
                <a:cubicBezTo>
                  <a:pt x="9854" y="6733"/>
                  <a:pt x="9824" y="6816"/>
                  <a:pt x="9773" y="6896"/>
                </a:cubicBezTo>
                <a:cubicBezTo>
                  <a:pt x="9690" y="7027"/>
                  <a:pt x="9601" y="7239"/>
                  <a:pt x="9575" y="7392"/>
                </a:cubicBezTo>
                <a:cubicBezTo>
                  <a:pt x="9556" y="7504"/>
                  <a:pt x="9530" y="7673"/>
                  <a:pt x="9550" y="7789"/>
                </a:cubicBezTo>
                <a:cubicBezTo>
                  <a:pt x="9566" y="7886"/>
                  <a:pt x="9661" y="7992"/>
                  <a:pt x="9723" y="8062"/>
                </a:cubicBezTo>
                <a:cubicBezTo>
                  <a:pt x="9788" y="8136"/>
                  <a:pt x="9831" y="8099"/>
                  <a:pt x="9897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Ink 7"/>
          <p:cNvSpPr/>
          <p:nvPr/>
        </p:nvSpPr>
        <p:spPr>
          <a:xfrm>
            <a:off x="3768840" y="2367000"/>
            <a:ext cx="1419120" cy="561960"/>
          </a:xfrm>
          <a:custGeom>
            <a:avLst/>
            <a:gdLst/>
            <a:ahLst/>
            <a:rect l="l" t="t" r="r" b="b"/>
            <a:pathLst>
              <a:path w="3945" h="1564">
                <a:moveTo>
                  <a:pt x="10468" y="6623"/>
                </a:moveTo>
                <a:cubicBezTo>
                  <a:pt x="10468" y="6784"/>
                  <a:pt x="10404" y="7149"/>
                  <a:pt x="10492" y="7293"/>
                </a:cubicBezTo>
                <a:cubicBezTo>
                  <a:pt x="10515" y="7315"/>
                  <a:pt x="10520" y="7323"/>
                  <a:pt x="10542" y="7317"/>
                </a:cubicBezTo>
              </a:path>
              <a:path w="3945" h="1564">
                <a:moveTo>
                  <a:pt x="11063" y="6573"/>
                </a:moveTo>
                <a:cubicBezTo>
                  <a:pt x="11053" y="6665"/>
                  <a:pt x="11029" y="6756"/>
                  <a:pt x="11013" y="6846"/>
                </a:cubicBezTo>
                <a:cubicBezTo>
                  <a:pt x="10986" y="6999"/>
                  <a:pt x="10919" y="7124"/>
                  <a:pt x="10864" y="7268"/>
                </a:cubicBezTo>
                <a:cubicBezTo>
                  <a:pt x="10817" y="7392"/>
                  <a:pt x="10789" y="7516"/>
                  <a:pt x="10740" y="7640"/>
                </a:cubicBezTo>
                <a:cubicBezTo>
                  <a:pt x="10698" y="7744"/>
                  <a:pt x="10630" y="7853"/>
                  <a:pt x="10616" y="7962"/>
                </a:cubicBezTo>
                <a:cubicBezTo>
                  <a:pt x="10616" y="8020"/>
                  <a:pt x="10599" y="8045"/>
                  <a:pt x="10641" y="8037"/>
                </a:cubicBezTo>
              </a:path>
              <a:path w="3945" h="1564">
                <a:moveTo>
                  <a:pt x="11038" y="7417"/>
                </a:moveTo>
                <a:cubicBezTo>
                  <a:pt x="11137" y="7364"/>
                  <a:pt x="11204" y="7301"/>
                  <a:pt x="11311" y="7367"/>
                </a:cubicBezTo>
                <a:cubicBezTo>
                  <a:pt x="11378" y="7408"/>
                  <a:pt x="11367" y="7464"/>
                  <a:pt x="11361" y="7516"/>
                </a:cubicBezTo>
                <a:cubicBezTo>
                  <a:pt x="11352" y="7587"/>
                  <a:pt x="11317" y="7665"/>
                  <a:pt x="11261" y="7714"/>
                </a:cubicBezTo>
                <a:cubicBezTo>
                  <a:pt x="11204" y="7763"/>
                  <a:pt x="11175" y="7817"/>
                  <a:pt x="11137" y="7888"/>
                </a:cubicBezTo>
                <a:cubicBezTo>
                  <a:pt x="11095" y="7967"/>
                  <a:pt x="11164" y="8062"/>
                  <a:pt x="11261" y="8062"/>
                </a:cubicBezTo>
                <a:cubicBezTo>
                  <a:pt x="11335" y="8062"/>
                  <a:pt x="11383" y="8026"/>
                  <a:pt x="11435" y="7987"/>
                </a:cubicBezTo>
              </a:path>
              <a:path w="3945" h="1564">
                <a:moveTo>
                  <a:pt x="11584" y="6573"/>
                </a:moveTo>
                <a:cubicBezTo>
                  <a:pt x="11721" y="6765"/>
                  <a:pt x="11776" y="6883"/>
                  <a:pt x="11857" y="7094"/>
                </a:cubicBezTo>
                <a:cubicBezTo>
                  <a:pt x="11920" y="7259"/>
                  <a:pt x="11931" y="7390"/>
                  <a:pt x="11931" y="7565"/>
                </a:cubicBezTo>
                <a:cubicBezTo>
                  <a:pt x="11931" y="7700"/>
                  <a:pt x="11903" y="7800"/>
                  <a:pt x="11832" y="7913"/>
                </a:cubicBezTo>
                <a:cubicBezTo>
                  <a:pt x="11809" y="7950"/>
                  <a:pt x="11741" y="8136"/>
                  <a:pt x="11683" y="8136"/>
                </a:cubicBezTo>
                <a:cubicBezTo>
                  <a:pt x="11658" y="8111"/>
                  <a:pt x="11650" y="8103"/>
                  <a:pt x="11683" y="8086"/>
                </a:cubicBezTo>
              </a:path>
              <a:path w="3945" h="1564">
                <a:moveTo>
                  <a:pt x="12179" y="7565"/>
                </a:moveTo>
                <a:cubicBezTo>
                  <a:pt x="12324" y="7533"/>
                  <a:pt x="12412" y="7516"/>
                  <a:pt x="12551" y="7516"/>
                </a:cubicBezTo>
              </a:path>
              <a:path w="3945" h="1564">
                <a:moveTo>
                  <a:pt x="12353" y="7689"/>
                </a:moveTo>
                <a:cubicBezTo>
                  <a:pt x="12404" y="7741"/>
                  <a:pt x="12436" y="7734"/>
                  <a:pt x="12502" y="7764"/>
                </a:cubicBezTo>
                <a:cubicBezTo>
                  <a:pt x="12571" y="7799"/>
                  <a:pt x="12611" y="7808"/>
                  <a:pt x="12675" y="7789"/>
                </a:cubicBezTo>
              </a:path>
              <a:path w="3945" h="1564">
                <a:moveTo>
                  <a:pt x="13246" y="6921"/>
                </a:moveTo>
                <a:cubicBezTo>
                  <a:pt x="13246" y="7031"/>
                  <a:pt x="13208" y="7070"/>
                  <a:pt x="13171" y="7169"/>
                </a:cubicBezTo>
                <a:cubicBezTo>
                  <a:pt x="13109" y="7334"/>
                  <a:pt x="13086" y="7500"/>
                  <a:pt x="13047" y="7665"/>
                </a:cubicBezTo>
                <a:cubicBezTo>
                  <a:pt x="13024" y="7764"/>
                  <a:pt x="13031" y="7815"/>
                  <a:pt x="13047" y="7913"/>
                </a:cubicBezTo>
                <a:cubicBezTo>
                  <a:pt x="13058" y="7981"/>
                  <a:pt x="13057" y="8044"/>
                  <a:pt x="13122" y="8086"/>
                </a:cubicBezTo>
                <a:cubicBezTo>
                  <a:pt x="13198" y="8135"/>
                  <a:pt x="13288" y="8108"/>
                  <a:pt x="13345" y="8037"/>
                </a:cubicBezTo>
                <a:cubicBezTo>
                  <a:pt x="13406" y="7960"/>
                  <a:pt x="13415" y="7857"/>
                  <a:pt x="13419" y="7764"/>
                </a:cubicBezTo>
                <a:cubicBezTo>
                  <a:pt x="13421" y="7708"/>
                  <a:pt x="13403" y="7631"/>
                  <a:pt x="13370" y="7590"/>
                </a:cubicBezTo>
                <a:cubicBezTo>
                  <a:pt x="13362" y="7582"/>
                  <a:pt x="13353" y="7573"/>
                  <a:pt x="13345" y="7565"/>
                </a:cubicBezTo>
                <a:cubicBezTo>
                  <a:pt x="13259" y="7608"/>
                  <a:pt x="13227" y="7678"/>
                  <a:pt x="13221" y="7789"/>
                </a:cubicBezTo>
                <a:cubicBezTo>
                  <a:pt x="13218" y="7844"/>
                  <a:pt x="13237" y="7900"/>
                  <a:pt x="13271" y="7938"/>
                </a:cubicBezTo>
                <a:cubicBezTo>
                  <a:pt x="13298" y="7968"/>
                  <a:pt x="13310" y="7978"/>
                  <a:pt x="13345" y="7987"/>
                </a:cubicBezTo>
              </a:path>
              <a:path w="3945" h="1564">
                <a:moveTo>
                  <a:pt x="13742" y="7169"/>
                </a:moveTo>
                <a:cubicBezTo>
                  <a:pt x="13725" y="7322"/>
                  <a:pt x="13717" y="7462"/>
                  <a:pt x="13717" y="7615"/>
                </a:cubicBezTo>
                <a:cubicBezTo>
                  <a:pt x="13717" y="7717"/>
                  <a:pt x="13745" y="7782"/>
                  <a:pt x="13791" y="7863"/>
                </a:cubicBezTo>
                <a:cubicBezTo>
                  <a:pt x="13822" y="7916"/>
                  <a:pt x="13840" y="8000"/>
                  <a:pt x="13891" y="8037"/>
                </a:cubicBezTo>
                <a:cubicBezTo>
                  <a:pt x="13941" y="8073"/>
                  <a:pt x="14058" y="8080"/>
                  <a:pt x="14089" y="8012"/>
                </a:cubicBezTo>
                <a:cubicBezTo>
                  <a:pt x="14127" y="7929"/>
                  <a:pt x="14156" y="7806"/>
                  <a:pt x="14139" y="7714"/>
                </a:cubicBezTo>
                <a:cubicBezTo>
                  <a:pt x="14118" y="7603"/>
                  <a:pt x="14100" y="7501"/>
                  <a:pt x="14064" y="7392"/>
                </a:cubicBezTo>
                <a:cubicBezTo>
                  <a:pt x="14029" y="7288"/>
                  <a:pt x="13975" y="7167"/>
                  <a:pt x="13866" y="7119"/>
                </a:cubicBezTo>
                <a:cubicBezTo>
                  <a:pt x="13820" y="7099"/>
                  <a:pt x="13781" y="7122"/>
                  <a:pt x="13767" y="7144"/>
                </a:cubicBezTo>
              </a:path>
              <a:path w="3945" h="1564">
                <a:moveTo>
                  <a:pt x="14089" y="7069"/>
                </a:moveTo>
                <a:cubicBezTo>
                  <a:pt x="14180" y="7179"/>
                  <a:pt x="14220" y="7200"/>
                  <a:pt x="14362" y="7119"/>
                </a:cubicBezTo>
                <a:cubicBezTo>
                  <a:pt x="14411" y="7091"/>
                  <a:pt x="14429" y="7014"/>
                  <a:pt x="14362" y="6995"/>
                </a:cubicBezTo>
                <a:cubicBezTo>
                  <a:pt x="14312" y="6995"/>
                  <a:pt x="14296" y="6995"/>
                  <a:pt x="14263" y="69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Ink 4"/>
          <p:cNvSpPr/>
          <p:nvPr/>
        </p:nvSpPr>
        <p:spPr>
          <a:xfrm>
            <a:off x="571680" y="1554120"/>
            <a:ext cx="393480" cy="598680"/>
          </a:xfrm>
          <a:custGeom>
            <a:avLst/>
            <a:gdLst/>
            <a:ahLst/>
            <a:rect l="l" t="t" r="r" b="b"/>
            <a:pathLst>
              <a:path w="1092" h="1663">
                <a:moveTo>
                  <a:pt x="1736" y="4887"/>
                </a:moveTo>
                <a:cubicBezTo>
                  <a:pt x="1710" y="4967"/>
                  <a:pt x="1701" y="5032"/>
                  <a:pt x="1662" y="5110"/>
                </a:cubicBezTo>
                <a:cubicBezTo>
                  <a:pt x="1639" y="5155"/>
                  <a:pt x="1619" y="5195"/>
                  <a:pt x="1588" y="5234"/>
                </a:cubicBezTo>
                <a:cubicBezTo>
                  <a:pt x="1635" y="5253"/>
                  <a:pt x="1693" y="5234"/>
                  <a:pt x="1761" y="5234"/>
                </a:cubicBezTo>
                <a:cubicBezTo>
                  <a:pt x="1847" y="5234"/>
                  <a:pt x="1902" y="5194"/>
                  <a:pt x="1984" y="5184"/>
                </a:cubicBezTo>
              </a:path>
              <a:path w="1092" h="1663">
                <a:moveTo>
                  <a:pt x="2059" y="4713"/>
                </a:moveTo>
                <a:cubicBezTo>
                  <a:pt x="2038" y="4885"/>
                  <a:pt x="2021" y="5062"/>
                  <a:pt x="2009" y="5234"/>
                </a:cubicBezTo>
                <a:cubicBezTo>
                  <a:pt x="1997" y="5408"/>
                  <a:pt x="1987" y="5977"/>
                  <a:pt x="2009" y="5904"/>
                </a:cubicBezTo>
                <a:cubicBezTo>
                  <a:pt x="2017" y="5887"/>
                  <a:pt x="2026" y="5871"/>
                  <a:pt x="2034" y="5854"/>
                </a:cubicBezTo>
              </a:path>
              <a:path w="1092" h="1663">
                <a:moveTo>
                  <a:pt x="2257" y="4837"/>
                </a:moveTo>
                <a:cubicBezTo>
                  <a:pt x="2266" y="4980"/>
                  <a:pt x="2282" y="5114"/>
                  <a:pt x="2282" y="5259"/>
                </a:cubicBezTo>
                <a:cubicBezTo>
                  <a:pt x="2282" y="5409"/>
                  <a:pt x="2236" y="5552"/>
                  <a:pt x="2257" y="5705"/>
                </a:cubicBezTo>
                <a:cubicBezTo>
                  <a:pt x="2261" y="5733"/>
                  <a:pt x="2276" y="5916"/>
                  <a:pt x="2307" y="5854"/>
                </a:cubicBezTo>
                <a:cubicBezTo>
                  <a:pt x="2315" y="5829"/>
                  <a:pt x="2324" y="5804"/>
                  <a:pt x="2332" y="5779"/>
                </a:cubicBezTo>
              </a:path>
              <a:path w="1092" h="1663">
                <a:moveTo>
                  <a:pt x="2183" y="4316"/>
                </a:moveTo>
                <a:cubicBezTo>
                  <a:pt x="2279" y="4412"/>
                  <a:pt x="2372" y="4507"/>
                  <a:pt x="2456" y="4614"/>
                </a:cubicBezTo>
                <a:cubicBezTo>
                  <a:pt x="2548" y="4731"/>
                  <a:pt x="2644" y="4913"/>
                  <a:pt x="2679" y="5060"/>
                </a:cubicBezTo>
                <a:cubicBezTo>
                  <a:pt x="2706" y="5175"/>
                  <a:pt x="2666" y="5297"/>
                  <a:pt x="2654" y="5407"/>
                </a:cubicBezTo>
                <a:cubicBezTo>
                  <a:pt x="2643" y="5505"/>
                  <a:pt x="2602" y="5571"/>
                  <a:pt x="2555" y="5655"/>
                </a:cubicBezTo>
                <a:cubicBezTo>
                  <a:pt x="2535" y="5691"/>
                  <a:pt x="2486" y="5795"/>
                  <a:pt x="2431" y="5779"/>
                </a:cubicBezTo>
                <a:cubicBezTo>
                  <a:pt x="2431" y="5763"/>
                  <a:pt x="2431" y="5746"/>
                  <a:pt x="2431" y="57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Ink 5"/>
          <p:cNvSpPr/>
          <p:nvPr/>
        </p:nvSpPr>
        <p:spPr>
          <a:xfrm>
            <a:off x="1268280" y="1081080"/>
            <a:ext cx="4313520" cy="1116000"/>
          </a:xfrm>
          <a:custGeom>
            <a:avLst/>
            <a:gdLst/>
            <a:ahLst/>
            <a:rect l="l" t="t" r="r" b="b"/>
            <a:pathLst>
              <a:path w="11982" h="3102">
                <a:moveTo>
                  <a:pt x="4018" y="5060"/>
                </a:moveTo>
                <a:cubicBezTo>
                  <a:pt x="4018" y="4985"/>
                  <a:pt x="4021" y="4944"/>
                  <a:pt x="3969" y="4887"/>
                </a:cubicBezTo>
                <a:cubicBezTo>
                  <a:pt x="3937" y="4852"/>
                  <a:pt x="3869" y="4812"/>
                  <a:pt x="3820" y="4837"/>
                </a:cubicBezTo>
                <a:cubicBezTo>
                  <a:pt x="3772" y="4861"/>
                  <a:pt x="3698" y="4992"/>
                  <a:pt x="3671" y="5035"/>
                </a:cubicBezTo>
                <a:cubicBezTo>
                  <a:pt x="3618" y="5120"/>
                  <a:pt x="3582" y="5238"/>
                  <a:pt x="3547" y="5333"/>
                </a:cubicBezTo>
                <a:cubicBezTo>
                  <a:pt x="3525" y="5392"/>
                  <a:pt x="3510" y="5527"/>
                  <a:pt x="3547" y="5581"/>
                </a:cubicBezTo>
                <a:cubicBezTo>
                  <a:pt x="3564" y="5606"/>
                  <a:pt x="3662" y="5698"/>
                  <a:pt x="3696" y="5705"/>
                </a:cubicBezTo>
                <a:cubicBezTo>
                  <a:pt x="3817" y="5730"/>
                  <a:pt x="3893" y="5665"/>
                  <a:pt x="3994" y="5606"/>
                </a:cubicBezTo>
              </a:path>
              <a:path w="11982" h="3102">
                <a:moveTo>
                  <a:pt x="4663" y="4936"/>
                </a:moveTo>
                <a:cubicBezTo>
                  <a:pt x="4610" y="4883"/>
                  <a:pt x="4590" y="4887"/>
                  <a:pt x="4514" y="4887"/>
                </a:cubicBezTo>
                <a:cubicBezTo>
                  <a:pt x="4432" y="4887"/>
                  <a:pt x="4433" y="4927"/>
                  <a:pt x="4390" y="4986"/>
                </a:cubicBezTo>
                <a:cubicBezTo>
                  <a:pt x="4344" y="5049"/>
                  <a:pt x="4311" y="5063"/>
                  <a:pt x="4341" y="5135"/>
                </a:cubicBezTo>
                <a:cubicBezTo>
                  <a:pt x="4382" y="5233"/>
                  <a:pt x="4463" y="5247"/>
                  <a:pt x="4539" y="5308"/>
                </a:cubicBezTo>
                <a:cubicBezTo>
                  <a:pt x="4589" y="5349"/>
                  <a:pt x="4734" y="5429"/>
                  <a:pt x="4762" y="5482"/>
                </a:cubicBezTo>
                <a:cubicBezTo>
                  <a:pt x="4782" y="5520"/>
                  <a:pt x="4762" y="5617"/>
                  <a:pt x="4713" y="5631"/>
                </a:cubicBezTo>
                <a:cubicBezTo>
                  <a:pt x="4634" y="5654"/>
                  <a:pt x="4550" y="5676"/>
                  <a:pt x="4465" y="5680"/>
                </a:cubicBezTo>
                <a:cubicBezTo>
                  <a:pt x="4397" y="5683"/>
                  <a:pt x="4335" y="5703"/>
                  <a:pt x="4316" y="5631"/>
                </a:cubicBezTo>
              </a:path>
              <a:path w="11982" h="3102">
                <a:moveTo>
                  <a:pt x="5283" y="4887"/>
                </a:moveTo>
                <a:cubicBezTo>
                  <a:pt x="5350" y="4951"/>
                  <a:pt x="5245" y="4848"/>
                  <a:pt x="5234" y="4837"/>
                </a:cubicBezTo>
                <a:cubicBezTo>
                  <a:pt x="5194" y="4796"/>
                  <a:pt x="5125" y="4854"/>
                  <a:pt x="5085" y="4887"/>
                </a:cubicBezTo>
                <a:cubicBezTo>
                  <a:pt x="4971" y="4980"/>
                  <a:pt x="4917" y="5140"/>
                  <a:pt x="4911" y="5283"/>
                </a:cubicBezTo>
                <a:cubicBezTo>
                  <a:pt x="4907" y="5376"/>
                  <a:pt x="4906" y="5452"/>
                  <a:pt x="4961" y="5531"/>
                </a:cubicBezTo>
                <a:cubicBezTo>
                  <a:pt x="5010" y="5601"/>
                  <a:pt x="5081" y="5619"/>
                  <a:pt x="5159" y="5631"/>
                </a:cubicBezTo>
                <a:cubicBezTo>
                  <a:pt x="5244" y="5645"/>
                  <a:pt x="5355" y="5640"/>
                  <a:pt x="5432" y="5606"/>
                </a:cubicBezTo>
                <a:cubicBezTo>
                  <a:pt x="5449" y="5598"/>
                  <a:pt x="5465" y="5589"/>
                  <a:pt x="5482" y="5581"/>
                </a:cubicBezTo>
              </a:path>
              <a:path w="11982" h="3102">
                <a:moveTo>
                  <a:pt x="6077" y="3597"/>
                </a:moveTo>
                <a:cubicBezTo>
                  <a:pt x="6144" y="3557"/>
                  <a:pt x="6221" y="3565"/>
                  <a:pt x="6300" y="3547"/>
                </a:cubicBezTo>
                <a:cubicBezTo>
                  <a:pt x="6379" y="3529"/>
                  <a:pt x="6446" y="3507"/>
                  <a:pt x="6524" y="3497"/>
                </a:cubicBezTo>
              </a:path>
              <a:path w="11982" h="3102">
                <a:moveTo>
                  <a:pt x="5978" y="3646"/>
                </a:moveTo>
                <a:cubicBezTo>
                  <a:pt x="5955" y="3758"/>
                  <a:pt x="5965" y="3857"/>
                  <a:pt x="5953" y="3969"/>
                </a:cubicBezTo>
                <a:cubicBezTo>
                  <a:pt x="5938" y="4108"/>
                  <a:pt x="5914" y="4254"/>
                  <a:pt x="5904" y="4390"/>
                </a:cubicBezTo>
                <a:cubicBezTo>
                  <a:pt x="5892" y="4546"/>
                  <a:pt x="5855" y="4683"/>
                  <a:pt x="5829" y="4837"/>
                </a:cubicBezTo>
                <a:cubicBezTo>
                  <a:pt x="5805" y="4981"/>
                  <a:pt x="5804" y="5115"/>
                  <a:pt x="5804" y="5259"/>
                </a:cubicBezTo>
                <a:cubicBezTo>
                  <a:pt x="5804" y="5353"/>
                  <a:pt x="5829" y="5433"/>
                  <a:pt x="5829" y="5531"/>
                </a:cubicBezTo>
                <a:cubicBezTo>
                  <a:pt x="5829" y="5612"/>
                  <a:pt x="5800" y="5639"/>
                  <a:pt x="5779" y="5705"/>
                </a:cubicBezTo>
                <a:cubicBezTo>
                  <a:pt x="5876" y="5737"/>
                  <a:pt x="5908" y="5708"/>
                  <a:pt x="6003" y="5705"/>
                </a:cubicBezTo>
                <a:cubicBezTo>
                  <a:pt x="6082" y="5702"/>
                  <a:pt x="6107" y="5690"/>
                  <a:pt x="6176" y="5655"/>
                </a:cubicBezTo>
              </a:path>
              <a:path w="11982" h="3102">
                <a:moveTo>
                  <a:pt x="6970" y="4762"/>
                </a:moveTo>
                <a:cubicBezTo>
                  <a:pt x="6904" y="4779"/>
                  <a:pt x="6918" y="4726"/>
                  <a:pt x="6896" y="4663"/>
                </a:cubicBezTo>
                <a:cubicBezTo>
                  <a:pt x="6883" y="4628"/>
                  <a:pt x="6793" y="4537"/>
                  <a:pt x="6747" y="4539"/>
                </a:cubicBezTo>
                <a:cubicBezTo>
                  <a:pt x="6662" y="4543"/>
                  <a:pt x="6577" y="4691"/>
                  <a:pt x="6548" y="4762"/>
                </a:cubicBezTo>
                <a:cubicBezTo>
                  <a:pt x="6503" y="4874"/>
                  <a:pt x="6463" y="5041"/>
                  <a:pt x="6449" y="5159"/>
                </a:cubicBezTo>
                <a:cubicBezTo>
                  <a:pt x="6439" y="5245"/>
                  <a:pt x="6446" y="5402"/>
                  <a:pt x="6548" y="5432"/>
                </a:cubicBezTo>
                <a:cubicBezTo>
                  <a:pt x="6614" y="5451"/>
                  <a:pt x="6719" y="5422"/>
                  <a:pt x="6772" y="5383"/>
                </a:cubicBezTo>
                <a:cubicBezTo>
                  <a:pt x="6834" y="5337"/>
                  <a:pt x="6882" y="5233"/>
                  <a:pt x="6896" y="5159"/>
                </a:cubicBezTo>
                <a:cubicBezTo>
                  <a:pt x="6909" y="5094"/>
                  <a:pt x="6922" y="5084"/>
                  <a:pt x="6970" y="5035"/>
                </a:cubicBezTo>
                <a:cubicBezTo>
                  <a:pt x="6996" y="5114"/>
                  <a:pt x="6979" y="5149"/>
                  <a:pt x="7020" y="5283"/>
                </a:cubicBezTo>
                <a:cubicBezTo>
                  <a:pt x="7045" y="5365"/>
                  <a:pt x="7068" y="5434"/>
                  <a:pt x="7144" y="5407"/>
                </a:cubicBezTo>
                <a:cubicBezTo>
                  <a:pt x="7160" y="5399"/>
                  <a:pt x="7177" y="5391"/>
                  <a:pt x="7193" y="5383"/>
                </a:cubicBezTo>
              </a:path>
              <a:path w="11982" h="3102">
                <a:moveTo>
                  <a:pt x="7268" y="5035"/>
                </a:moveTo>
                <a:cubicBezTo>
                  <a:pt x="7268" y="5142"/>
                  <a:pt x="7256" y="5236"/>
                  <a:pt x="7293" y="5333"/>
                </a:cubicBezTo>
                <a:cubicBezTo>
                  <a:pt x="7293" y="5209"/>
                  <a:pt x="7275" y="5079"/>
                  <a:pt x="7317" y="4961"/>
                </a:cubicBezTo>
                <a:cubicBezTo>
                  <a:pt x="7347" y="4878"/>
                  <a:pt x="7410" y="4756"/>
                  <a:pt x="7466" y="4688"/>
                </a:cubicBezTo>
                <a:cubicBezTo>
                  <a:pt x="7533" y="4622"/>
                  <a:pt x="7549" y="4606"/>
                  <a:pt x="7590" y="4564"/>
                </a:cubicBezTo>
              </a:path>
              <a:path w="11982" h="3102">
                <a:moveTo>
                  <a:pt x="7987" y="4762"/>
                </a:moveTo>
                <a:cubicBezTo>
                  <a:pt x="8037" y="4763"/>
                  <a:pt x="7979" y="4692"/>
                  <a:pt x="7938" y="4638"/>
                </a:cubicBezTo>
                <a:cubicBezTo>
                  <a:pt x="7883" y="4565"/>
                  <a:pt x="7838" y="4641"/>
                  <a:pt x="7813" y="4688"/>
                </a:cubicBezTo>
                <a:cubicBezTo>
                  <a:pt x="7760" y="4791"/>
                  <a:pt x="7686" y="4879"/>
                  <a:pt x="7640" y="4986"/>
                </a:cubicBezTo>
                <a:cubicBezTo>
                  <a:pt x="7593" y="5094"/>
                  <a:pt x="7599" y="5213"/>
                  <a:pt x="7665" y="5308"/>
                </a:cubicBezTo>
                <a:cubicBezTo>
                  <a:pt x="7715" y="5381"/>
                  <a:pt x="7857" y="5370"/>
                  <a:pt x="7938" y="5358"/>
                </a:cubicBezTo>
                <a:cubicBezTo>
                  <a:pt x="8033" y="5334"/>
                  <a:pt x="8062" y="5328"/>
                  <a:pt x="8111" y="5283"/>
                </a:cubicBezTo>
              </a:path>
              <a:path w="11982" h="3102">
                <a:moveTo>
                  <a:pt x="8607" y="4415"/>
                </a:moveTo>
                <a:cubicBezTo>
                  <a:pt x="8618" y="4610"/>
                  <a:pt x="8634" y="4815"/>
                  <a:pt x="8607" y="5011"/>
                </a:cubicBezTo>
                <a:cubicBezTo>
                  <a:pt x="8592" y="5125"/>
                  <a:pt x="8607" y="5217"/>
                  <a:pt x="8607" y="5333"/>
                </a:cubicBezTo>
                <a:cubicBezTo>
                  <a:pt x="8607" y="5358"/>
                  <a:pt x="8607" y="5382"/>
                  <a:pt x="8607" y="5407"/>
                </a:cubicBezTo>
              </a:path>
              <a:path w="11982" h="3102">
                <a:moveTo>
                  <a:pt x="8334" y="4837"/>
                </a:moveTo>
                <a:cubicBezTo>
                  <a:pt x="8479" y="4830"/>
                  <a:pt x="8610" y="4812"/>
                  <a:pt x="8756" y="4812"/>
                </a:cubicBezTo>
                <a:cubicBezTo>
                  <a:pt x="8855" y="4812"/>
                  <a:pt x="8888" y="4812"/>
                  <a:pt x="8954" y="4812"/>
                </a:cubicBezTo>
              </a:path>
              <a:path w="11982" h="3102">
                <a:moveTo>
                  <a:pt x="9203" y="4762"/>
                </a:moveTo>
                <a:cubicBezTo>
                  <a:pt x="9246" y="4784"/>
                  <a:pt x="9258" y="4788"/>
                  <a:pt x="9277" y="4812"/>
                </a:cubicBezTo>
                <a:cubicBezTo>
                  <a:pt x="9225" y="4789"/>
                  <a:pt x="9154" y="4760"/>
                  <a:pt x="9103" y="4812"/>
                </a:cubicBezTo>
                <a:cubicBezTo>
                  <a:pt x="9043" y="4873"/>
                  <a:pt x="8967" y="4982"/>
                  <a:pt x="8930" y="5060"/>
                </a:cubicBezTo>
                <a:cubicBezTo>
                  <a:pt x="8902" y="5118"/>
                  <a:pt x="8902" y="5175"/>
                  <a:pt x="8880" y="5234"/>
                </a:cubicBezTo>
                <a:cubicBezTo>
                  <a:pt x="8930" y="5283"/>
                  <a:pt x="8980" y="5302"/>
                  <a:pt x="9054" y="5283"/>
                </a:cubicBezTo>
                <a:cubicBezTo>
                  <a:pt x="9104" y="5270"/>
                  <a:pt x="9174" y="5178"/>
                  <a:pt x="9203" y="5135"/>
                </a:cubicBezTo>
                <a:cubicBezTo>
                  <a:pt x="9243" y="5074"/>
                  <a:pt x="9257" y="5005"/>
                  <a:pt x="9277" y="4936"/>
                </a:cubicBezTo>
                <a:cubicBezTo>
                  <a:pt x="9277" y="5027"/>
                  <a:pt x="9262" y="5097"/>
                  <a:pt x="9252" y="5184"/>
                </a:cubicBezTo>
                <a:cubicBezTo>
                  <a:pt x="9241" y="5283"/>
                  <a:pt x="9228" y="5344"/>
                  <a:pt x="9327" y="5358"/>
                </a:cubicBezTo>
              </a:path>
              <a:path w="11982" h="3102">
                <a:moveTo>
                  <a:pt x="9401" y="4887"/>
                </a:moveTo>
                <a:cubicBezTo>
                  <a:pt x="9393" y="4925"/>
                  <a:pt x="9334" y="5176"/>
                  <a:pt x="9351" y="5209"/>
                </a:cubicBezTo>
                <a:cubicBezTo>
                  <a:pt x="9359" y="5192"/>
                  <a:pt x="9368" y="5176"/>
                  <a:pt x="9376" y="5159"/>
                </a:cubicBezTo>
                <a:cubicBezTo>
                  <a:pt x="9402" y="5083"/>
                  <a:pt x="9414" y="4992"/>
                  <a:pt x="9426" y="4911"/>
                </a:cubicBezTo>
                <a:cubicBezTo>
                  <a:pt x="9437" y="4833"/>
                  <a:pt x="9453" y="4756"/>
                  <a:pt x="9500" y="4688"/>
                </a:cubicBezTo>
                <a:cubicBezTo>
                  <a:pt x="9547" y="4620"/>
                  <a:pt x="9673" y="4706"/>
                  <a:pt x="9699" y="4762"/>
                </a:cubicBezTo>
                <a:cubicBezTo>
                  <a:pt x="9728" y="4824"/>
                  <a:pt x="9796" y="4977"/>
                  <a:pt x="9773" y="5060"/>
                </a:cubicBezTo>
                <a:cubicBezTo>
                  <a:pt x="9759" y="5111"/>
                  <a:pt x="9776" y="5161"/>
                  <a:pt x="9723" y="5159"/>
                </a:cubicBezTo>
              </a:path>
              <a:path w="11982" h="3102">
                <a:moveTo>
                  <a:pt x="10294" y="3845"/>
                </a:moveTo>
                <a:cubicBezTo>
                  <a:pt x="10246" y="3924"/>
                  <a:pt x="10219" y="4044"/>
                  <a:pt x="10195" y="4142"/>
                </a:cubicBezTo>
                <a:cubicBezTo>
                  <a:pt x="10155" y="4310"/>
                  <a:pt x="10105" y="4466"/>
                  <a:pt x="10071" y="4638"/>
                </a:cubicBezTo>
                <a:cubicBezTo>
                  <a:pt x="10040" y="4793"/>
                  <a:pt x="10000" y="4950"/>
                  <a:pt x="10021" y="5110"/>
                </a:cubicBezTo>
                <a:cubicBezTo>
                  <a:pt x="10035" y="5217"/>
                  <a:pt x="10090" y="5357"/>
                  <a:pt x="10170" y="5432"/>
                </a:cubicBezTo>
                <a:cubicBezTo>
                  <a:pt x="10212" y="5471"/>
                  <a:pt x="10341" y="5520"/>
                  <a:pt x="10393" y="5482"/>
                </a:cubicBezTo>
                <a:cubicBezTo>
                  <a:pt x="10418" y="5449"/>
                  <a:pt x="10443" y="5416"/>
                  <a:pt x="10468" y="5383"/>
                </a:cubicBezTo>
              </a:path>
              <a:path w="11982" h="3102">
                <a:moveTo>
                  <a:pt x="10641" y="4490"/>
                </a:moveTo>
                <a:cubicBezTo>
                  <a:pt x="10755" y="4490"/>
                  <a:pt x="10853" y="4469"/>
                  <a:pt x="10964" y="4465"/>
                </a:cubicBezTo>
                <a:cubicBezTo>
                  <a:pt x="10989" y="4465"/>
                  <a:pt x="11013" y="4465"/>
                  <a:pt x="11038" y="4465"/>
                </a:cubicBezTo>
              </a:path>
              <a:path w="11982" h="3102">
                <a:moveTo>
                  <a:pt x="11435" y="4043"/>
                </a:moveTo>
                <a:cubicBezTo>
                  <a:pt x="11435" y="4286"/>
                  <a:pt x="11435" y="4413"/>
                  <a:pt x="11460" y="4614"/>
                </a:cubicBezTo>
              </a:path>
              <a:path w="11982" h="3102">
                <a:moveTo>
                  <a:pt x="11807" y="3870"/>
                </a:moveTo>
                <a:cubicBezTo>
                  <a:pt x="11896" y="3897"/>
                  <a:pt x="11968" y="3904"/>
                  <a:pt x="11956" y="4018"/>
                </a:cubicBezTo>
                <a:cubicBezTo>
                  <a:pt x="11937" y="4196"/>
                  <a:pt x="11837" y="4238"/>
                  <a:pt x="11782" y="4390"/>
                </a:cubicBezTo>
                <a:cubicBezTo>
                  <a:pt x="11782" y="4407"/>
                  <a:pt x="11782" y="4423"/>
                  <a:pt x="11782" y="4440"/>
                </a:cubicBezTo>
                <a:cubicBezTo>
                  <a:pt x="11908" y="4503"/>
                  <a:pt x="11956" y="4427"/>
                  <a:pt x="12055" y="4341"/>
                </a:cubicBezTo>
              </a:path>
              <a:path w="11982" h="3102">
                <a:moveTo>
                  <a:pt x="12254" y="3820"/>
                </a:moveTo>
                <a:cubicBezTo>
                  <a:pt x="12191" y="4002"/>
                  <a:pt x="12149" y="4187"/>
                  <a:pt x="12080" y="4366"/>
                </a:cubicBezTo>
                <a:cubicBezTo>
                  <a:pt x="12020" y="4522"/>
                  <a:pt x="11990" y="4674"/>
                  <a:pt x="11956" y="4837"/>
                </a:cubicBezTo>
                <a:cubicBezTo>
                  <a:pt x="11928" y="4968"/>
                  <a:pt x="11937" y="5107"/>
                  <a:pt x="11906" y="5234"/>
                </a:cubicBezTo>
                <a:cubicBezTo>
                  <a:pt x="11898" y="5250"/>
                  <a:pt x="11889" y="5267"/>
                  <a:pt x="11881" y="5283"/>
                </a:cubicBezTo>
              </a:path>
              <a:path w="11982" h="3102">
                <a:moveTo>
                  <a:pt x="12254" y="4638"/>
                </a:moveTo>
                <a:cubicBezTo>
                  <a:pt x="12360" y="4611"/>
                  <a:pt x="12472" y="4562"/>
                  <a:pt x="12576" y="4539"/>
                </a:cubicBezTo>
                <a:cubicBezTo>
                  <a:pt x="12593" y="4539"/>
                  <a:pt x="12609" y="4539"/>
                  <a:pt x="12626" y="4539"/>
                </a:cubicBezTo>
              </a:path>
              <a:path w="11982" h="3102">
                <a:moveTo>
                  <a:pt x="12303" y="4738"/>
                </a:moveTo>
                <a:cubicBezTo>
                  <a:pt x="12275" y="4813"/>
                  <a:pt x="12275" y="4812"/>
                  <a:pt x="12303" y="4887"/>
                </a:cubicBezTo>
                <a:cubicBezTo>
                  <a:pt x="12373" y="4878"/>
                  <a:pt x="12423" y="4861"/>
                  <a:pt x="12477" y="4812"/>
                </a:cubicBezTo>
                <a:cubicBezTo>
                  <a:pt x="12543" y="4753"/>
                  <a:pt x="12576" y="4812"/>
                  <a:pt x="12626" y="4862"/>
                </a:cubicBezTo>
                <a:cubicBezTo>
                  <a:pt x="12701" y="4937"/>
                  <a:pt x="12721" y="5030"/>
                  <a:pt x="12725" y="5135"/>
                </a:cubicBezTo>
                <a:cubicBezTo>
                  <a:pt x="12730" y="5270"/>
                  <a:pt x="12718" y="5272"/>
                  <a:pt x="12626" y="5358"/>
                </a:cubicBezTo>
                <a:cubicBezTo>
                  <a:pt x="12539" y="5440"/>
                  <a:pt x="12448" y="5462"/>
                  <a:pt x="12328" y="5407"/>
                </a:cubicBezTo>
                <a:cubicBezTo>
                  <a:pt x="12273" y="5353"/>
                  <a:pt x="12251" y="5334"/>
                  <a:pt x="12204" y="5308"/>
                </a:cubicBezTo>
              </a:path>
              <a:path w="11982" h="3102">
                <a:moveTo>
                  <a:pt x="13047" y="3746"/>
                </a:moveTo>
                <a:cubicBezTo>
                  <a:pt x="13207" y="4052"/>
                  <a:pt x="13296" y="4226"/>
                  <a:pt x="13320" y="4564"/>
                </a:cubicBezTo>
                <a:cubicBezTo>
                  <a:pt x="13331" y="4723"/>
                  <a:pt x="13344" y="4932"/>
                  <a:pt x="13295" y="5085"/>
                </a:cubicBezTo>
                <a:cubicBezTo>
                  <a:pt x="13248" y="5230"/>
                  <a:pt x="13167" y="5383"/>
                  <a:pt x="13047" y="5482"/>
                </a:cubicBezTo>
                <a:cubicBezTo>
                  <a:pt x="13008" y="5514"/>
                  <a:pt x="12943" y="5534"/>
                  <a:pt x="12898" y="5556"/>
                </a:cubicBezTo>
              </a:path>
              <a:path w="11982" h="3102">
                <a:moveTo>
                  <a:pt x="13419" y="3051"/>
                </a:moveTo>
                <a:cubicBezTo>
                  <a:pt x="13667" y="3051"/>
                  <a:pt x="13922" y="3067"/>
                  <a:pt x="14163" y="3026"/>
                </a:cubicBezTo>
                <a:cubicBezTo>
                  <a:pt x="14256" y="3010"/>
                  <a:pt x="14336" y="3015"/>
                  <a:pt x="14412" y="3026"/>
                </a:cubicBezTo>
                <a:cubicBezTo>
                  <a:pt x="14393" y="3100"/>
                  <a:pt x="14387" y="3164"/>
                  <a:pt x="14387" y="3249"/>
                </a:cubicBezTo>
                <a:cubicBezTo>
                  <a:pt x="14387" y="3664"/>
                  <a:pt x="14380" y="4079"/>
                  <a:pt x="14412" y="4490"/>
                </a:cubicBezTo>
                <a:cubicBezTo>
                  <a:pt x="14424" y="4647"/>
                  <a:pt x="14450" y="4804"/>
                  <a:pt x="14461" y="4961"/>
                </a:cubicBezTo>
                <a:cubicBezTo>
                  <a:pt x="14475" y="5164"/>
                  <a:pt x="14539" y="5356"/>
                  <a:pt x="14560" y="5556"/>
                </a:cubicBezTo>
                <a:cubicBezTo>
                  <a:pt x="14573" y="5681"/>
                  <a:pt x="14585" y="5801"/>
                  <a:pt x="14585" y="5928"/>
                </a:cubicBezTo>
                <a:cubicBezTo>
                  <a:pt x="14585" y="5992"/>
                  <a:pt x="14598" y="6042"/>
                  <a:pt x="14610" y="6102"/>
                </a:cubicBezTo>
                <a:cubicBezTo>
                  <a:pt x="14549" y="6063"/>
                  <a:pt x="14521" y="6034"/>
                  <a:pt x="14436" y="6028"/>
                </a:cubicBezTo>
                <a:cubicBezTo>
                  <a:pt x="14109" y="6006"/>
                  <a:pt x="13771" y="6028"/>
                  <a:pt x="13444" y="6028"/>
                </a:cubicBezTo>
              </a:path>
              <a:path w="11982" h="3102">
                <a:moveTo>
                  <a:pt x="14932" y="4713"/>
                </a:moveTo>
                <a:cubicBezTo>
                  <a:pt x="15007" y="4750"/>
                  <a:pt x="15039" y="4726"/>
                  <a:pt x="15106" y="4713"/>
                </a:cubicBezTo>
                <a:cubicBezTo>
                  <a:pt x="15208" y="4693"/>
                  <a:pt x="15351" y="4698"/>
                  <a:pt x="15453" y="4688"/>
                </a:cubicBezTo>
                <a:cubicBezTo>
                  <a:pt x="15470" y="4688"/>
                  <a:pt x="15486" y="4688"/>
                  <a:pt x="15503" y="4688"/>
                </a:cubicBezTo>
              </a:path>
              <a:path w="11982" h="3102">
                <a:moveTo>
                  <a:pt x="14957" y="4911"/>
                </a:moveTo>
                <a:cubicBezTo>
                  <a:pt x="15088" y="4937"/>
                  <a:pt x="15172" y="4916"/>
                  <a:pt x="15304" y="4911"/>
                </a:cubicBezTo>
                <a:cubicBezTo>
                  <a:pt x="15353" y="4909"/>
                  <a:pt x="15403" y="4911"/>
                  <a:pt x="15453" y="49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Ink 6"/>
          <p:cNvSpPr/>
          <p:nvPr/>
        </p:nvSpPr>
        <p:spPr>
          <a:xfrm>
            <a:off x="5956200" y="1339920"/>
            <a:ext cx="303480" cy="285840"/>
          </a:xfrm>
          <a:custGeom>
            <a:avLst/>
            <a:gdLst/>
            <a:ahLst/>
            <a:rect l="l" t="t" r="r" b="b"/>
            <a:pathLst>
              <a:path w="844" h="794">
                <a:moveTo>
                  <a:pt x="16545" y="4490"/>
                </a:moveTo>
                <a:cubicBezTo>
                  <a:pt x="16630" y="4479"/>
                  <a:pt x="16719" y="4453"/>
                  <a:pt x="16793" y="4415"/>
                </a:cubicBezTo>
                <a:cubicBezTo>
                  <a:pt x="16849" y="4386"/>
                  <a:pt x="16936" y="4377"/>
                  <a:pt x="16991" y="4366"/>
                </a:cubicBezTo>
                <a:cubicBezTo>
                  <a:pt x="17033" y="4366"/>
                  <a:pt x="17041" y="4366"/>
                  <a:pt x="17066" y="4366"/>
                </a:cubicBezTo>
              </a:path>
              <a:path w="844" h="794">
                <a:moveTo>
                  <a:pt x="17388" y="3721"/>
                </a:moveTo>
                <a:cubicBezTo>
                  <a:pt x="17388" y="3922"/>
                  <a:pt x="17393" y="4124"/>
                  <a:pt x="17363" y="4316"/>
                </a:cubicBezTo>
                <a:cubicBezTo>
                  <a:pt x="17351" y="4390"/>
                  <a:pt x="17389" y="4435"/>
                  <a:pt x="17338" y="44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Ink 7"/>
          <p:cNvSpPr/>
          <p:nvPr/>
        </p:nvSpPr>
        <p:spPr>
          <a:xfrm>
            <a:off x="741240" y="3490920"/>
            <a:ext cx="71640" cy="268200"/>
          </a:xfrm>
          <a:custGeom>
            <a:avLst/>
            <a:gdLst/>
            <a:ahLst/>
            <a:rect l="l" t="t" r="r" b="b"/>
            <a:pathLst>
              <a:path w="199" h="745">
                <a:moveTo>
                  <a:pt x="2059" y="9699"/>
                </a:moveTo>
                <a:cubicBezTo>
                  <a:pt x="2107" y="9758"/>
                  <a:pt x="2140" y="9832"/>
                  <a:pt x="2183" y="9897"/>
                </a:cubicBezTo>
                <a:cubicBezTo>
                  <a:pt x="2260" y="10014"/>
                  <a:pt x="2277" y="10126"/>
                  <a:pt x="2257" y="10269"/>
                </a:cubicBezTo>
                <a:cubicBezTo>
                  <a:pt x="2250" y="10316"/>
                  <a:pt x="2188" y="10427"/>
                  <a:pt x="2133" y="10443"/>
                </a:cubicBezTo>
                <a:cubicBezTo>
                  <a:pt x="2117" y="10443"/>
                  <a:pt x="2100" y="10443"/>
                  <a:pt x="2084" y="104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Ink 8"/>
          <p:cNvSpPr/>
          <p:nvPr/>
        </p:nvSpPr>
        <p:spPr>
          <a:xfrm>
            <a:off x="830160" y="2955960"/>
            <a:ext cx="277920" cy="258840"/>
          </a:xfrm>
          <a:custGeom>
            <a:avLst/>
            <a:gdLst/>
            <a:ahLst/>
            <a:rect l="l" t="t" r="r" b="b"/>
            <a:pathLst>
              <a:path w="770" h="721">
                <a:moveTo>
                  <a:pt x="2307" y="8334"/>
                </a:moveTo>
                <a:cubicBezTo>
                  <a:pt x="2307" y="8431"/>
                  <a:pt x="2328" y="8512"/>
                  <a:pt x="2332" y="8607"/>
                </a:cubicBezTo>
                <a:cubicBezTo>
                  <a:pt x="2336" y="8687"/>
                  <a:pt x="2308" y="8922"/>
                  <a:pt x="2356" y="8905"/>
                </a:cubicBezTo>
              </a:path>
              <a:path w="770" h="721">
                <a:moveTo>
                  <a:pt x="2555" y="8310"/>
                </a:moveTo>
                <a:cubicBezTo>
                  <a:pt x="2636" y="8228"/>
                  <a:pt x="2671" y="8190"/>
                  <a:pt x="2803" y="8210"/>
                </a:cubicBezTo>
                <a:cubicBezTo>
                  <a:pt x="2864" y="8219"/>
                  <a:pt x="2921" y="8299"/>
                  <a:pt x="2902" y="8359"/>
                </a:cubicBezTo>
                <a:cubicBezTo>
                  <a:pt x="2886" y="8412"/>
                  <a:pt x="2791" y="8454"/>
                  <a:pt x="2753" y="8483"/>
                </a:cubicBezTo>
                <a:cubicBezTo>
                  <a:pt x="2682" y="8537"/>
                  <a:pt x="2669" y="8508"/>
                  <a:pt x="2778" y="8508"/>
                </a:cubicBezTo>
                <a:cubicBezTo>
                  <a:pt x="2836" y="8508"/>
                  <a:pt x="2879" y="8533"/>
                  <a:pt x="2927" y="8558"/>
                </a:cubicBezTo>
                <a:cubicBezTo>
                  <a:pt x="2991" y="8591"/>
                  <a:pt x="3076" y="8646"/>
                  <a:pt x="3076" y="8731"/>
                </a:cubicBezTo>
                <a:cubicBezTo>
                  <a:pt x="3076" y="8782"/>
                  <a:pt x="2976" y="8871"/>
                  <a:pt x="2927" y="8880"/>
                </a:cubicBezTo>
                <a:cubicBezTo>
                  <a:pt x="2836" y="8897"/>
                  <a:pt x="2734" y="8843"/>
                  <a:pt x="2654" y="8806"/>
                </a:cubicBezTo>
                <a:cubicBezTo>
                  <a:pt x="2637" y="8798"/>
                  <a:pt x="2621" y="8789"/>
                  <a:pt x="2604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Ink 9"/>
          <p:cNvSpPr/>
          <p:nvPr/>
        </p:nvSpPr>
        <p:spPr>
          <a:xfrm>
            <a:off x="1401840" y="3875040"/>
            <a:ext cx="241200" cy="312840"/>
          </a:xfrm>
          <a:custGeom>
            <a:avLst/>
            <a:gdLst/>
            <a:ahLst/>
            <a:rect l="l" t="t" r="r" b="b"/>
            <a:pathLst>
              <a:path w="671" h="869">
                <a:moveTo>
                  <a:pt x="4068" y="10840"/>
                </a:moveTo>
                <a:cubicBezTo>
                  <a:pt x="4145" y="10811"/>
                  <a:pt x="4206" y="10815"/>
                  <a:pt x="4291" y="10815"/>
                </a:cubicBezTo>
                <a:cubicBezTo>
                  <a:pt x="4365" y="10815"/>
                  <a:pt x="4430" y="10826"/>
                  <a:pt x="4490" y="10790"/>
                </a:cubicBezTo>
              </a:path>
              <a:path w="671" h="869">
                <a:moveTo>
                  <a:pt x="4142" y="10765"/>
                </a:moveTo>
                <a:cubicBezTo>
                  <a:pt x="4070" y="10837"/>
                  <a:pt x="3976" y="10896"/>
                  <a:pt x="4018" y="11013"/>
                </a:cubicBezTo>
                <a:cubicBezTo>
                  <a:pt x="4034" y="11058"/>
                  <a:pt x="4122" y="11122"/>
                  <a:pt x="4167" y="11112"/>
                </a:cubicBezTo>
                <a:cubicBezTo>
                  <a:pt x="4246" y="11094"/>
                  <a:pt x="4294" y="11073"/>
                  <a:pt x="4366" y="11112"/>
                </a:cubicBezTo>
                <a:cubicBezTo>
                  <a:pt x="4477" y="11171"/>
                  <a:pt x="4576" y="11277"/>
                  <a:pt x="4564" y="11410"/>
                </a:cubicBezTo>
                <a:cubicBezTo>
                  <a:pt x="4555" y="11506"/>
                  <a:pt x="4491" y="11545"/>
                  <a:pt x="4415" y="11584"/>
                </a:cubicBezTo>
                <a:cubicBezTo>
                  <a:pt x="4333" y="11625"/>
                  <a:pt x="4284" y="11633"/>
                  <a:pt x="4192" y="11633"/>
                </a:cubicBezTo>
                <a:cubicBezTo>
                  <a:pt x="4111" y="11633"/>
                  <a:pt x="4044" y="11587"/>
                  <a:pt x="3969" y="11559"/>
                </a:cubicBezTo>
                <a:cubicBezTo>
                  <a:pt x="3944" y="11551"/>
                  <a:pt x="3919" y="11542"/>
                  <a:pt x="3894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Ink 10"/>
          <p:cNvSpPr/>
          <p:nvPr/>
        </p:nvSpPr>
        <p:spPr>
          <a:xfrm>
            <a:off x="2214720" y="3571920"/>
            <a:ext cx="206280" cy="258840"/>
          </a:xfrm>
          <a:custGeom>
            <a:avLst/>
            <a:gdLst/>
            <a:ahLst/>
            <a:rect l="l" t="t" r="r" b="b"/>
            <a:pathLst>
              <a:path w="571" h="720">
                <a:moveTo>
                  <a:pt x="6722" y="9947"/>
                </a:moveTo>
                <a:cubicBezTo>
                  <a:pt x="6645" y="9926"/>
                  <a:pt x="6556" y="9905"/>
                  <a:pt x="6474" y="9922"/>
                </a:cubicBezTo>
                <a:cubicBezTo>
                  <a:pt x="6392" y="9939"/>
                  <a:pt x="6306" y="9959"/>
                  <a:pt x="6226" y="9971"/>
                </a:cubicBezTo>
                <a:cubicBezTo>
                  <a:pt x="6157" y="9981"/>
                  <a:pt x="6121" y="10002"/>
                  <a:pt x="6176" y="10071"/>
                </a:cubicBezTo>
                <a:cubicBezTo>
                  <a:pt x="6229" y="10138"/>
                  <a:pt x="6242" y="10233"/>
                  <a:pt x="6226" y="10319"/>
                </a:cubicBezTo>
                <a:cubicBezTo>
                  <a:pt x="6213" y="10386"/>
                  <a:pt x="6173" y="10495"/>
                  <a:pt x="6201" y="10567"/>
                </a:cubicBezTo>
                <a:cubicBezTo>
                  <a:pt x="6223" y="10623"/>
                  <a:pt x="6210" y="10630"/>
                  <a:pt x="6251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Ink 11"/>
          <p:cNvSpPr/>
          <p:nvPr/>
        </p:nvSpPr>
        <p:spPr>
          <a:xfrm>
            <a:off x="2463840" y="3098880"/>
            <a:ext cx="492120" cy="295200"/>
          </a:xfrm>
          <a:custGeom>
            <a:avLst/>
            <a:gdLst/>
            <a:ahLst/>
            <a:rect l="l" t="t" r="r" b="b"/>
            <a:pathLst>
              <a:path w="1365" h="820">
                <a:moveTo>
                  <a:pt x="6846" y="9029"/>
                </a:moveTo>
                <a:cubicBezTo>
                  <a:pt x="6933" y="9013"/>
                  <a:pt x="6986" y="9004"/>
                  <a:pt x="7069" y="9004"/>
                </a:cubicBezTo>
              </a:path>
              <a:path w="1365" h="820">
                <a:moveTo>
                  <a:pt x="7268" y="8607"/>
                </a:moveTo>
                <a:cubicBezTo>
                  <a:pt x="7245" y="8706"/>
                  <a:pt x="7224" y="8826"/>
                  <a:pt x="7243" y="8930"/>
                </a:cubicBezTo>
                <a:cubicBezTo>
                  <a:pt x="7261" y="9027"/>
                  <a:pt x="7267" y="9134"/>
                  <a:pt x="7293" y="9227"/>
                </a:cubicBezTo>
                <a:cubicBezTo>
                  <a:pt x="7305" y="9270"/>
                  <a:pt x="7319" y="9395"/>
                  <a:pt x="7342" y="9426"/>
                </a:cubicBezTo>
                <a:cubicBezTo>
                  <a:pt x="7350" y="9426"/>
                  <a:pt x="7359" y="9426"/>
                  <a:pt x="7367" y="9426"/>
                </a:cubicBezTo>
              </a:path>
              <a:path w="1365" h="820">
                <a:moveTo>
                  <a:pt x="7615" y="8756"/>
                </a:moveTo>
                <a:cubicBezTo>
                  <a:pt x="7730" y="8742"/>
                  <a:pt x="7789" y="8711"/>
                  <a:pt x="7838" y="8830"/>
                </a:cubicBezTo>
                <a:cubicBezTo>
                  <a:pt x="7877" y="8925"/>
                  <a:pt x="7861" y="9056"/>
                  <a:pt x="7838" y="9153"/>
                </a:cubicBezTo>
                <a:cubicBezTo>
                  <a:pt x="7824" y="9210"/>
                  <a:pt x="7793" y="9293"/>
                  <a:pt x="7739" y="9327"/>
                </a:cubicBezTo>
                <a:cubicBezTo>
                  <a:pt x="7700" y="9351"/>
                  <a:pt x="7637" y="9403"/>
                  <a:pt x="7615" y="9327"/>
                </a:cubicBezTo>
                <a:cubicBezTo>
                  <a:pt x="7615" y="9310"/>
                  <a:pt x="7615" y="9294"/>
                  <a:pt x="7615" y="9277"/>
                </a:cubicBezTo>
                <a:cubicBezTo>
                  <a:pt x="7715" y="9255"/>
                  <a:pt x="7832" y="9291"/>
                  <a:pt x="7938" y="9327"/>
                </a:cubicBezTo>
                <a:cubicBezTo>
                  <a:pt x="8038" y="9361"/>
                  <a:pt x="8102" y="9376"/>
                  <a:pt x="8210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Ink 12"/>
          <p:cNvSpPr/>
          <p:nvPr/>
        </p:nvSpPr>
        <p:spPr>
          <a:xfrm>
            <a:off x="6188040" y="1320840"/>
            <a:ext cx="411120" cy="849240"/>
          </a:xfrm>
          <a:custGeom>
            <a:avLst/>
            <a:gdLst/>
            <a:ahLst/>
            <a:rect l="l" t="t" r="r" b="b"/>
            <a:pathLst>
              <a:path w="1142" h="2358">
                <a:moveTo>
                  <a:pt x="17587" y="3795"/>
                </a:moveTo>
                <a:cubicBezTo>
                  <a:pt x="17667" y="3740"/>
                  <a:pt x="17771" y="3630"/>
                  <a:pt x="17884" y="3671"/>
                </a:cubicBezTo>
                <a:cubicBezTo>
                  <a:pt x="17915" y="3682"/>
                  <a:pt x="17976" y="3769"/>
                  <a:pt x="17983" y="3795"/>
                </a:cubicBezTo>
                <a:cubicBezTo>
                  <a:pt x="17996" y="3845"/>
                  <a:pt x="17942" y="3961"/>
                  <a:pt x="17909" y="3994"/>
                </a:cubicBezTo>
                <a:cubicBezTo>
                  <a:pt x="17874" y="4028"/>
                  <a:pt x="17823" y="4055"/>
                  <a:pt x="17785" y="4093"/>
                </a:cubicBezTo>
                <a:cubicBezTo>
                  <a:pt x="17848" y="4135"/>
                  <a:pt x="17918" y="4176"/>
                  <a:pt x="17983" y="4217"/>
                </a:cubicBezTo>
                <a:cubicBezTo>
                  <a:pt x="18041" y="4253"/>
                  <a:pt x="18097" y="4311"/>
                  <a:pt x="18083" y="4390"/>
                </a:cubicBezTo>
                <a:cubicBezTo>
                  <a:pt x="18066" y="4489"/>
                  <a:pt x="18028" y="4511"/>
                  <a:pt x="17959" y="4564"/>
                </a:cubicBezTo>
                <a:cubicBezTo>
                  <a:pt x="17889" y="4617"/>
                  <a:pt x="17816" y="4630"/>
                  <a:pt x="17735" y="4663"/>
                </a:cubicBezTo>
                <a:cubicBezTo>
                  <a:pt x="17719" y="4671"/>
                  <a:pt x="17702" y="4680"/>
                  <a:pt x="17686" y="4688"/>
                </a:cubicBezTo>
              </a:path>
              <a:path w="1142" h="2358">
                <a:moveTo>
                  <a:pt x="17190" y="4713"/>
                </a:moveTo>
                <a:cubicBezTo>
                  <a:pt x="17285" y="4713"/>
                  <a:pt x="17372" y="4695"/>
                  <a:pt x="17462" y="4688"/>
                </a:cubicBezTo>
                <a:cubicBezTo>
                  <a:pt x="17635" y="4676"/>
                  <a:pt x="17812" y="4696"/>
                  <a:pt x="17983" y="4663"/>
                </a:cubicBezTo>
                <a:cubicBezTo>
                  <a:pt x="18078" y="4645"/>
                  <a:pt x="18158" y="4638"/>
                  <a:pt x="18256" y="4638"/>
                </a:cubicBezTo>
                <a:cubicBezTo>
                  <a:pt x="18324" y="4638"/>
                  <a:pt x="18331" y="4639"/>
                  <a:pt x="18306" y="4688"/>
                </a:cubicBezTo>
              </a:path>
              <a:path w="1142" h="2358">
                <a:moveTo>
                  <a:pt x="17363" y="5135"/>
                </a:moveTo>
                <a:cubicBezTo>
                  <a:pt x="17404" y="5256"/>
                  <a:pt x="17413" y="5327"/>
                  <a:pt x="17413" y="5457"/>
                </a:cubicBezTo>
                <a:cubicBezTo>
                  <a:pt x="17413" y="5586"/>
                  <a:pt x="17407" y="5707"/>
                  <a:pt x="17388" y="5829"/>
                </a:cubicBezTo>
                <a:cubicBezTo>
                  <a:pt x="17378" y="5891"/>
                  <a:pt x="17414" y="5977"/>
                  <a:pt x="17363" y="6028"/>
                </a:cubicBezTo>
                <a:cubicBezTo>
                  <a:pt x="17363" y="6020"/>
                  <a:pt x="17363" y="6011"/>
                  <a:pt x="17363" y="6003"/>
                </a:cubicBezTo>
              </a:path>
              <a:path w="1142" h="2358">
                <a:moveTo>
                  <a:pt x="17661" y="5333"/>
                </a:moveTo>
                <a:cubicBezTo>
                  <a:pt x="17661" y="5378"/>
                  <a:pt x="17665" y="5391"/>
                  <a:pt x="17636" y="5407"/>
                </a:cubicBezTo>
                <a:cubicBezTo>
                  <a:pt x="17645" y="5338"/>
                  <a:pt x="17669" y="5291"/>
                  <a:pt x="17711" y="5234"/>
                </a:cubicBezTo>
                <a:cubicBezTo>
                  <a:pt x="17746" y="5187"/>
                  <a:pt x="17762" y="5118"/>
                  <a:pt x="17835" y="5135"/>
                </a:cubicBezTo>
                <a:cubicBezTo>
                  <a:pt x="17920" y="5154"/>
                  <a:pt x="17955" y="5232"/>
                  <a:pt x="17959" y="5308"/>
                </a:cubicBezTo>
                <a:cubicBezTo>
                  <a:pt x="17966" y="5429"/>
                  <a:pt x="17968" y="5563"/>
                  <a:pt x="17934" y="5680"/>
                </a:cubicBezTo>
                <a:cubicBezTo>
                  <a:pt x="17906" y="5779"/>
                  <a:pt x="17893" y="5807"/>
                  <a:pt x="17835" y="5879"/>
                </a:cubicBezTo>
                <a:cubicBezTo>
                  <a:pt x="17814" y="5906"/>
                  <a:pt x="17777" y="5994"/>
                  <a:pt x="17735" y="6003"/>
                </a:cubicBezTo>
                <a:cubicBezTo>
                  <a:pt x="17638" y="6024"/>
                  <a:pt x="17580" y="5968"/>
                  <a:pt x="17562" y="5879"/>
                </a:cubicBezTo>
                <a:cubicBezTo>
                  <a:pt x="17546" y="5801"/>
                  <a:pt x="17595" y="5738"/>
                  <a:pt x="17661" y="5730"/>
                </a:cubicBezTo>
                <a:cubicBezTo>
                  <a:pt x="17726" y="5723"/>
                  <a:pt x="17759" y="5773"/>
                  <a:pt x="17810" y="5804"/>
                </a:cubicBezTo>
                <a:cubicBezTo>
                  <a:pt x="17876" y="5844"/>
                  <a:pt x="17939" y="5874"/>
                  <a:pt x="18008" y="5904"/>
                </a:cubicBezTo>
                <a:cubicBezTo>
                  <a:pt x="18063" y="5928"/>
                  <a:pt x="18131" y="5968"/>
                  <a:pt x="18182" y="5978"/>
                </a:cubicBezTo>
                <a:cubicBezTo>
                  <a:pt x="18212" y="5984"/>
                  <a:pt x="18342" y="5984"/>
                  <a:pt x="18281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Ink 13"/>
          <p:cNvSpPr/>
          <p:nvPr/>
        </p:nvSpPr>
        <p:spPr>
          <a:xfrm>
            <a:off x="419040" y="2536920"/>
            <a:ext cx="2063880" cy="1330200"/>
          </a:xfrm>
          <a:custGeom>
            <a:avLst/>
            <a:gdLst/>
            <a:ahLst/>
            <a:rect l="l" t="t" r="r" b="b"/>
            <a:pathLst>
              <a:path w="5731" h="3696">
                <a:moveTo>
                  <a:pt x="1166" y="10294"/>
                </a:moveTo>
                <a:cubicBezTo>
                  <a:pt x="1251" y="10219"/>
                  <a:pt x="1327" y="10163"/>
                  <a:pt x="1414" y="10096"/>
                </a:cubicBezTo>
                <a:cubicBezTo>
                  <a:pt x="1558" y="9984"/>
                  <a:pt x="1707" y="9919"/>
                  <a:pt x="1860" y="9823"/>
                </a:cubicBezTo>
                <a:cubicBezTo>
                  <a:pt x="2064" y="9694"/>
                  <a:pt x="2277" y="9576"/>
                  <a:pt x="2480" y="9451"/>
                </a:cubicBezTo>
                <a:cubicBezTo>
                  <a:pt x="2789" y="9260"/>
                  <a:pt x="3082" y="9034"/>
                  <a:pt x="3398" y="8855"/>
                </a:cubicBezTo>
                <a:cubicBezTo>
                  <a:pt x="3742" y="8660"/>
                  <a:pt x="4052" y="8412"/>
                  <a:pt x="4390" y="8210"/>
                </a:cubicBezTo>
                <a:cubicBezTo>
                  <a:pt x="4702" y="8024"/>
                  <a:pt x="5023" y="7852"/>
                  <a:pt x="5333" y="7665"/>
                </a:cubicBezTo>
                <a:cubicBezTo>
                  <a:pt x="5513" y="7556"/>
                  <a:pt x="5678" y="7432"/>
                  <a:pt x="5854" y="7317"/>
                </a:cubicBezTo>
                <a:cubicBezTo>
                  <a:pt x="5967" y="7243"/>
                  <a:pt x="6060" y="7153"/>
                  <a:pt x="6176" y="7094"/>
                </a:cubicBezTo>
                <a:cubicBezTo>
                  <a:pt x="6236" y="7063"/>
                  <a:pt x="6314" y="7054"/>
                  <a:pt x="6375" y="7045"/>
                </a:cubicBezTo>
                <a:cubicBezTo>
                  <a:pt x="6383" y="7053"/>
                  <a:pt x="6392" y="7061"/>
                  <a:pt x="6400" y="7069"/>
                </a:cubicBezTo>
                <a:cubicBezTo>
                  <a:pt x="6416" y="7201"/>
                  <a:pt x="6415" y="7331"/>
                  <a:pt x="6424" y="7466"/>
                </a:cubicBezTo>
                <a:cubicBezTo>
                  <a:pt x="6436" y="7633"/>
                  <a:pt x="6446" y="7793"/>
                  <a:pt x="6449" y="7962"/>
                </a:cubicBezTo>
                <a:cubicBezTo>
                  <a:pt x="6454" y="8234"/>
                  <a:pt x="6462" y="8511"/>
                  <a:pt x="6499" y="8781"/>
                </a:cubicBezTo>
                <a:cubicBezTo>
                  <a:pt x="6545" y="9113"/>
                  <a:pt x="6626" y="9452"/>
                  <a:pt x="6722" y="9773"/>
                </a:cubicBezTo>
                <a:cubicBezTo>
                  <a:pt x="6791" y="10002"/>
                  <a:pt x="6832" y="10234"/>
                  <a:pt x="6871" y="10468"/>
                </a:cubicBezTo>
                <a:cubicBezTo>
                  <a:pt x="6888" y="10570"/>
                  <a:pt x="6878" y="10622"/>
                  <a:pt x="6871" y="10716"/>
                </a:cubicBezTo>
                <a:cubicBezTo>
                  <a:pt x="6757" y="10712"/>
                  <a:pt x="6646" y="10718"/>
                  <a:pt x="6524" y="10691"/>
                </a:cubicBezTo>
                <a:cubicBezTo>
                  <a:pt x="6373" y="10658"/>
                  <a:pt x="6230" y="10633"/>
                  <a:pt x="6077" y="10616"/>
                </a:cubicBezTo>
                <a:cubicBezTo>
                  <a:pt x="5890" y="10595"/>
                  <a:pt x="5695" y="10577"/>
                  <a:pt x="5507" y="10567"/>
                </a:cubicBezTo>
                <a:cubicBezTo>
                  <a:pt x="5086" y="10545"/>
                  <a:pt x="4663" y="10574"/>
                  <a:pt x="4242" y="10542"/>
                </a:cubicBezTo>
                <a:cubicBezTo>
                  <a:pt x="3961" y="10521"/>
                  <a:pt x="3679" y="10482"/>
                  <a:pt x="3398" y="10468"/>
                </a:cubicBezTo>
                <a:cubicBezTo>
                  <a:pt x="3110" y="10454"/>
                  <a:pt x="2818" y="10463"/>
                  <a:pt x="2530" y="10443"/>
                </a:cubicBezTo>
                <a:cubicBezTo>
                  <a:pt x="2113" y="10414"/>
                  <a:pt x="1674" y="10458"/>
                  <a:pt x="1265" y="10393"/>
                </a:cubicBezTo>
                <a:cubicBezTo>
                  <a:pt x="1273" y="10393"/>
                  <a:pt x="1282" y="10393"/>
                  <a:pt x="1290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eec94"/>
                </a:solidFill>
                <a:latin typeface="Times New Roman"/>
              </a:rPr>
              <a:t>Lesson 4.8</a:t>
            </a:r>
            <a:br>
              <a:rPr sz="8500"/>
            </a:br>
            <a:r>
              <a:rPr b="1" lang="en-US" sz="8500" spc="-1" strike="noStrike">
                <a:solidFill>
                  <a:srgbClr val="feec94"/>
                </a:solidFill>
                <a:latin typeface="Times New Roman"/>
              </a:rPr>
              <a:t>part one</a:t>
            </a:r>
            <a:endParaRPr b="1" lang="en-US" sz="85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olving a triangl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his means to find all missing sides and angles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Ink 4"/>
          <p:cNvSpPr/>
          <p:nvPr/>
        </p:nvSpPr>
        <p:spPr>
          <a:xfrm>
            <a:off x="892080" y="1562040"/>
            <a:ext cx="376200" cy="501840"/>
          </a:xfrm>
          <a:custGeom>
            <a:avLst/>
            <a:gdLst/>
            <a:ahLst/>
            <a:rect l="l" t="t" r="r" b="b"/>
            <a:pathLst>
              <a:path w="1043" h="1390">
                <a:moveTo>
                  <a:pt x="2480" y="4614"/>
                </a:moveTo>
                <a:cubicBezTo>
                  <a:pt x="2523" y="4539"/>
                  <a:pt x="2527" y="4534"/>
                  <a:pt x="2604" y="4514"/>
                </a:cubicBezTo>
                <a:cubicBezTo>
                  <a:pt x="2701" y="4488"/>
                  <a:pt x="2747" y="4479"/>
                  <a:pt x="2828" y="4539"/>
                </a:cubicBezTo>
                <a:cubicBezTo>
                  <a:pt x="2893" y="4588"/>
                  <a:pt x="2829" y="4683"/>
                  <a:pt x="2803" y="4738"/>
                </a:cubicBezTo>
                <a:cubicBezTo>
                  <a:pt x="2775" y="4797"/>
                  <a:pt x="2718" y="4874"/>
                  <a:pt x="2704" y="4936"/>
                </a:cubicBezTo>
                <a:cubicBezTo>
                  <a:pt x="2677" y="5052"/>
                  <a:pt x="2818" y="5014"/>
                  <a:pt x="2877" y="5035"/>
                </a:cubicBezTo>
                <a:cubicBezTo>
                  <a:pt x="2952" y="5062"/>
                  <a:pt x="3044" y="5119"/>
                  <a:pt x="3026" y="5209"/>
                </a:cubicBezTo>
                <a:cubicBezTo>
                  <a:pt x="3015" y="5262"/>
                  <a:pt x="2916" y="5342"/>
                  <a:pt x="2877" y="5383"/>
                </a:cubicBezTo>
                <a:cubicBezTo>
                  <a:pt x="2822" y="5441"/>
                  <a:pt x="2803" y="5448"/>
                  <a:pt x="2729" y="5457"/>
                </a:cubicBezTo>
              </a:path>
              <a:path w="1043" h="1390">
                <a:moveTo>
                  <a:pt x="3125" y="4539"/>
                </a:moveTo>
                <a:cubicBezTo>
                  <a:pt x="3056" y="4521"/>
                  <a:pt x="3074" y="4635"/>
                  <a:pt x="3051" y="4713"/>
                </a:cubicBezTo>
                <a:cubicBezTo>
                  <a:pt x="3014" y="4835"/>
                  <a:pt x="3012" y="4923"/>
                  <a:pt x="3101" y="4986"/>
                </a:cubicBezTo>
                <a:cubicBezTo>
                  <a:pt x="3138" y="4948"/>
                  <a:pt x="3173" y="4907"/>
                  <a:pt x="3200" y="4862"/>
                </a:cubicBezTo>
                <a:cubicBezTo>
                  <a:pt x="3230" y="4812"/>
                  <a:pt x="3246" y="4743"/>
                  <a:pt x="3249" y="4688"/>
                </a:cubicBezTo>
                <a:cubicBezTo>
                  <a:pt x="3256" y="4567"/>
                  <a:pt x="3268" y="4836"/>
                  <a:pt x="3274" y="4887"/>
                </a:cubicBezTo>
                <a:cubicBezTo>
                  <a:pt x="3283" y="4956"/>
                  <a:pt x="3274" y="5071"/>
                  <a:pt x="3299" y="5135"/>
                </a:cubicBezTo>
                <a:cubicBezTo>
                  <a:pt x="3331" y="5216"/>
                  <a:pt x="3365" y="5134"/>
                  <a:pt x="3373" y="5110"/>
                </a:cubicBezTo>
              </a:path>
              <a:path w="1043" h="1390">
                <a:moveTo>
                  <a:pt x="2952" y="4341"/>
                </a:moveTo>
                <a:cubicBezTo>
                  <a:pt x="3134" y="4358"/>
                  <a:pt x="3221" y="4393"/>
                  <a:pt x="3349" y="4539"/>
                </a:cubicBezTo>
                <a:cubicBezTo>
                  <a:pt x="3503" y="4714"/>
                  <a:pt x="3508" y="4908"/>
                  <a:pt x="3522" y="5135"/>
                </a:cubicBezTo>
                <a:cubicBezTo>
                  <a:pt x="3531" y="5280"/>
                  <a:pt x="3518" y="5493"/>
                  <a:pt x="3473" y="5631"/>
                </a:cubicBezTo>
                <a:cubicBezTo>
                  <a:pt x="3456" y="5664"/>
                  <a:pt x="3440" y="5697"/>
                  <a:pt x="3423" y="57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Ink 5"/>
          <p:cNvSpPr/>
          <p:nvPr/>
        </p:nvSpPr>
        <p:spPr>
          <a:xfrm>
            <a:off x="1847880" y="1768320"/>
            <a:ext cx="554040" cy="258840"/>
          </a:xfrm>
          <a:custGeom>
            <a:avLst/>
            <a:gdLst/>
            <a:ahLst/>
            <a:rect l="l" t="t" r="r" b="b"/>
            <a:pathLst>
              <a:path w="1538" h="721">
                <a:moveTo>
                  <a:pt x="5507" y="5159"/>
                </a:moveTo>
                <a:cubicBezTo>
                  <a:pt x="5496" y="5085"/>
                  <a:pt x="5475" y="5051"/>
                  <a:pt x="5407" y="5011"/>
                </a:cubicBezTo>
                <a:cubicBezTo>
                  <a:pt x="5344" y="4974"/>
                  <a:pt x="5249" y="4984"/>
                  <a:pt x="5184" y="5011"/>
                </a:cubicBezTo>
                <a:cubicBezTo>
                  <a:pt x="5136" y="5031"/>
                  <a:pt x="5140" y="5070"/>
                  <a:pt x="5135" y="5110"/>
                </a:cubicBezTo>
                <a:cubicBezTo>
                  <a:pt x="5189" y="5143"/>
                  <a:pt x="5247" y="5147"/>
                  <a:pt x="5308" y="5184"/>
                </a:cubicBezTo>
                <a:cubicBezTo>
                  <a:pt x="5361" y="5216"/>
                  <a:pt x="5446" y="5253"/>
                  <a:pt x="5482" y="5308"/>
                </a:cubicBezTo>
                <a:cubicBezTo>
                  <a:pt x="5533" y="5387"/>
                  <a:pt x="5537" y="5435"/>
                  <a:pt x="5482" y="5507"/>
                </a:cubicBezTo>
                <a:cubicBezTo>
                  <a:pt x="5447" y="5553"/>
                  <a:pt x="5385" y="5578"/>
                  <a:pt x="5333" y="5581"/>
                </a:cubicBezTo>
                <a:cubicBezTo>
                  <a:pt x="5284" y="5584"/>
                  <a:pt x="5181" y="5593"/>
                  <a:pt x="5159" y="5531"/>
                </a:cubicBezTo>
                <a:cubicBezTo>
                  <a:pt x="5159" y="5490"/>
                  <a:pt x="5159" y="5482"/>
                  <a:pt x="5159" y="5457"/>
                </a:cubicBezTo>
              </a:path>
              <a:path w="1538" h="721">
                <a:moveTo>
                  <a:pt x="5531" y="5259"/>
                </a:moveTo>
                <a:cubicBezTo>
                  <a:pt x="5632" y="5259"/>
                  <a:pt x="5689" y="5241"/>
                  <a:pt x="5779" y="5184"/>
                </a:cubicBezTo>
                <a:cubicBezTo>
                  <a:pt x="5837" y="5147"/>
                  <a:pt x="5871" y="5122"/>
                  <a:pt x="5904" y="5060"/>
                </a:cubicBezTo>
                <a:cubicBezTo>
                  <a:pt x="5939" y="4993"/>
                  <a:pt x="5928" y="4978"/>
                  <a:pt x="5904" y="4911"/>
                </a:cubicBezTo>
                <a:cubicBezTo>
                  <a:pt x="5796" y="4925"/>
                  <a:pt x="5797" y="4951"/>
                  <a:pt x="5730" y="5035"/>
                </a:cubicBezTo>
                <a:cubicBezTo>
                  <a:pt x="5680" y="5098"/>
                  <a:pt x="5663" y="5160"/>
                  <a:pt x="5631" y="5234"/>
                </a:cubicBezTo>
                <a:cubicBezTo>
                  <a:pt x="5607" y="5289"/>
                  <a:pt x="5589" y="5369"/>
                  <a:pt x="5606" y="5432"/>
                </a:cubicBezTo>
                <a:cubicBezTo>
                  <a:pt x="5623" y="5492"/>
                  <a:pt x="5663" y="5539"/>
                  <a:pt x="5705" y="5581"/>
                </a:cubicBezTo>
                <a:cubicBezTo>
                  <a:pt x="5756" y="5632"/>
                  <a:pt x="5820" y="5603"/>
                  <a:pt x="5879" y="5581"/>
                </a:cubicBezTo>
              </a:path>
              <a:path w="1538" h="721">
                <a:moveTo>
                  <a:pt x="6623" y="4986"/>
                </a:moveTo>
                <a:cubicBezTo>
                  <a:pt x="6631" y="4978"/>
                  <a:pt x="6640" y="4969"/>
                  <a:pt x="6648" y="4961"/>
                </a:cubicBezTo>
                <a:cubicBezTo>
                  <a:pt x="6567" y="4912"/>
                  <a:pt x="6553" y="4948"/>
                  <a:pt x="6499" y="5011"/>
                </a:cubicBezTo>
                <a:cubicBezTo>
                  <a:pt x="6455" y="5063"/>
                  <a:pt x="6410" y="5125"/>
                  <a:pt x="6375" y="5184"/>
                </a:cubicBezTo>
                <a:cubicBezTo>
                  <a:pt x="6343" y="5238"/>
                  <a:pt x="6295" y="5345"/>
                  <a:pt x="6300" y="5407"/>
                </a:cubicBezTo>
                <a:cubicBezTo>
                  <a:pt x="6306" y="5484"/>
                  <a:pt x="6334" y="5562"/>
                  <a:pt x="6400" y="5606"/>
                </a:cubicBezTo>
                <a:cubicBezTo>
                  <a:pt x="6486" y="5664"/>
                  <a:pt x="6597" y="5597"/>
                  <a:pt x="6672" y="55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Ink 6"/>
          <p:cNvSpPr/>
          <p:nvPr/>
        </p:nvSpPr>
        <p:spPr>
          <a:xfrm>
            <a:off x="2571840" y="1312920"/>
            <a:ext cx="2563560" cy="768240"/>
          </a:xfrm>
          <a:custGeom>
            <a:avLst/>
            <a:gdLst/>
            <a:ahLst/>
            <a:rect l="l" t="t" r="r" b="b"/>
            <a:pathLst>
              <a:path w="7120" h="2134">
                <a:moveTo>
                  <a:pt x="7565" y="4142"/>
                </a:moveTo>
                <a:cubicBezTo>
                  <a:pt x="7411" y="4255"/>
                  <a:pt x="7448" y="4324"/>
                  <a:pt x="7342" y="4490"/>
                </a:cubicBezTo>
                <a:cubicBezTo>
                  <a:pt x="7254" y="4627"/>
                  <a:pt x="7227" y="4744"/>
                  <a:pt x="7193" y="4911"/>
                </a:cubicBezTo>
                <a:cubicBezTo>
                  <a:pt x="7163" y="5060"/>
                  <a:pt x="7144" y="5180"/>
                  <a:pt x="7144" y="5333"/>
                </a:cubicBezTo>
                <a:cubicBezTo>
                  <a:pt x="7144" y="5452"/>
                  <a:pt x="7147" y="5578"/>
                  <a:pt x="7218" y="5680"/>
                </a:cubicBezTo>
                <a:cubicBezTo>
                  <a:pt x="7252" y="5714"/>
                  <a:pt x="7273" y="5722"/>
                  <a:pt x="7317" y="5705"/>
                </a:cubicBezTo>
              </a:path>
              <a:path w="7120" h="2134">
                <a:moveTo>
                  <a:pt x="8086" y="4961"/>
                </a:moveTo>
                <a:cubicBezTo>
                  <a:pt x="8107" y="5043"/>
                  <a:pt x="8115" y="5059"/>
                  <a:pt x="8111" y="5110"/>
                </a:cubicBezTo>
                <a:cubicBezTo>
                  <a:pt x="8069" y="5057"/>
                  <a:pt x="8051" y="4992"/>
                  <a:pt x="8012" y="4936"/>
                </a:cubicBezTo>
                <a:cubicBezTo>
                  <a:pt x="8004" y="4928"/>
                  <a:pt x="7995" y="4919"/>
                  <a:pt x="7987" y="4911"/>
                </a:cubicBezTo>
                <a:cubicBezTo>
                  <a:pt x="7913" y="4922"/>
                  <a:pt x="7883" y="4969"/>
                  <a:pt x="7838" y="5035"/>
                </a:cubicBezTo>
                <a:cubicBezTo>
                  <a:pt x="7768" y="5139"/>
                  <a:pt x="7747" y="5287"/>
                  <a:pt x="7739" y="5407"/>
                </a:cubicBezTo>
                <a:cubicBezTo>
                  <a:pt x="7734" y="5479"/>
                  <a:pt x="7730" y="5549"/>
                  <a:pt x="7764" y="5606"/>
                </a:cubicBezTo>
                <a:cubicBezTo>
                  <a:pt x="7834" y="5648"/>
                  <a:pt x="7848" y="5621"/>
                  <a:pt x="7913" y="5581"/>
                </a:cubicBezTo>
                <a:cubicBezTo>
                  <a:pt x="7994" y="5532"/>
                  <a:pt x="7976" y="5487"/>
                  <a:pt x="8012" y="5407"/>
                </a:cubicBezTo>
                <a:cubicBezTo>
                  <a:pt x="8046" y="5330"/>
                  <a:pt x="8062" y="5294"/>
                  <a:pt x="8062" y="5209"/>
                </a:cubicBezTo>
                <a:cubicBezTo>
                  <a:pt x="8062" y="5192"/>
                  <a:pt x="8062" y="5176"/>
                  <a:pt x="8062" y="5159"/>
                </a:cubicBezTo>
                <a:cubicBezTo>
                  <a:pt x="8104" y="5276"/>
                  <a:pt x="8067" y="5380"/>
                  <a:pt x="8086" y="5507"/>
                </a:cubicBezTo>
                <a:cubicBezTo>
                  <a:pt x="8096" y="5575"/>
                  <a:pt x="8136" y="5631"/>
                  <a:pt x="8186" y="5606"/>
                </a:cubicBezTo>
              </a:path>
              <a:path w="7120" h="2134">
                <a:moveTo>
                  <a:pt x="8334" y="5234"/>
                </a:moveTo>
                <a:cubicBezTo>
                  <a:pt x="8334" y="5358"/>
                  <a:pt x="8313" y="5629"/>
                  <a:pt x="8334" y="5507"/>
                </a:cubicBezTo>
                <a:cubicBezTo>
                  <a:pt x="8354" y="5393"/>
                  <a:pt x="8376" y="5297"/>
                  <a:pt x="8434" y="5209"/>
                </a:cubicBezTo>
                <a:cubicBezTo>
                  <a:pt x="8483" y="5136"/>
                  <a:pt x="8514" y="5062"/>
                  <a:pt x="8558" y="4986"/>
                </a:cubicBezTo>
              </a:path>
              <a:path w="7120" h="2134">
                <a:moveTo>
                  <a:pt x="8930" y="5060"/>
                </a:moveTo>
                <a:cubicBezTo>
                  <a:pt x="8938" y="5077"/>
                  <a:pt x="8946" y="5093"/>
                  <a:pt x="8954" y="5110"/>
                </a:cubicBezTo>
                <a:cubicBezTo>
                  <a:pt x="8993" y="5044"/>
                  <a:pt x="8975" y="4980"/>
                  <a:pt x="8930" y="4911"/>
                </a:cubicBezTo>
                <a:cubicBezTo>
                  <a:pt x="8877" y="4829"/>
                  <a:pt x="8767" y="5039"/>
                  <a:pt x="8756" y="5060"/>
                </a:cubicBezTo>
                <a:cubicBezTo>
                  <a:pt x="8717" y="5135"/>
                  <a:pt x="8670" y="5273"/>
                  <a:pt x="8657" y="5358"/>
                </a:cubicBezTo>
                <a:cubicBezTo>
                  <a:pt x="8651" y="5394"/>
                  <a:pt x="8679" y="5561"/>
                  <a:pt x="8706" y="5581"/>
                </a:cubicBezTo>
                <a:cubicBezTo>
                  <a:pt x="8748" y="5613"/>
                  <a:pt x="8878" y="5621"/>
                  <a:pt x="8930" y="5606"/>
                </a:cubicBezTo>
                <a:cubicBezTo>
                  <a:pt x="8946" y="5598"/>
                  <a:pt x="8963" y="5589"/>
                  <a:pt x="8979" y="5581"/>
                </a:cubicBezTo>
              </a:path>
              <a:path w="7120" h="2134">
                <a:moveTo>
                  <a:pt x="9674" y="4961"/>
                </a:moveTo>
                <a:cubicBezTo>
                  <a:pt x="9616" y="4903"/>
                  <a:pt x="9582" y="4911"/>
                  <a:pt x="9500" y="4911"/>
                </a:cubicBezTo>
                <a:cubicBezTo>
                  <a:pt x="9445" y="4911"/>
                  <a:pt x="9349" y="4931"/>
                  <a:pt x="9376" y="5011"/>
                </a:cubicBezTo>
                <a:cubicBezTo>
                  <a:pt x="9389" y="5048"/>
                  <a:pt x="9476" y="5108"/>
                  <a:pt x="9500" y="5135"/>
                </a:cubicBezTo>
                <a:cubicBezTo>
                  <a:pt x="9559" y="5201"/>
                  <a:pt x="9675" y="5270"/>
                  <a:pt x="9699" y="5358"/>
                </a:cubicBezTo>
                <a:cubicBezTo>
                  <a:pt x="9725" y="5453"/>
                  <a:pt x="9654" y="5462"/>
                  <a:pt x="9599" y="5482"/>
                </a:cubicBezTo>
                <a:cubicBezTo>
                  <a:pt x="9521" y="5510"/>
                  <a:pt x="9480" y="5517"/>
                  <a:pt x="9401" y="5482"/>
                </a:cubicBezTo>
                <a:cubicBezTo>
                  <a:pt x="9313" y="5443"/>
                  <a:pt x="9358" y="5393"/>
                  <a:pt x="9376" y="5308"/>
                </a:cubicBezTo>
              </a:path>
              <a:path w="7120" h="2134">
                <a:moveTo>
                  <a:pt x="9823" y="5085"/>
                </a:moveTo>
                <a:cubicBezTo>
                  <a:pt x="9835" y="5227"/>
                  <a:pt x="9951" y="5443"/>
                  <a:pt x="9823" y="5507"/>
                </a:cubicBezTo>
                <a:cubicBezTo>
                  <a:pt x="9815" y="5499"/>
                  <a:pt x="9806" y="5490"/>
                  <a:pt x="9798" y="5482"/>
                </a:cubicBezTo>
              </a:path>
              <a:path w="7120" h="2134">
                <a:moveTo>
                  <a:pt x="9872" y="4787"/>
                </a:moveTo>
                <a:cubicBezTo>
                  <a:pt x="9894" y="4744"/>
                  <a:pt x="9898" y="4732"/>
                  <a:pt x="9922" y="4713"/>
                </a:cubicBezTo>
              </a:path>
              <a:path w="7120" h="2134">
                <a:moveTo>
                  <a:pt x="10046" y="5135"/>
                </a:moveTo>
                <a:cubicBezTo>
                  <a:pt x="10039" y="5252"/>
                  <a:pt x="10023" y="5252"/>
                  <a:pt x="10046" y="5333"/>
                </a:cubicBezTo>
                <a:cubicBezTo>
                  <a:pt x="10046" y="5235"/>
                  <a:pt x="10057" y="5155"/>
                  <a:pt x="10071" y="5060"/>
                </a:cubicBezTo>
                <a:cubicBezTo>
                  <a:pt x="10077" y="5019"/>
                  <a:pt x="10099" y="4910"/>
                  <a:pt x="10145" y="4887"/>
                </a:cubicBezTo>
                <a:cubicBezTo>
                  <a:pt x="10213" y="4854"/>
                  <a:pt x="10269" y="4871"/>
                  <a:pt x="10319" y="4936"/>
                </a:cubicBezTo>
                <a:cubicBezTo>
                  <a:pt x="10360" y="4990"/>
                  <a:pt x="10390" y="5070"/>
                  <a:pt x="10393" y="5135"/>
                </a:cubicBezTo>
                <a:cubicBezTo>
                  <a:pt x="10397" y="5226"/>
                  <a:pt x="10381" y="5299"/>
                  <a:pt x="10368" y="5383"/>
                </a:cubicBezTo>
                <a:cubicBezTo>
                  <a:pt x="10351" y="5491"/>
                  <a:pt x="10378" y="5383"/>
                  <a:pt x="10393" y="5358"/>
                </a:cubicBezTo>
              </a:path>
              <a:path w="7120" h="2134">
                <a:moveTo>
                  <a:pt x="10964" y="4167"/>
                </a:moveTo>
                <a:cubicBezTo>
                  <a:pt x="10890" y="4344"/>
                  <a:pt x="10851" y="4482"/>
                  <a:pt x="10815" y="4663"/>
                </a:cubicBezTo>
                <a:cubicBezTo>
                  <a:pt x="10798" y="4750"/>
                  <a:pt x="10790" y="4821"/>
                  <a:pt x="10790" y="4911"/>
                </a:cubicBezTo>
                <a:cubicBezTo>
                  <a:pt x="10790" y="4996"/>
                  <a:pt x="10796" y="5111"/>
                  <a:pt x="10840" y="5184"/>
                </a:cubicBezTo>
                <a:cubicBezTo>
                  <a:pt x="10878" y="5246"/>
                  <a:pt x="10891" y="5279"/>
                  <a:pt x="10964" y="5283"/>
                </a:cubicBezTo>
                <a:cubicBezTo>
                  <a:pt x="10980" y="5283"/>
                  <a:pt x="10997" y="5283"/>
                  <a:pt x="11013" y="5283"/>
                </a:cubicBezTo>
              </a:path>
              <a:path w="7120" h="2134">
                <a:moveTo>
                  <a:pt x="11460" y="4043"/>
                </a:moveTo>
                <a:cubicBezTo>
                  <a:pt x="11501" y="4035"/>
                  <a:pt x="11543" y="4026"/>
                  <a:pt x="11584" y="4018"/>
                </a:cubicBezTo>
                <a:cubicBezTo>
                  <a:pt x="11584" y="4102"/>
                  <a:pt x="11594" y="4153"/>
                  <a:pt x="11534" y="4217"/>
                </a:cubicBezTo>
                <a:cubicBezTo>
                  <a:pt x="11494" y="4260"/>
                  <a:pt x="11451" y="4300"/>
                  <a:pt x="11410" y="4341"/>
                </a:cubicBezTo>
                <a:cubicBezTo>
                  <a:pt x="11474" y="4341"/>
                  <a:pt x="11560" y="4337"/>
                  <a:pt x="11609" y="4390"/>
                </a:cubicBezTo>
                <a:cubicBezTo>
                  <a:pt x="11654" y="4438"/>
                  <a:pt x="11673" y="4488"/>
                  <a:pt x="11633" y="4539"/>
                </a:cubicBezTo>
                <a:cubicBezTo>
                  <a:pt x="11579" y="4608"/>
                  <a:pt x="11545" y="4634"/>
                  <a:pt x="11460" y="4638"/>
                </a:cubicBezTo>
                <a:cubicBezTo>
                  <a:pt x="11384" y="4642"/>
                  <a:pt x="11394" y="4628"/>
                  <a:pt x="11385" y="4564"/>
                </a:cubicBezTo>
              </a:path>
              <a:path w="7120" h="2134">
                <a:moveTo>
                  <a:pt x="11981" y="4043"/>
                </a:moveTo>
                <a:cubicBezTo>
                  <a:pt x="11928" y="4185"/>
                  <a:pt x="11869" y="4304"/>
                  <a:pt x="11807" y="4440"/>
                </a:cubicBezTo>
                <a:cubicBezTo>
                  <a:pt x="11744" y="4579"/>
                  <a:pt x="11731" y="4728"/>
                  <a:pt x="11658" y="4862"/>
                </a:cubicBezTo>
                <a:cubicBezTo>
                  <a:pt x="11606" y="4958"/>
                  <a:pt x="11533" y="5076"/>
                  <a:pt x="11509" y="5184"/>
                </a:cubicBezTo>
                <a:cubicBezTo>
                  <a:pt x="11509" y="5201"/>
                  <a:pt x="11509" y="5217"/>
                  <a:pt x="11509" y="5234"/>
                </a:cubicBezTo>
              </a:path>
              <a:path w="7120" h="2134">
                <a:moveTo>
                  <a:pt x="11956" y="4738"/>
                </a:moveTo>
                <a:cubicBezTo>
                  <a:pt x="12043" y="4730"/>
                  <a:pt x="12085" y="4718"/>
                  <a:pt x="12154" y="4663"/>
                </a:cubicBezTo>
              </a:path>
              <a:path w="7120" h="2134">
                <a:moveTo>
                  <a:pt x="11906" y="4787"/>
                </a:moveTo>
                <a:cubicBezTo>
                  <a:pt x="11886" y="4854"/>
                  <a:pt x="11836" y="4920"/>
                  <a:pt x="11857" y="4961"/>
                </a:cubicBezTo>
                <a:cubicBezTo>
                  <a:pt x="11931" y="4986"/>
                  <a:pt x="11998" y="4912"/>
                  <a:pt x="12080" y="4936"/>
                </a:cubicBezTo>
                <a:cubicBezTo>
                  <a:pt x="12135" y="4952"/>
                  <a:pt x="12171" y="4981"/>
                  <a:pt x="12204" y="5035"/>
                </a:cubicBezTo>
                <a:cubicBezTo>
                  <a:pt x="12248" y="5107"/>
                  <a:pt x="12268" y="5132"/>
                  <a:pt x="12229" y="5209"/>
                </a:cubicBezTo>
                <a:cubicBezTo>
                  <a:pt x="12177" y="5313"/>
                  <a:pt x="12065" y="5303"/>
                  <a:pt x="11956" y="5308"/>
                </a:cubicBezTo>
                <a:cubicBezTo>
                  <a:pt x="11902" y="5310"/>
                  <a:pt x="11807" y="5263"/>
                  <a:pt x="11782" y="5209"/>
                </a:cubicBezTo>
                <a:cubicBezTo>
                  <a:pt x="11782" y="5192"/>
                  <a:pt x="11782" y="5176"/>
                  <a:pt x="11782" y="5159"/>
                </a:cubicBezTo>
              </a:path>
              <a:path w="7120" h="2134">
                <a:moveTo>
                  <a:pt x="12328" y="3944"/>
                </a:moveTo>
                <a:cubicBezTo>
                  <a:pt x="12476" y="4100"/>
                  <a:pt x="12485" y="4149"/>
                  <a:pt x="12551" y="4341"/>
                </a:cubicBezTo>
                <a:cubicBezTo>
                  <a:pt x="12614" y="4525"/>
                  <a:pt x="12626" y="4666"/>
                  <a:pt x="12626" y="4862"/>
                </a:cubicBezTo>
                <a:cubicBezTo>
                  <a:pt x="12626" y="5013"/>
                  <a:pt x="12559" y="5127"/>
                  <a:pt x="12502" y="5259"/>
                </a:cubicBezTo>
                <a:cubicBezTo>
                  <a:pt x="12456" y="5368"/>
                  <a:pt x="12392" y="5413"/>
                  <a:pt x="12303" y="5482"/>
                </a:cubicBezTo>
                <a:cubicBezTo>
                  <a:pt x="12246" y="5526"/>
                  <a:pt x="12210" y="5522"/>
                  <a:pt x="12154" y="5507"/>
                </a:cubicBezTo>
              </a:path>
              <a:path w="7120" h="2134">
                <a:moveTo>
                  <a:pt x="12923" y="3646"/>
                </a:moveTo>
                <a:cubicBezTo>
                  <a:pt x="12989" y="3704"/>
                  <a:pt x="13044" y="3748"/>
                  <a:pt x="13097" y="3820"/>
                </a:cubicBezTo>
                <a:cubicBezTo>
                  <a:pt x="13191" y="3947"/>
                  <a:pt x="13247" y="4052"/>
                  <a:pt x="13320" y="4192"/>
                </a:cubicBezTo>
                <a:cubicBezTo>
                  <a:pt x="13473" y="4484"/>
                  <a:pt x="13507" y="4661"/>
                  <a:pt x="13494" y="5011"/>
                </a:cubicBezTo>
                <a:cubicBezTo>
                  <a:pt x="13488" y="5155"/>
                  <a:pt x="13433" y="5322"/>
                  <a:pt x="13345" y="5432"/>
                </a:cubicBezTo>
                <a:cubicBezTo>
                  <a:pt x="13253" y="5547"/>
                  <a:pt x="13169" y="5602"/>
                  <a:pt x="13047" y="5680"/>
                </a:cubicBezTo>
                <a:cubicBezTo>
                  <a:pt x="12967" y="5734"/>
                  <a:pt x="12936" y="5754"/>
                  <a:pt x="12874" y="5779"/>
                </a:cubicBezTo>
              </a:path>
              <a:path w="7120" h="2134">
                <a:moveTo>
                  <a:pt x="13841" y="4316"/>
                </a:moveTo>
                <a:cubicBezTo>
                  <a:pt x="13931" y="4350"/>
                  <a:pt x="13969" y="4320"/>
                  <a:pt x="14064" y="4316"/>
                </a:cubicBezTo>
                <a:cubicBezTo>
                  <a:pt x="14130" y="4313"/>
                  <a:pt x="14197" y="4316"/>
                  <a:pt x="14263" y="4316"/>
                </a:cubicBezTo>
              </a:path>
              <a:path w="7120" h="2134">
                <a:moveTo>
                  <a:pt x="13816" y="4564"/>
                </a:moveTo>
                <a:cubicBezTo>
                  <a:pt x="13869" y="4617"/>
                  <a:pt x="13889" y="4614"/>
                  <a:pt x="13965" y="4614"/>
                </a:cubicBezTo>
                <a:cubicBezTo>
                  <a:pt x="14055" y="4614"/>
                  <a:pt x="14125" y="4606"/>
                  <a:pt x="14213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Ink 7"/>
          <p:cNvSpPr/>
          <p:nvPr/>
        </p:nvSpPr>
        <p:spPr>
          <a:xfrm>
            <a:off x="5313240" y="1276200"/>
            <a:ext cx="420840" cy="706680"/>
          </a:xfrm>
          <a:custGeom>
            <a:avLst/>
            <a:gdLst/>
            <a:ahLst/>
            <a:rect l="l" t="t" r="r" b="b"/>
            <a:pathLst>
              <a:path w="1167" h="1961">
                <a:moveTo>
                  <a:pt x="14908" y="3621"/>
                </a:moveTo>
                <a:cubicBezTo>
                  <a:pt x="14999" y="3621"/>
                  <a:pt x="15093" y="3615"/>
                  <a:pt x="15180" y="3597"/>
                </a:cubicBezTo>
                <a:cubicBezTo>
                  <a:pt x="15255" y="3572"/>
                  <a:pt x="15279" y="3564"/>
                  <a:pt x="15329" y="3547"/>
                </a:cubicBezTo>
              </a:path>
              <a:path w="1167" h="1961">
                <a:moveTo>
                  <a:pt x="14833" y="3746"/>
                </a:moveTo>
                <a:cubicBezTo>
                  <a:pt x="14764" y="3854"/>
                  <a:pt x="14759" y="3820"/>
                  <a:pt x="14759" y="3919"/>
                </a:cubicBezTo>
                <a:cubicBezTo>
                  <a:pt x="14869" y="3919"/>
                  <a:pt x="15004" y="3896"/>
                  <a:pt x="15106" y="3944"/>
                </a:cubicBezTo>
                <a:cubicBezTo>
                  <a:pt x="15166" y="3972"/>
                  <a:pt x="15231" y="4023"/>
                  <a:pt x="15280" y="4068"/>
                </a:cubicBezTo>
                <a:cubicBezTo>
                  <a:pt x="15337" y="4121"/>
                  <a:pt x="15284" y="4183"/>
                  <a:pt x="15230" y="4217"/>
                </a:cubicBezTo>
                <a:cubicBezTo>
                  <a:pt x="15138" y="4275"/>
                  <a:pt x="15033" y="4304"/>
                  <a:pt x="14932" y="4316"/>
                </a:cubicBezTo>
                <a:cubicBezTo>
                  <a:pt x="14808" y="4331"/>
                  <a:pt x="14824" y="4308"/>
                  <a:pt x="14833" y="4217"/>
                </a:cubicBezTo>
              </a:path>
              <a:path w="1167" h="1961">
                <a:moveTo>
                  <a:pt x="15776" y="3696"/>
                </a:moveTo>
                <a:cubicBezTo>
                  <a:pt x="15696" y="3890"/>
                  <a:pt x="15565" y="4091"/>
                  <a:pt x="15503" y="4291"/>
                </a:cubicBezTo>
                <a:cubicBezTo>
                  <a:pt x="15450" y="4462"/>
                  <a:pt x="15371" y="4618"/>
                  <a:pt x="15304" y="4787"/>
                </a:cubicBezTo>
                <a:cubicBezTo>
                  <a:pt x="15251" y="4920"/>
                  <a:pt x="15176" y="5023"/>
                  <a:pt x="15131" y="5159"/>
                </a:cubicBezTo>
                <a:cubicBezTo>
                  <a:pt x="15116" y="5205"/>
                  <a:pt x="15032" y="5416"/>
                  <a:pt x="15056" y="5234"/>
                </a:cubicBezTo>
              </a:path>
              <a:path w="1167" h="1961">
                <a:moveTo>
                  <a:pt x="15503" y="4589"/>
                </a:moveTo>
                <a:cubicBezTo>
                  <a:pt x="15503" y="4682"/>
                  <a:pt x="15486" y="4785"/>
                  <a:pt x="15528" y="4862"/>
                </a:cubicBezTo>
                <a:cubicBezTo>
                  <a:pt x="15585" y="4968"/>
                  <a:pt x="15627" y="4925"/>
                  <a:pt x="15726" y="4911"/>
                </a:cubicBezTo>
                <a:cubicBezTo>
                  <a:pt x="15849" y="4893"/>
                  <a:pt x="15862" y="4847"/>
                  <a:pt x="15925" y="4738"/>
                </a:cubicBezTo>
              </a:path>
              <a:path w="1167" h="1961">
                <a:moveTo>
                  <a:pt x="15875" y="4465"/>
                </a:moveTo>
                <a:cubicBezTo>
                  <a:pt x="15855" y="4612"/>
                  <a:pt x="15852" y="4767"/>
                  <a:pt x="15825" y="4911"/>
                </a:cubicBezTo>
                <a:cubicBezTo>
                  <a:pt x="15802" y="5034"/>
                  <a:pt x="15812" y="5114"/>
                  <a:pt x="15825" y="5234"/>
                </a:cubicBezTo>
                <a:cubicBezTo>
                  <a:pt x="15835" y="5325"/>
                  <a:pt x="15838" y="5415"/>
                  <a:pt x="15850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Ink 8"/>
          <p:cNvSpPr/>
          <p:nvPr/>
        </p:nvSpPr>
        <p:spPr>
          <a:xfrm>
            <a:off x="2394000" y="2741760"/>
            <a:ext cx="160200" cy="206280"/>
          </a:xfrm>
          <a:custGeom>
            <a:avLst/>
            <a:gdLst/>
            <a:ahLst/>
            <a:rect l="l" t="t" r="r" b="b"/>
            <a:pathLst>
              <a:path w="447" h="572">
                <a:moveTo>
                  <a:pt x="6747" y="7689"/>
                </a:moveTo>
                <a:cubicBezTo>
                  <a:pt x="6816" y="7644"/>
                  <a:pt x="6864" y="7640"/>
                  <a:pt x="6945" y="7640"/>
                </a:cubicBezTo>
                <a:cubicBezTo>
                  <a:pt x="7000" y="7640"/>
                  <a:pt x="7040" y="7622"/>
                  <a:pt x="7094" y="7615"/>
                </a:cubicBezTo>
              </a:path>
              <a:path w="447" h="572">
                <a:moveTo>
                  <a:pt x="6772" y="7665"/>
                </a:moveTo>
                <a:cubicBezTo>
                  <a:pt x="6720" y="7728"/>
                  <a:pt x="6660" y="7792"/>
                  <a:pt x="6697" y="7888"/>
                </a:cubicBezTo>
                <a:cubicBezTo>
                  <a:pt x="6705" y="7896"/>
                  <a:pt x="6714" y="7905"/>
                  <a:pt x="6722" y="7913"/>
                </a:cubicBezTo>
                <a:cubicBezTo>
                  <a:pt x="6779" y="7880"/>
                  <a:pt x="6824" y="7843"/>
                  <a:pt x="6896" y="7863"/>
                </a:cubicBezTo>
                <a:cubicBezTo>
                  <a:pt x="6976" y="7885"/>
                  <a:pt x="7001" y="7928"/>
                  <a:pt x="7045" y="7987"/>
                </a:cubicBezTo>
                <a:cubicBezTo>
                  <a:pt x="7082" y="8036"/>
                  <a:pt x="7070" y="8115"/>
                  <a:pt x="7020" y="8161"/>
                </a:cubicBezTo>
                <a:cubicBezTo>
                  <a:pt x="6964" y="8213"/>
                  <a:pt x="6842" y="8186"/>
                  <a:pt x="6772" y="8186"/>
                </a:cubicBezTo>
                <a:cubicBezTo>
                  <a:pt x="6716" y="8186"/>
                  <a:pt x="6702" y="8169"/>
                  <a:pt x="6648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Ink 9"/>
          <p:cNvSpPr/>
          <p:nvPr/>
        </p:nvSpPr>
        <p:spPr>
          <a:xfrm>
            <a:off x="3687840" y="2982960"/>
            <a:ext cx="214200" cy="241200"/>
          </a:xfrm>
          <a:custGeom>
            <a:avLst/>
            <a:gdLst/>
            <a:ahLst/>
            <a:rect l="l" t="t" r="r" b="b"/>
            <a:pathLst>
              <a:path w="597" h="670">
                <a:moveTo>
                  <a:pt x="10393" y="8384"/>
                </a:moveTo>
                <a:cubicBezTo>
                  <a:pt x="10426" y="8351"/>
                  <a:pt x="10468" y="8292"/>
                  <a:pt x="10517" y="8285"/>
                </a:cubicBezTo>
                <a:cubicBezTo>
                  <a:pt x="10600" y="8285"/>
                  <a:pt x="10616" y="8285"/>
                  <a:pt x="10666" y="8285"/>
                </a:cubicBezTo>
                <a:cubicBezTo>
                  <a:pt x="10666" y="8361"/>
                  <a:pt x="10669" y="8381"/>
                  <a:pt x="10616" y="8434"/>
                </a:cubicBezTo>
                <a:cubicBezTo>
                  <a:pt x="10574" y="8476"/>
                  <a:pt x="10546" y="8507"/>
                  <a:pt x="10517" y="8558"/>
                </a:cubicBezTo>
                <a:cubicBezTo>
                  <a:pt x="10563" y="8603"/>
                  <a:pt x="10612" y="8627"/>
                  <a:pt x="10666" y="8657"/>
                </a:cubicBezTo>
                <a:cubicBezTo>
                  <a:pt x="10742" y="8700"/>
                  <a:pt x="10766" y="8742"/>
                  <a:pt x="10815" y="8806"/>
                </a:cubicBezTo>
                <a:cubicBezTo>
                  <a:pt x="10850" y="8852"/>
                  <a:pt x="10800" y="8934"/>
                  <a:pt x="10740" y="8954"/>
                </a:cubicBezTo>
                <a:cubicBezTo>
                  <a:pt x="10673" y="8976"/>
                  <a:pt x="10532" y="8947"/>
                  <a:pt x="10468" y="8930"/>
                </a:cubicBezTo>
                <a:cubicBezTo>
                  <a:pt x="10349" y="8897"/>
                  <a:pt x="10332" y="8850"/>
                  <a:pt x="10244" y="87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Ink 10"/>
          <p:cNvSpPr/>
          <p:nvPr/>
        </p:nvSpPr>
        <p:spPr>
          <a:xfrm>
            <a:off x="3340080" y="3483000"/>
            <a:ext cx="339840" cy="285840"/>
          </a:xfrm>
          <a:custGeom>
            <a:avLst/>
            <a:gdLst/>
            <a:ahLst/>
            <a:rect l="l" t="t" r="r" b="b"/>
            <a:pathLst>
              <a:path w="944" h="795">
                <a:moveTo>
                  <a:pt x="10170" y="9674"/>
                </a:moveTo>
                <a:cubicBezTo>
                  <a:pt x="10187" y="9674"/>
                  <a:pt x="10203" y="9674"/>
                  <a:pt x="10220" y="9674"/>
                </a:cubicBezTo>
                <a:cubicBezTo>
                  <a:pt x="10144" y="9724"/>
                  <a:pt x="10086" y="9723"/>
                  <a:pt x="9996" y="9723"/>
                </a:cubicBezTo>
                <a:cubicBezTo>
                  <a:pt x="9819" y="9723"/>
                  <a:pt x="9644" y="9720"/>
                  <a:pt x="9475" y="9748"/>
                </a:cubicBezTo>
                <a:cubicBezTo>
                  <a:pt x="9398" y="9761"/>
                  <a:pt x="9369" y="9747"/>
                  <a:pt x="9302" y="9798"/>
                </a:cubicBezTo>
                <a:cubicBezTo>
                  <a:pt x="9260" y="9830"/>
                  <a:pt x="9262" y="9971"/>
                  <a:pt x="9277" y="10021"/>
                </a:cubicBezTo>
                <a:cubicBezTo>
                  <a:pt x="9309" y="10129"/>
                  <a:pt x="9327" y="10242"/>
                  <a:pt x="9376" y="10344"/>
                </a:cubicBezTo>
                <a:cubicBezTo>
                  <a:pt x="9399" y="10393"/>
                  <a:pt x="9401" y="10426"/>
                  <a:pt x="9426" y="104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Ink 11"/>
          <p:cNvSpPr/>
          <p:nvPr/>
        </p:nvSpPr>
        <p:spPr>
          <a:xfrm>
            <a:off x="2670120" y="3875040"/>
            <a:ext cx="135000" cy="322200"/>
          </a:xfrm>
          <a:custGeom>
            <a:avLst/>
            <a:gdLst/>
            <a:ahLst/>
            <a:rect l="l" t="t" r="r" b="b"/>
            <a:pathLst>
              <a:path w="373" h="894">
                <a:moveTo>
                  <a:pt x="7491" y="10840"/>
                </a:moveTo>
                <a:cubicBezTo>
                  <a:pt x="7456" y="10883"/>
                  <a:pt x="7399" y="10951"/>
                  <a:pt x="7417" y="11013"/>
                </a:cubicBezTo>
                <a:cubicBezTo>
                  <a:pt x="7438" y="11084"/>
                  <a:pt x="7588" y="11086"/>
                  <a:pt x="7640" y="11088"/>
                </a:cubicBezTo>
                <a:cubicBezTo>
                  <a:pt x="7689" y="11088"/>
                  <a:pt x="7706" y="11088"/>
                  <a:pt x="7739" y="11088"/>
                </a:cubicBezTo>
              </a:path>
              <a:path w="373" h="894">
                <a:moveTo>
                  <a:pt x="7789" y="10765"/>
                </a:moveTo>
                <a:cubicBezTo>
                  <a:pt x="7783" y="10877"/>
                  <a:pt x="7764" y="10976"/>
                  <a:pt x="7764" y="11088"/>
                </a:cubicBezTo>
                <a:cubicBezTo>
                  <a:pt x="7764" y="11202"/>
                  <a:pt x="7777" y="11301"/>
                  <a:pt x="7789" y="11410"/>
                </a:cubicBezTo>
                <a:cubicBezTo>
                  <a:pt x="7799" y="11498"/>
                  <a:pt x="7787" y="11575"/>
                  <a:pt x="7764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Ink 12"/>
          <p:cNvSpPr/>
          <p:nvPr/>
        </p:nvSpPr>
        <p:spPr>
          <a:xfrm>
            <a:off x="1197000" y="4259160"/>
            <a:ext cx="1249200" cy="849240"/>
          </a:xfrm>
          <a:custGeom>
            <a:avLst/>
            <a:gdLst/>
            <a:ahLst/>
            <a:rect l="l" t="t" r="r" b="b"/>
            <a:pathLst>
              <a:path w="3473" h="2357">
                <a:moveTo>
                  <a:pt x="3845" y="12005"/>
                </a:moveTo>
                <a:cubicBezTo>
                  <a:pt x="3873" y="12076"/>
                  <a:pt x="3871" y="12082"/>
                  <a:pt x="3919" y="12129"/>
                </a:cubicBezTo>
                <a:cubicBezTo>
                  <a:pt x="3910" y="12060"/>
                  <a:pt x="3893" y="12010"/>
                  <a:pt x="3845" y="11956"/>
                </a:cubicBezTo>
                <a:cubicBezTo>
                  <a:pt x="3787" y="11891"/>
                  <a:pt x="3797" y="11884"/>
                  <a:pt x="3721" y="11857"/>
                </a:cubicBezTo>
                <a:cubicBezTo>
                  <a:pt x="3635" y="11827"/>
                  <a:pt x="3565" y="11819"/>
                  <a:pt x="3473" y="11857"/>
                </a:cubicBezTo>
                <a:cubicBezTo>
                  <a:pt x="3434" y="11873"/>
                  <a:pt x="3372" y="11883"/>
                  <a:pt x="3349" y="11931"/>
                </a:cubicBezTo>
                <a:cubicBezTo>
                  <a:pt x="3310" y="12014"/>
                  <a:pt x="3316" y="12098"/>
                  <a:pt x="3349" y="12179"/>
                </a:cubicBezTo>
                <a:cubicBezTo>
                  <a:pt x="3389" y="12276"/>
                  <a:pt x="3459" y="12321"/>
                  <a:pt x="3522" y="12402"/>
                </a:cubicBezTo>
                <a:cubicBezTo>
                  <a:pt x="3605" y="12509"/>
                  <a:pt x="3702" y="12607"/>
                  <a:pt x="3770" y="12725"/>
                </a:cubicBezTo>
                <a:cubicBezTo>
                  <a:pt x="3803" y="12782"/>
                  <a:pt x="3897" y="12952"/>
                  <a:pt x="3894" y="13022"/>
                </a:cubicBezTo>
                <a:cubicBezTo>
                  <a:pt x="3887" y="13166"/>
                  <a:pt x="3732" y="13195"/>
                  <a:pt x="3621" y="13171"/>
                </a:cubicBezTo>
                <a:cubicBezTo>
                  <a:pt x="3574" y="13161"/>
                  <a:pt x="3476" y="13112"/>
                  <a:pt x="3448" y="13072"/>
                </a:cubicBezTo>
                <a:cubicBezTo>
                  <a:pt x="3420" y="13015"/>
                  <a:pt x="3409" y="12992"/>
                  <a:pt x="3398" y="12948"/>
                </a:cubicBezTo>
              </a:path>
              <a:path w="3473" h="2357">
                <a:moveTo>
                  <a:pt x="4142" y="12874"/>
                </a:moveTo>
                <a:cubicBezTo>
                  <a:pt x="4267" y="12892"/>
                  <a:pt x="4310" y="12930"/>
                  <a:pt x="4390" y="12849"/>
                </a:cubicBezTo>
                <a:cubicBezTo>
                  <a:pt x="4445" y="12794"/>
                  <a:pt x="4460" y="12703"/>
                  <a:pt x="4440" y="12626"/>
                </a:cubicBezTo>
                <a:cubicBezTo>
                  <a:pt x="4424" y="12564"/>
                  <a:pt x="4357" y="12553"/>
                  <a:pt x="4316" y="12576"/>
                </a:cubicBezTo>
                <a:cubicBezTo>
                  <a:pt x="4248" y="12614"/>
                  <a:pt x="4185" y="12670"/>
                  <a:pt x="4167" y="12750"/>
                </a:cubicBezTo>
                <a:cubicBezTo>
                  <a:pt x="4153" y="12812"/>
                  <a:pt x="4132" y="12937"/>
                  <a:pt x="4142" y="12998"/>
                </a:cubicBezTo>
                <a:cubicBezTo>
                  <a:pt x="4154" y="13075"/>
                  <a:pt x="4209" y="13222"/>
                  <a:pt x="4291" y="13246"/>
                </a:cubicBezTo>
                <a:cubicBezTo>
                  <a:pt x="4361" y="13246"/>
                  <a:pt x="4396" y="13237"/>
                  <a:pt x="4440" y="13196"/>
                </a:cubicBezTo>
              </a:path>
              <a:path w="3473" h="2357">
                <a:moveTo>
                  <a:pt x="4887" y="12725"/>
                </a:moveTo>
                <a:cubicBezTo>
                  <a:pt x="4918" y="12645"/>
                  <a:pt x="4839" y="12612"/>
                  <a:pt x="4762" y="12675"/>
                </a:cubicBezTo>
                <a:cubicBezTo>
                  <a:pt x="4714" y="12715"/>
                  <a:pt x="4712" y="12796"/>
                  <a:pt x="4688" y="12849"/>
                </a:cubicBezTo>
                <a:cubicBezTo>
                  <a:pt x="4652" y="12928"/>
                  <a:pt x="4656" y="12989"/>
                  <a:pt x="4688" y="13072"/>
                </a:cubicBezTo>
                <a:cubicBezTo>
                  <a:pt x="4714" y="13141"/>
                  <a:pt x="4794" y="13220"/>
                  <a:pt x="4862" y="13246"/>
                </a:cubicBezTo>
                <a:cubicBezTo>
                  <a:pt x="4913" y="13266"/>
                  <a:pt x="4989" y="13234"/>
                  <a:pt x="5035" y="13221"/>
                </a:cubicBezTo>
              </a:path>
              <a:path w="3473" h="2357">
                <a:moveTo>
                  <a:pt x="5209" y="12824"/>
                </a:moveTo>
                <a:cubicBezTo>
                  <a:pt x="5300" y="12774"/>
                  <a:pt x="5330" y="12774"/>
                  <a:pt x="5432" y="12774"/>
                </a:cubicBezTo>
                <a:cubicBezTo>
                  <a:pt x="5449" y="12774"/>
                  <a:pt x="5465" y="12774"/>
                  <a:pt x="5482" y="12774"/>
                </a:cubicBezTo>
              </a:path>
              <a:path w="3473" h="2357">
                <a:moveTo>
                  <a:pt x="5259" y="12973"/>
                </a:moveTo>
                <a:cubicBezTo>
                  <a:pt x="5360" y="13065"/>
                  <a:pt x="5375" y="13072"/>
                  <a:pt x="5507" y="13072"/>
                </a:cubicBezTo>
                <a:cubicBezTo>
                  <a:pt x="5515" y="13072"/>
                  <a:pt x="5523" y="13072"/>
                  <a:pt x="5531" y="13072"/>
                </a:cubicBezTo>
              </a:path>
              <a:path w="3473" h="2357">
                <a:moveTo>
                  <a:pt x="6077" y="12055"/>
                </a:moveTo>
                <a:cubicBezTo>
                  <a:pt x="6162" y="11998"/>
                  <a:pt x="6222" y="12005"/>
                  <a:pt x="6325" y="12005"/>
                </a:cubicBezTo>
                <a:cubicBezTo>
                  <a:pt x="6399" y="12005"/>
                  <a:pt x="6474" y="12005"/>
                  <a:pt x="6548" y="12005"/>
                </a:cubicBezTo>
              </a:path>
              <a:path w="3473" h="2357">
                <a:moveTo>
                  <a:pt x="6276" y="11956"/>
                </a:moveTo>
                <a:cubicBezTo>
                  <a:pt x="6225" y="12014"/>
                  <a:pt x="6180" y="12053"/>
                  <a:pt x="6176" y="12129"/>
                </a:cubicBezTo>
                <a:cubicBezTo>
                  <a:pt x="6170" y="12239"/>
                  <a:pt x="6175" y="12217"/>
                  <a:pt x="6251" y="12254"/>
                </a:cubicBezTo>
                <a:cubicBezTo>
                  <a:pt x="6277" y="12266"/>
                  <a:pt x="6388" y="12336"/>
                  <a:pt x="6400" y="12353"/>
                </a:cubicBezTo>
                <a:cubicBezTo>
                  <a:pt x="6442" y="12412"/>
                  <a:pt x="6572" y="12600"/>
                  <a:pt x="6548" y="12700"/>
                </a:cubicBezTo>
                <a:cubicBezTo>
                  <a:pt x="6532" y="12766"/>
                  <a:pt x="6398" y="12750"/>
                  <a:pt x="6350" y="12750"/>
                </a:cubicBezTo>
                <a:cubicBezTo>
                  <a:pt x="6286" y="12750"/>
                  <a:pt x="6254" y="12738"/>
                  <a:pt x="6201" y="12725"/>
                </a:cubicBezTo>
              </a:path>
              <a:path w="3473" h="2357">
                <a:moveTo>
                  <a:pt x="6077" y="12774"/>
                </a:moveTo>
                <a:cubicBezTo>
                  <a:pt x="6190" y="12793"/>
                  <a:pt x="6286" y="12799"/>
                  <a:pt x="6400" y="12799"/>
                </a:cubicBezTo>
                <a:cubicBezTo>
                  <a:pt x="6532" y="12799"/>
                  <a:pt x="6664" y="12799"/>
                  <a:pt x="6796" y="12799"/>
                </a:cubicBezTo>
              </a:path>
              <a:path w="3473" h="2357">
                <a:moveTo>
                  <a:pt x="6350" y="13022"/>
                </a:moveTo>
                <a:cubicBezTo>
                  <a:pt x="6310" y="13084"/>
                  <a:pt x="6245" y="13163"/>
                  <a:pt x="6276" y="13246"/>
                </a:cubicBezTo>
                <a:cubicBezTo>
                  <a:pt x="6291" y="13288"/>
                  <a:pt x="6366" y="13327"/>
                  <a:pt x="6400" y="13345"/>
                </a:cubicBezTo>
                <a:cubicBezTo>
                  <a:pt x="6517" y="13408"/>
                  <a:pt x="6566" y="13404"/>
                  <a:pt x="6672" y="13345"/>
                </a:cubicBezTo>
              </a:path>
              <a:path w="3473" h="2357">
                <a:moveTo>
                  <a:pt x="6772" y="12948"/>
                </a:moveTo>
                <a:cubicBezTo>
                  <a:pt x="6706" y="13091"/>
                  <a:pt x="6660" y="13214"/>
                  <a:pt x="6648" y="13370"/>
                </a:cubicBezTo>
                <a:cubicBezTo>
                  <a:pt x="6636" y="13522"/>
                  <a:pt x="6668" y="13666"/>
                  <a:pt x="6672" y="13816"/>
                </a:cubicBezTo>
                <a:cubicBezTo>
                  <a:pt x="6675" y="13935"/>
                  <a:pt x="6697" y="14043"/>
                  <a:pt x="6697" y="14163"/>
                </a:cubicBezTo>
                <a:cubicBezTo>
                  <a:pt x="6697" y="14171"/>
                  <a:pt x="6697" y="14180"/>
                  <a:pt x="6697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Ink 13"/>
          <p:cNvSpPr/>
          <p:nvPr/>
        </p:nvSpPr>
        <p:spPr>
          <a:xfrm>
            <a:off x="2054160" y="3517920"/>
            <a:ext cx="268200" cy="260280"/>
          </a:xfrm>
          <a:custGeom>
            <a:avLst/>
            <a:gdLst/>
            <a:ahLst/>
            <a:rect l="l" t="t" r="r" b="b"/>
            <a:pathLst>
              <a:path w="745" h="720">
                <a:moveTo>
                  <a:pt x="6003" y="9773"/>
                </a:moveTo>
                <a:cubicBezTo>
                  <a:pt x="5886" y="9872"/>
                  <a:pt x="5896" y="9897"/>
                  <a:pt x="5829" y="10021"/>
                </a:cubicBezTo>
                <a:cubicBezTo>
                  <a:pt x="5784" y="10103"/>
                  <a:pt x="5700" y="10268"/>
                  <a:pt x="5705" y="10368"/>
                </a:cubicBezTo>
                <a:cubicBezTo>
                  <a:pt x="5709" y="10463"/>
                  <a:pt x="5807" y="10474"/>
                  <a:pt x="5854" y="10468"/>
                </a:cubicBezTo>
                <a:cubicBezTo>
                  <a:pt x="5959" y="10455"/>
                  <a:pt x="5993" y="10408"/>
                  <a:pt x="6052" y="10319"/>
                </a:cubicBezTo>
                <a:cubicBezTo>
                  <a:pt x="6103" y="10242"/>
                  <a:pt x="6159" y="10139"/>
                  <a:pt x="6176" y="10046"/>
                </a:cubicBezTo>
                <a:cubicBezTo>
                  <a:pt x="6195" y="9945"/>
                  <a:pt x="6167" y="9930"/>
                  <a:pt x="6102" y="9872"/>
                </a:cubicBezTo>
                <a:cubicBezTo>
                  <a:pt x="6039" y="9815"/>
                  <a:pt x="5962" y="9816"/>
                  <a:pt x="5879" y="9798"/>
                </a:cubicBezTo>
              </a:path>
              <a:path w="745" h="720">
                <a:moveTo>
                  <a:pt x="5730" y="10071"/>
                </a:moveTo>
                <a:cubicBezTo>
                  <a:pt x="5842" y="10093"/>
                  <a:pt x="5938" y="10096"/>
                  <a:pt x="6052" y="10096"/>
                </a:cubicBezTo>
                <a:cubicBezTo>
                  <a:pt x="6222" y="10096"/>
                  <a:pt x="6304" y="10037"/>
                  <a:pt x="6449" y="99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Ink 14"/>
          <p:cNvSpPr/>
          <p:nvPr/>
        </p:nvSpPr>
        <p:spPr>
          <a:xfrm>
            <a:off x="1724040" y="2438280"/>
            <a:ext cx="1982880" cy="1366920"/>
          </a:xfrm>
          <a:custGeom>
            <a:avLst/>
            <a:gdLst/>
            <a:ahLst/>
            <a:rect l="l" t="t" r="r" b="b"/>
            <a:pathLst>
              <a:path w="5508" h="3796">
                <a:moveTo>
                  <a:pt x="4837" y="10492"/>
                </a:moveTo>
                <a:cubicBezTo>
                  <a:pt x="4873" y="10469"/>
                  <a:pt x="4917" y="10450"/>
                  <a:pt x="4961" y="10418"/>
                </a:cubicBezTo>
                <a:cubicBezTo>
                  <a:pt x="5020" y="10376"/>
                  <a:pt x="5065" y="10320"/>
                  <a:pt x="5110" y="10269"/>
                </a:cubicBezTo>
                <a:cubicBezTo>
                  <a:pt x="5195" y="10174"/>
                  <a:pt x="5269" y="10065"/>
                  <a:pt x="5358" y="9971"/>
                </a:cubicBezTo>
                <a:cubicBezTo>
                  <a:pt x="5478" y="9844"/>
                  <a:pt x="5603" y="9696"/>
                  <a:pt x="5730" y="9575"/>
                </a:cubicBezTo>
                <a:cubicBezTo>
                  <a:pt x="5954" y="9361"/>
                  <a:pt x="6187" y="9154"/>
                  <a:pt x="6424" y="8954"/>
                </a:cubicBezTo>
                <a:cubicBezTo>
                  <a:pt x="6754" y="8676"/>
                  <a:pt x="7119" y="8461"/>
                  <a:pt x="7466" y="8210"/>
                </a:cubicBezTo>
                <a:cubicBezTo>
                  <a:pt x="7695" y="8045"/>
                  <a:pt x="7916" y="7883"/>
                  <a:pt x="8161" y="7739"/>
                </a:cubicBezTo>
                <a:cubicBezTo>
                  <a:pt x="8412" y="7592"/>
                  <a:pt x="8656" y="7438"/>
                  <a:pt x="8905" y="7293"/>
                </a:cubicBezTo>
                <a:cubicBezTo>
                  <a:pt x="9046" y="7211"/>
                  <a:pt x="9170" y="7110"/>
                  <a:pt x="9302" y="7020"/>
                </a:cubicBezTo>
                <a:cubicBezTo>
                  <a:pt x="9395" y="6957"/>
                  <a:pt x="9446" y="6888"/>
                  <a:pt x="9525" y="6821"/>
                </a:cubicBezTo>
                <a:cubicBezTo>
                  <a:pt x="9555" y="6791"/>
                  <a:pt x="9569" y="6780"/>
                  <a:pt x="9599" y="6772"/>
                </a:cubicBezTo>
                <a:cubicBezTo>
                  <a:pt x="9610" y="6848"/>
                  <a:pt x="9612" y="6919"/>
                  <a:pt x="9624" y="6995"/>
                </a:cubicBezTo>
                <a:cubicBezTo>
                  <a:pt x="9641" y="7102"/>
                  <a:pt x="9659" y="7209"/>
                  <a:pt x="9674" y="7317"/>
                </a:cubicBezTo>
                <a:cubicBezTo>
                  <a:pt x="9694" y="7466"/>
                  <a:pt x="9691" y="7615"/>
                  <a:pt x="9723" y="7764"/>
                </a:cubicBezTo>
                <a:cubicBezTo>
                  <a:pt x="9770" y="7983"/>
                  <a:pt x="9852" y="8216"/>
                  <a:pt x="9922" y="8434"/>
                </a:cubicBezTo>
                <a:cubicBezTo>
                  <a:pt x="9981" y="8616"/>
                  <a:pt x="10021" y="8796"/>
                  <a:pt x="10071" y="8979"/>
                </a:cubicBezTo>
                <a:cubicBezTo>
                  <a:pt x="10117" y="9147"/>
                  <a:pt x="10177" y="9306"/>
                  <a:pt x="10220" y="9475"/>
                </a:cubicBezTo>
                <a:cubicBezTo>
                  <a:pt x="10263" y="9643"/>
                  <a:pt x="10303" y="9797"/>
                  <a:pt x="10294" y="9971"/>
                </a:cubicBezTo>
                <a:cubicBezTo>
                  <a:pt x="10291" y="10034"/>
                  <a:pt x="10276" y="10115"/>
                  <a:pt x="10244" y="10170"/>
                </a:cubicBezTo>
                <a:cubicBezTo>
                  <a:pt x="10211" y="10227"/>
                  <a:pt x="10170" y="10253"/>
                  <a:pt x="10120" y="10294"/>
                </a:cubicBezTo>
                <a:cubicBezTo>
                  <a:pt x="10063" y="10341"/>
                  <a:pt x="9992" y="10369"/>
                  <a:pt x="9922" y="10393"/>
                </a:cubicBezTo>
                <a:cubicBezTo>
                  <a:pt x="9806" y="10433"/>
                  <a:pt x="9648" y="10460"/>
                  <a:pt x="9525" y="10468"/>
                </a:cubicBezTo>
                <a:cubicBezTo>
                  <a:pt x="9326" y="10481"/>
                  <a:pt x="9129" y="10476"/>
                  <a:pt x="8930" y="10492"/>
                </a:cubicBezTo>
                <a:cubicBezTo>
                  <a:pt x="8714" y="10509"/>
                  <a:pt x="8502" y="10538"/>
                  <a:pt x="8285" y="10542"/>
                </a:cubicBezTo>
                <a:cubicBezTo>
                  <a:pt x="8044" y="10546"/>
                  <a:pt x="7807" y="10567"/>
                  <a:pt x="7565" y="10567"/>
                </a:cubicBezTo>
                <a:cubicBezTo>
                  <a:pt x="6650" y="10567"/>
                  <a:pt x="5681" y="10632"/>
                  <a:pt x="4787" y="105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On a triangle, the capital letters   (A, B, C) are the angles and the lowercase (a, b, c) are the sides opposite those respective angl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olve a right triangle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(C is the right angle):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B = 56</a:t>
            </a:r>
            <a:r>
              <a:rPr b="1" lang="en-US" sz="4000" spc="-1" strike="noStrike">
                <a:solidFill>
                  <a:srgbClr val="feec94"/>
                </a:solidFill>
                <a:latin typeface="Symbol"/>
                <a:ea typeface="Symbol"/>
              </a:rPr>
              <a:t>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and c = 15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5:06:53Z</dcterms:created>
  <dc:creator>jnewman</dc:creator>
  <dc:description/>
  <dc:language>en-US</dc:language>
  <cp:lastModifiedBy>abeason</cp:lastModifiedBy>
  <dcterms:modified xsi:type="dcterms:W3CDTF">2009-11-02T14:23:19Z</dcterms:modified>
  <cp:revision>10</cp:revision>
  <dc:subject/>
  <dc:title>Lesson 4.8 part one</dc:title>
</cp:coreProperties>
</file>